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3.jpeg" ContentType="image/jpeg"/>
  <Override PartName="/ppt/media/image4.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25.jpeg" ContentType="image/jpeg"/>
  <Override PartName="/ppt/media/image2.png" ContentType="image/png"/>
  <Override PartName="/ppt/media/image3.png" ContentType="image/png"/>
  <Override PartName="/ppt/media/image26.png" ContentType="image/png"/>
  <Override PartName="/ppt/media/image17.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Lst>
  <p:sldSz cx="9144000" cy="6858000"/>
  <p:notesSz cx="6948488" cy="10007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A4766-450C-435F-80DB-F2077A1C3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3"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4"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B040D-7F53-43FA-80D8-7176B9AA3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471367-49E8-4DFC-9822-9A6916F1DD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BC75A2-B23B-4410-901B-D5A50545B0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A888DB-4AFB-47F4-B53E-5C7F11727C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7854C8-B8C0-4377-BED6-DD4BD203C0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9"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6FC74C-1C13-4C84-868E-606B1B7F70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3"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3C8C61-F977-4892-AC5B-31632A65C7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5"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6"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ADDFB5-BF50-4097-B355-94BE64CAE3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1"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F2AB22-AE64-48E9-9006-AFE1963295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83"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4"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5"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6"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7"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8"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9B5FA8-BCB6-4204-B023-9AD03DA062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D5F86B-8148-4C46-BA83-57E01F073B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9"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362B4-2C1B-4A32-9298-3726A19DD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44FD57-3ADA-4F20-BC63-6828BE4AEE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A85B4D-A5B1-482C-99E8-FA4172B58F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61365D-73E1-47DB-822C-54D478C8BF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B648DD-9874-4646-B877-F247BB88E5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CD0D6D-DBF7-42AB-81AD-83066AD1A3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BE3A71-3970-477A-A457-B695DCF24C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6EAB77-525A-4304-844C-F016A4AD9B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4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4DC9AE-8861-47D5-9768-3B0683924E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4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D157CE-0BDB-45AA-9C9F-0DC82E6715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4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E0021D-9191-465F-B714-84949EF4B8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6"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0E691-4B29-4EFD-B602-327F65F7A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5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D3E346-99CD-4185-9698-AA92EDFE96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7F3F49-80D7-4010-B14B-AAB80F2E21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09D499-0649-4532-A458-F2AE85C2D9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9AC334-396B-410D-846C-F29D939EEE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D74255-D7F7-419F-B9A4-3E9ACA040A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3B40F9-4D59-4C08-81D8-C0062ACC4B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12BA52-BD43-423A-BCC6-28A3DEC959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57DA59-FB52-42C6-828E-051B4F4DFB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A57B8F-EE07-4B9B-9B25-B244F85B51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1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9D08A3-A9B3-4E31-B113-046A201687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1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BAC913-82C9-4967-BFEA-7AA3F06194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1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2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0386E6-054F-42EE-9420-651CFD6BE8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2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2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2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2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2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2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C59168-8CA0-4C6A-965B-904FCF3CB3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803B8D-D47B-486D-95EA-AEDF1B2724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FADB00-5BED-4B98-87D3-705DC873C2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C24E83-6C92-40DC-97BA-EF1F45F84F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17B786-C64B-4CBC-AC50-FA4A70D321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655EE4-FEE9-4599-9E6A-6D05EB4A68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43D779-4C4A-4453-9A09-7D4F824C35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303AB5-EAFE-4174-B252-6BFEF6D098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4"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E91C49-8956-45FF-834B-99378A200E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8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78E888-218D-4AB7-AE1C-7F22EC6FB8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8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05224F-5F74-424A-94F4-03FED36E24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8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9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1A39E1-2C85-4D87-B0C7-A1985C4839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9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9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9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9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9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9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471A53-3910-4204-A1B4-BA827DDC56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21050C2-6756-47DD-8C7D-6736CBBDF7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1BA911-4D27-445D-8FF8-E3BC393285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E3BFAC-7356-4486-ADE8-98A1FDFA09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65D537-C675-45FC-950B-CC49FD064C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C4131A-1949-40A9-B4AE-860B539B4B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6"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5FD2A4-7501-4652-83AC-683BADA093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102815-2887-4734-88B1-8CACC02547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7DEEAD-A5FA-4C25-95E6-FFB588BBA7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68AE1E-A09B-47BD-A43C-4E20B42AFD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5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B61F6D-0B13-4CE8-A9B2-C7CF07993F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380D9E6-8856-4E09-9289-1370FF88E52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6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6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6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6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6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6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8015E26-9FAC-4FE2-B66A-9A04BEAA48C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91395B9-483F-4EEE-BD38-C3BC865FA1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9"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C903C1-1DFB-4542-9A46-A14B89E32F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1"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79CC8D-7B74-43DC-B71D-D3EABC3DE1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726410-773E-4A54-9AF8-779FCCC03D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BA15C2-481F-4351-82F8-7514FF8251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B0DA9C-AF00-4D5E-A03A-A12E07BDED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621CD1-80D9-4534-B8C2-343173A6EF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2"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4"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352003-C3FD-4E60-A82F-ECE57648F1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8"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F2CD41-C330-42D6-B4D6-BE3B9D567C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20"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1"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2FF398-4D4F-4780-83B6-D281018C32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2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6"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4B44CDF-A6A3-4F5B-B0E1-59E2D82908A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28"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9"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30"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31"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32"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33"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BAEFE47-86A7-4EA4-9359-9EC7ED6EFE6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2"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189FF-EBB1-4059-B054-41403D02B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9"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3"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5"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6"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1"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23"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4"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5"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6"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7"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8"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BDA8A1-1221-42CD-BE70-45CB39853A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676ED-154A-44BE-9D1B-23284BE33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C71EA-675C-4861-8048-E4F997DD8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6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D85E8-9790-4F38-90FE-F713E0A12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89BA5-C503-49D5-A62E-E93EA6A08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88626-886C-4BF6-AC14-68B1FCED3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C299B-E7EC-4E8C-AA4F-DED28BD4F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C4513-8D91-4E88-9CB1-E5B825D06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61C39-E8E9-4DA9-BC06-3931EB202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7E830-7359-45E4-AC36-1E9DD7510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6AA67-DA3C-479C-A705-7ACF91C7F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036154-F960-491D-830F-01E762FD2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9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81FEDE-6DAC-4F69-8AC7-938A50E5B2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4"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6"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C4972-D968-4B09-97B1-5703B16A9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2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9"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3"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5"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6"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1"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53"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4"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5"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6"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7"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8"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25776-DBB4-4D2F-B491-9266B5D6F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2"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4"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7"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1"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3"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4"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9"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03C67-EC7C-4A23-BD48-B6E922BDB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11"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2"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3"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4"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5"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6"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1323FE-2A39-40AD-9C64-6156D0266C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66579B-D0DA-4DFF-A77E-27E9C80DB5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8CEF0B-D88C-4BD0-A651-28467611FE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88DF38-0FDF-4FB0-BF65-9AD5C635E8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CA74AB-2867-4DC0-83A3-E0273F2617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C6748D-C937-419F-8EE9-7F63E28B7E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85E932-E98A-4175-9168-8FD6D0AB72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33EDA1-2A32-469C-8504-6100EDCC82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732495-FB02-40AD-AB40-842346B55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9EFDF-2BFC-43FA-8AC2-9758D054F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035BDF-6302-4D91-A60A-02E7B7A0EC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C6828B-2D28-4C33-A0DC-9061112CF9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8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8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8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8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8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B6E7F5-B346-4C27-8335-7F27553D5E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3A0820-5D0B-46F8-8FB1-9D909A5BF8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8"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E60741-6E0F-48F7-9932-F2ED5D90DC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0"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82C2AC-708C-4358-88BF-76A21FCB38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2"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12BB27-B72F-40C5-A564-C679CFEE5D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2C6EC2-EDED-44C9-9656-93262D385E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C14DE5-BAA9-4C4D-AF74-4784E6B5D2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78E36E-8DF0-4C68-BCC8-3515AF4ED1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7"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C6695-CEA4-4E4F-AF54-6AF2912FF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3"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981F30-07D4-4768-B945-10FC670B49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7"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AA34B-E370-481A-BC94-C22FD0BB45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9"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0"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46045D-6BFD-49DF-91CF-670BD6F875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5"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F092A4-48F9-4DC8-BEAD-7EA86FEAC1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7"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8"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9"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50"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51"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52"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DEBFB3-3DC9-4D58-99E1-2ACE1D0BCB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30407A-7575-4BD0-8D81-ED32C15FA8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6"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74AEE3-14EE-4366-9B20-23DE0099D6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8"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9F87A1-D784-423F-B7B7-927DBA1DD8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E3120B-654C-4C9D-9358-5153D944A6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F2D480-0A27-43B2-92F9-1BDF084BDE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38B69-D8CC-47A8-81EC-8653A177C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16120B-932B-42D1-94CE-F95C4EDD9C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43D7CF-E851-4B3A-8F99-981A4ED874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1"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0631A0-EE73-4815-B084-78D4916894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5"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298872-6A2D-4C12-B9E4-4CCE9089AF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7"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8"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820B35-77C0-48DE-A6F7-D07C0CA296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1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3"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36B92C-DBAB-414D-B807-27556CF480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15"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6"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7"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8"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9"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20"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4CED78-754C-4241-8E02-E809BA4E1F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53A435-4340-49F4-9CD6-34DEC5070C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4"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171D37-D28E-4214-A347-2F3CFC8827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6"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089569-25BB-40F1-87D1-817FD9597FB9}"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TextSlideOverlay.png"/>
          <p:cNvPicPr/>
          <p:nvPr/>
        </p:nvPicPr>
        <p:blipFill>
          <a:blip r:embed="rId3"/>
          <a:stretch/>
        </p:blipFill>
        <p:spPr>
          <a:xfrm>
            <a:off x="0" y="0"/>
            <a:ext cx="9144000" cy="6858000"/>
          </a:xfrm>
          <a:prstGeom prst="rect">
            <a:avLst/>
          </a:prstGeom>
          <a:ln w="0">
            <a:noFill/>
          </a:ln>
        </p:spPr>
      </p:pic>
      <p:grpSp>
        <p:nvGrpSpPr>
          <p:cNvPr id="1" name="Group 7"/>
          <p:cNvGrpSpPr/>
          <p:nvPr/>
        </p:nvGrpSpPr>
        <p:grpSpPr>
          <a:xfrm>
            <a:off x="-573120" y="-649800"/>
            <a:ext cx="7695360" cy="2026080"/>
            <a:chOff x="-573120" y="-649800"/>
            <a:chExt cx="7695360" cy="2026080"/>
          </a:xfrm>
        </p:grpSpPr>
        <p:grpSp>
          <p:nvGrpSpPr>
            <p:cNvPr id="2" name="Group 32"/>
            <p:cNvGrpSpPr/>
            <p:nvPr/>
          </p:nvGrpSpPr>
          <p:grpSpPr>
            <a:xfrm>
              <a:off x="-263160" y="-649800"/>
              <a:ext cx="7385400" cy="2026080"/>
              <a:chOff x="-263160" y="-649800"/>
              <a:chExt cx="7385400" cy="2026080"/>
            </a:xfrm>
          </p:grpSpPr>
          <p:sp>
            <p:nvSpPr>
              <p:cNvPr id="3"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9"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0"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1"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2"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5"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6"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7"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8"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9"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0"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2"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23"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26" name="PlaceHolder 3"/>
          <p:cNvSpPr>
            <a:spLocks noGrp="1"/>
          </p:cNvSpPr>
          <p:nvPr>
            <p:ph type="dt" idx="1"/>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3F39-B0BE-427A-8760-C6A990E863D0}" type="datetime3">
              <a:rPr b="0" lang="en-US" sz="1000" spc="-1" strike="noStrike">
                <a:solidFill>
                  <a:srgbClr val="ffffff"/>
                </a:solidFill>
                <a:latin typeface="Times New Roman"/>
              </a:rPr>
              <a:t>July 30, 2026</a:t>
            </a:fld>
            <a:endParaRPr b="0" lang="en-US" sz="1000" spc="-1" strike="noStrike">
              <a:solidFill>
                <a:srgbClr val="000000"/>
              </a:solidFill>
              <a:latin typeface="Times New Roman"/>
            </a:endParaRPr>
          </a:p>
        </p:txBody>
      </p:sp>
      <p:sp>
        <p:nvSpPr>
          <p:cNvPr id="27" name="PlaceHolder 4"/>
          <p:cNvSpPr>
            <a:spLocks noGrp="1"/>
          </p:cNvSpPr>
          <p:nvPr>
            <p:ph type="ftr" idx="2"/>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8" name="PlaceHolder 5"/>
          <p:cNvSpPr>
            <a:spLocks noGrp="1"/>
          </p:cNvSpPr>
          <p:nvPr>
            <p:ph type="sldNum" idx="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A331-544D-4D05-8EB0-652A50406F4A}"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0"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89" name="Picture 6" descr="TextSlideOverlay.png"/>
          <p:cNvPicPr/>
          <p:nvPr/>
        </p:nvPicPr>
        <p:blipFill>
          <a:blip r:embed="rId3"/>
          <a:stretch/>
        </p:blipFill>
        <p:spPr>
          <a:xfrm>
            <a:off x="0" y="0"/>
            <a:ext cx="9144000" cy="6858000"/>
          </a:xfrm>
          <a:prstGeom prst="rect">
            <a:avLst/>
          </a:prstGeom>
          <a:ln w="0">
            <a:noFill/>
          </a:ln>
        </p:spPr>
      </p:pic>
      <p:grpSp>
        <p:nvGrpSpPr>
          <p:cNvPr id="590" name="Group 7"/>
          <p:cNvGrpSpPr/>
          <p:nvPr/>
        </p:nvGrpSpPr>
        <p:grpSpPr>
          <a:xfrm>
            <a:off x="-573120" y="-649800"/>
            <a:ext cx="7695360" cy="2026080"/>
            <a:chOff x="-573120" y="-649800"/>
            <a:chExt cx="7695360" cy="2026080"/>
          </a:xfrm>
        </p:grpSpPr>
        <p:grpSp>
          <p:nvGrpSpPr>
            <p:cNvPr id="591" name="Group 32"/>
            <p:cNvGrpSpPr/>
            <p:nvPr/>
          </p:nvGrpSpPr>
          <p:grpSpPr>
            <a:xfrm>
              <a:off x="-263160" y="-649800"/>
              <a:ext cx="7385400" cy="2026080"/>
              <a:chOff x="-263160" y="-649800"/>
              <a:chExt cx="7385400" cy="2026080"/>
            </a:xfrm>
          </p:grpSpPr>
          <p:sp>
            <p:nvSpPr>
              <p:cNvPr id="592"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93"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94"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95"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96"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97"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98"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99"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00"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01"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02"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03"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04"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05"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06"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07"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08"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09"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10"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11"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612"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613"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14"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15" name="Rectangle 32"/>
          <p:cNvSpPr/>
          <p:nvPr/>
        </p:nvSpPr>
        <p:spPr>
          <a:xfrm>
            <a:off x="9360" y="2476440"/>
            <a:ext cx="9125280" cy="4368960"/>
          </a:xfrm>
          <a:prstGeom prst="rect">
            <a:avLst/>
          </a:prstGeom>
          <a:solidFill>
            <a:srgbClr val="0c5986">
              <a:alpha val="4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16" name="Straight Connector 33"/>
          <p:cNvSpPr/>
          <p:nvPr/>
        </p:nvSpPr>
        <p:spPr>
          <a:xfrm>
            <a:off x="9360" y="2476440"/>
            <a:ext cx="9125280" cy="1800"/>
          </a:xfrm>
          <a:prstGeom prst="line">
            <a:avLst/>
          </a:prstGeom>
          <a:ln w="25560">
            <a:solidFill>
              <a:srgbClr val="ddf53d">
                <a:alpha val="40000"/>
              </a:srgbClr>
            </a:solidFill>
            <a:miter/>
          </a:ln>
        </p:spPr>
        <p:style>
          <a:lnRef idx="0"/>
          <a:fillRef idx="0"/>
          <a:effectRef idx="0"/>
          <a:fontRef idx="minor"/>
        </p:style>
        <p:txBody>
          <a:bodyPr lIns="90000" rIns="90000" tIns="-45000" bIns="-450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1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1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19" name="PlaceHolder 3"/>
          <p:cNvSpPr>
            <a:spLocks noGrp="1"/>
          </p:cNvSpPr>
          <p:nvPr>
            <p:ph type="dt" idx="19"/>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FD0B3-334F-4B85-8004-AD28E6516574}" type="datetime3">
              <a:rPr b="0" lang="en-US" sz="1000" spc="-1" strike="noStrike">
                <a:solidFill>
                  <a:srgbClr val="ffffff"/>
                </a:solidFill>
                <a:latin typeface="Times New Roman"/>
              </a:rPr>
              <a:t>July 30, 2026</a:t>
            </a:fld>
            <a:endParaRPr b="0" lang="en-US" sz="1000" spc="-1" strike="noStrike">
              <a:solidFill>
                <a:srgbClr val="000000"/>
              </a:solidFill>
              <a:latin typeface="Times New Roman"/>
            </a:endParaRPr>
          </a:p>
        </p:txBody>
      </p:sp>
      <p:sp>
        <p:nvSpPr>
          <p:cNvPr id="620" name="PlaceHolder 4"/>
          <p:cNvSpPr>
            <a:spLocks noGrp="1"/>
          </p:cNvSpPr>
          <p:nvPr>
            <p:ph type="ftr" idx="20"/>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21" name="PlaceHolder 5"/>
          <p:cNvSpPr>
            <a:spLocks noGrp="1"/>
          </p:cNvSpPr>
          <p:nvPr>
            <p:ph type="sldNum" idx="21"/>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0C390-925C-4FED-8C94-4A09E1791186}"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58" name="Picture 6" descr="TextSlideOverlay.png"/>
          <p:cNvPicPr/>
          <p:nvPr/>
        </p:nvPicPr>
        <p:blipFill>
          <a:blip r:embed="rId3"/>
          <a:stretch/>
        </p:blipFill>
        <p:spPr>
          <a:xfrm>
            <a:off x="0" y="0"/>
            <a:ext cx="9144000" cy="6858000"/>
          </a:xfrm>
          <a:prstGeom prst="rect">
            <a:avLst/>
          </a:prstGeom>
          <a:ln w="0">
            <a:noFill/>
          </a:ln>
        </p:spPr>
      </p:pic>
      <p:grpSp>
        <p:nvGrpSpPr>
          <p:cNvPr id="659" name="Group 7"/>
          <p:cNvGrpSpPr/>
          <p:nvPr/>
        </p:nvGrpSpPr>
        <p:grpSpPr>
          <a:xfrm>
            <a:off x="-573120" y="-649800"/>
            <a:ext cx="7695360" cy="2026080"/>
            <a:chOff x="-573120" y="-649800"/>
            <a:chExt cx="7695360" cy="2026080"/>
          </a:xfrm>
        </p:grpSpPr>
        <p:grpSp>
          <p:nvGrpSpPr>
            <p:cNvPr id="660" name="Group 32"/>
            <p:cNvGrpSpPr/>
            <p:nvPr/>
          </p:nvGrpSpPr>
          <p:grpSpPr>
            <a:xfrm>
              <a:off x="-263160" y="-649800"/>
              <a:ext cx="7385400" cy="2026080"/>
              <a:chOff x="-263160" y="-649800"/>
              <a:chExt cx="7385400" cy="2026080"/>
            </a:xfrm>
          </p:grpSpPr>
          <p:sp>
            <p:nvSpPr>
              <p:cNvPr id="661"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62"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63"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64"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65"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66"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67"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68"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69"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70"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71"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72"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73"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74"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75"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76"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77"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78"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79"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80"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681"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68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83"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nvGrpSpPr>
          <p:cNvPr id="684" name="Group 32"/>
          <p:cNvGrpSpPr/>
          <p:nvPr/>
        </p:nvGrpSpPr>
        <p:grpSpPr>
          <a:xfrm>
            <a:off x="9360" y="3809880"/>
            <a:ext cx="9125280" cy="3035520"/>
            <a:chOff x="9360" y="3809880"/>
            <a:chExt cx="9125280" cy="3035520"/>
          </a:xfrm>
        </p:grpSpPr>
        <p:sp>
          <p:nvSpPr>
            <p:cNvPr id="685" name="Rectangle 33"/>
            <p:cNvSpPr/>
            <p:nvPr/>
          </p:nvSpPr>
          <p:spPr>
            <a:xfrm>
              <a:off x="9360" y="3809880"/>
              <a:ext cx="9125280" cy="3035520"/>
            </a:xfrm>
            <a:prstGeom prst="rect">
              <a:avLst/>
            </a:prstGeom>
            <a:solidFill>
              <a:srgbClr val="0c5986">
                <a:alpha val="4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86" name="Straight Connector 34"/>
            <p:cNvSpPr/>
            <p:nvPr/>
          </p:nvSpPr>
          <p:spPr>
            <a:xfrm>
              <a:off x="9360" y="3809880"/>
              <a:ext cx="9125280" cy="1440"/>
            </a:xfrm>
            <a:prstGeom prst="line">
              <a:avLst/>
            </a:prstGeom>
            <a:ln w="25560">
              <a:solidFill>
                <a:srgbClr val="ddf53d">
                  <a:alpha val="40000"/>
                </a:srgbClr>
              </a:solidFill>
              <a:miter/>
            </a:ln>
          </p:spPr>
          <p:style>
            <a:lnRef idx="0"/>
            <a:fillRef idx="0"/>
            <a:effectRef idx="0"/>
            <a:fontRef idx="minor"/>
          </p:style>
          <p:txBody>
            <a:bodyPr lIns="90000" rIns="90000" tIns="-45360" bIns="-4536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6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8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89" name="PlaceHolder 3"/>
          <p:cNvSpPr>
            <a:spLocks noGrp="1"/>
          </p:cNvSpPr>
          <p:nvPr>
            <p:ph type="dt" idx="22"/>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24AD-E549-48A6-A0B4-66492DBCD773}" type="datetime3">
              <a:rPr b="0" lang="en-US" sz="1000" spc="-1" strike="noStrike">
                <a:solidFill>
                  <a:srgbClr val="ffffff"/>
                </a:solidFill>
                <a:latin typeface="Times New Roman"/>
              </a:rPr>
              <a:t>July 30, 2026</a:t>
            </a:fld>
            <a:endParaRPr b="0" lang="en-US" sz="1000" spc="-1" strike="noStrike">
              <a:solidFill>
                <a:srgbClr val="000000"/>
              </a:solidFill>
              <a:latin typeface="Times New Roman"/>
            </a:endParaRPr>
          </a:p>
        </p:txBody>
      </p:sp>
      <p:sp>
        <p:nvSpPr>
          <p:cNvPr id="690" name="PlaceHolder 4"/>
          <p:cNvSpPr>
            <a:spLocks noGrp="1"/>
          </p:cNvSpPr>
          <p:nvPr>
            <p:ph type="ftr" idx="23"/>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91" name="PlaceHolder 5"/>
          <p:cNvSpPr>
            <a:spLocks noGrp="1"/>
          </p:cNvSpPr>
          <p:nvPr>
            <p:ph type="sldNum" idx="24"/>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17CF3-D0DD-4200-A0F9-9D19940D94C1}"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28" name="Picture 6" descr="TextSlideOverlay.png"/>
          <p:cNvPicPr/>
          <p:nvPr/>
        </p:nvPicPr>
        <p:blipFill>
          <a:blip r:embed="rId3"/>
          <a:stretch/>
        </p:blipFill>
        <p:spPr>
          <a:xfrm>
            <a:off x="0" y="0"/>
            <a:ext cx="9144000" cy="6858000"/>
          </a:xfrm>
          <a:prstGeom prst="rect">
            <a:avLst/>
          </a:prstGeom>
          <a:ln w="0">
            <a:noFill/>
          </a:ln>
        </p:spPr>
      </p:pic>
      <p:grpSp>
        <p:nvGrpSpPr>
          <p:cNvPr id="729" name="Group 7"/>
          <p:cNvGrpSpPr/>
          <p:nvPr/>
        </p:nvGrpSpPr>
        <p:grpSpPr>
          <a:xfrm>
            <a:off x="-573120" y="-649800"/>
            <a:ext cx="7695360" cy="2026080"/>
            <a:chOff x="-573120" y="-649800"/>
            <a:chExt cx="7695360" cy="2026080"/>
          </a:xfrm>
        </p:grpSpPr>
        <p:grpSp>
          <p:nvGrpSpPr>
            <p:cNvPr id="730" name="Group 32"/>
            <p:cNvGrpSpPr/>
            <p:nvPr/>
          </p:nvGrpSpPr>
          <p:grpSpPr>
            <a:xfrm>
              <a:off x="-263160" y="-649800"/>
              <a:ext cx="7385400" cy="2026080"/>
              <a:chOff x="-263160" y="-649800"/>
              <a:chExt cx="7385400" cy="2026080"/>
            </a:xfrm>
          </p:grpSpPr>
          <p:sp>
            <p:nvSpPr>
              <p:cNvPr id="731"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32"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33"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34"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35"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36"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37"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38"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39"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0"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1"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2"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3"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4"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5"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6"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7"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8"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9"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50"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751"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75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53"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nvGrpSpPr>
          <p:cNvPr id="754" name="Group 32"/>
          <p:cNvGrpSpPr/>
          <p:nvPr/>
        </p:nvGrpSpPr>
        <p:grpSpPr>
          <a:xfrm>
            <a:off x="9360" y="3809880"/>
            <a:ext cx="9125280" cy="3035520"/>
            <a:chOff x="9360" y="3809880"/>
            <a:chExt cx="9125280" cy="3035520"/>
          </a:xfrm>
        </p:grpSpPr>
        <p:sp>
          <p:nvSpPr>
            <p:cNvPr id="755" name="Rectangle 33"/>
            <p:cNvSpPr/>
            <p:nvPr/>
          </p:nvSpPr>
          <p:spPr>
            <a:xfrm>
              <a:off x="9360" y="3809880"/>
              <a:ext cx="9125280" cy="3035520"/>
            </a:xfrm>
            <a:prstGeom prst="rect">
              <a:avLst/>
            </a:prstGeom>
            <a:solidFill>
              <a:srgbClr val="0c5986">
                <a:alpha val="4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56" name="Straight Connector 34"/>
            <p:cNvSpPr/>
            <p:nvPr/>
          </p:nvSpPr>
          <p:spPr>
            <a:xfrm>
              <a:off x="9360" y="3809880"/>
              <a:ext cx="9125280" cy="1440"/>
            </a:xfrm>
            <a:prstGeom prst="line">
              <a:avLst/>
            </a:prstGeom>
            <a:ln w="25560">
              <a:solidFill>
                <a:srgbClr val="ddf53d">
                  <a:alpha val="40000"/>
                </a:srgbClr>
              </a:solidFill>
              <a:miter/>
            </a:ln>
          </p:spPr>
          <p:style>
            <a:lnRef idx="0"/>
            <a:fillRef idx="0"/>
            <a:effectRef idx="0"/>
            <a:fontRef idx="minor"/>
          </p:style>
          <p:txBody>
            <a:bodyPr lIns="90000" rIns="90000" tIns="-45360" bIns="-4536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75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75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759" name="PlaceHolder 3"/>
          <p:cNvSpPr>
            <a:spLocks noGrp="1"/>
          </p:cNvSpPr>
          <p:nvPr>
            <p:ph type="dt" idx="25"/>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265F-772F-448A-AC0B-F9098794AB4D}" type="datetime3">
              <a:rPr b="0" lang="en-US" sz="1000" spc="-1" strike="noStrike">
                <a:solidFill>
                  <a:srgbClr val="ffffff"/>
                </a:solidFill>
                <a:latin typeface="Times New Roman"/>
              </a:rPr>
              <a:t>July 30, 2026</a:t>
            </a:fld>
            <a:endParaRPr b="0" lang="en-US" sz="1000" spc="-1" strike="noStrike">
              <a:solidFill>
                <a:srgbClr val="000000"/>
              </a:solidFill>
              <a:latin typeface="Times New Roman"/>
            </a:endParaRPr>
          </a:p>
        </p:txBody>
      </p:sp>
      <p:sp>
        <p:nvSpPr>
          <p:cNvPr id="760" name="PlaceHolder 4"/>
          <p:cNvSpPr>
            <a:spLocks noGrp="1"/>
          </p:cNvSpPr>
          <p:nvPr>
            <p:ph type="ftr" idx="26"/>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61" name="PlaceHolder 5"/>
          <p:cNvSpPr>
            <a:spLocks noGrp="1"/>
          </p:cNvSpPr>
          <p:nvPr>
            <p:ph type="sldNum" idx="27"/>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66CC-2B47-48EE-B221-AF8F9B70651A}"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8" name="Picture 6" descr="TextSlideOverlay.png"/>
          <p:cNvPicPr/>
          <p:nvPr/>
        </p:nvPicPr>
        <p:blipFill>
          <a:blip r:embed="rId3"/>
          <a:stretch/>
        </p:blipFill>
        <p:spPr>
          <a:xfrm>
            <a:off x="0" y="0"/>
            <a:ext cx="9144000" cy="6858000"/>
          </a:xfrm>
          <a:prstGeom prst="rect">
            <a:avLst/>
          </a:prstGeom>
          <a:ln w="0">
            <a:noFill/>
          </a:ln>
        </p:spPr>
      </p:pic>
      <p:grpSp>
        <p:nvGrpSpPr>
          <p:cNvPr id="799" name="Group 7"/>
          <p:cNvGrpSpPr/>
          <p:nvPr/>
        </p:nvGrpSpPr>
        <p:grpSpPr>
          <a:xfrm>
            <a:off x="-573120" y="-649800"/>
            <a:ext cx="7695360" cy="2026080"/>
            <a:chOff x="-573120" y="-649800"/>
            <a:chExt cx="7695360" cy="2026080"/>
          </a:xfrm>
        </p:grpSpPr>
        <p:grpSp>
          <p:nvGrpSpPr>
            <p:cNvPr id="800" name="Group 32"/>
            <p:cNvGrpSpPr/>
            <p:nvPr/>
          </p:nvGrpSpPr>
          <p:grpSpPr>
            <a:xfrm>
              <a:off x="-263160" y="-649800"/>
              <a:ext cx="7385400" cy="2026080"/>
              <a:chOff x="-263160" y="-649800"/>
              <a:chExt cx="7385400" cy="2026080"/>
            </a:xfrm>
          </p:grpSpPr>
          <p:sp>
            <p:nvSpPr>
              <p:cNvPr id="801"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02"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03"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04"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05"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06"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07"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08"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09"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0"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1"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2"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3"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4"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5"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6"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7"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8"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9"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20"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821"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82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23"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24" name="Round Same Side Corner Rectangle 32"/>
          <p:cNvSpPr/>
          <p:nvPr/>
        </p:nvSpPr>
        <p:spPr>
          <a:xfrm rot="16200000">
            <a:off x="3974400" y="-2346840"/>
            <a:ext cx="1450800" cy="8888400"/>
          </a:xfrm>
          <a:custGeom>
            <a:avLst/>
            <a:gdLst/>
            <a:ahLst/>
            <a:rect l="l" t="t" r="r" b="b"/>
            <a:pathLst>
              <a:path w="1450975" h="8888412">
                <a:moveTo>
                  <a:pt x="725488" y="0"/>
                </a:moveTo>
                <a:lnTo>
                  <a:pt x="725488" y="0"/>
                </a:lnTo>
                <a:cubicBezTo>
                  <a:pt x="1126164" y="0"/>
                  <a:pt x="1450976" y="324812"/>
                  <a:pt x="1450976" y="725488"/>
                </a:cubicBezTo>
                <a:cubicBezTo>
                  <a:pt x="1450976" y="3446463"/>
                  <a:pt x="1450975" y="6167437"/>
                  <a:pt x="1450975" y="8888412"/>
                </a:cubicBezTo>
                <a:lnTo>
                  <a:pt x="1450975" y="8888412"/>
                </a:lnTo>
                <a:lnTo>
                  <a:pt x="0" y="8888412"/>
                </a:lnTo>
                <a:lnTo>
                  <a:pt x="0" y="8888412"/>
                </a:lnTo>
                <a:lnTo>
                  <a:pt x="0" y="725488"/>
                </a:lnTo>
                <a:cubicBezTo>
                  <a:pt x="0" y="324812"/>
                  <a:pt x="324812" y="0"/>
                  <a:pt x="725488" y="0"/>
                </a:cubicBezTo>
                <a:close/>
              </a:path>
            </a:pathLst>
          </a:custGeom>
          <a:solidFill>
            <a:srgbClr val="073779">
              <a:alpha val="30000"/>
            </a:srgbClr>
          </a:solidFill>
          <a:ln w="25560">
            <a:solidFill>
              <a:srgbClr val="ddf53d">
                <a:alpha val="3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2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26"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27" name="PlaceHolder 3"/>
          <p:cNvSpPr>
            <a:spLocks noGrp="1"/>
          </p:cNvSpPr>
          <p:nvPr>
            <p:ph type="dt" idx="28"/>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5E2A7-B13C-4ACD-AD20-B5EF2E5B0124}" type="datetime3">
              <a:rPr b="0" lang="en-US" sz="1000" spc="-1" strike="noStrike">
                <a:solidFill>
                  <a:srgbClr val="ffffff"/>
                </a:solidFill>
                <a:latin typeface="Times New Roman"/>
              </a:rPr>
              <a:t>July 30, 2026</a:t>
            </a:fld>
            <a:endParaRPr b="0" lang="en-US" sz="1000" spc="-1" strike="noStrike">
              <a:solidFill>
                <a:srgbClr val="000000"/>
              </a:solidFill>
              <a:latin typeface="Times New Roman"/>
            </a:endParaRPr>
          </a:p>
        </p:txBody>
      </p:sp>
      <p:sp>
        <p:nvSpPr>
          <p:cNvPr id="828" name="PlaceHolder 4"/>
          <p:cNvSpPr>
            <a:spLocks noGrp="1"/>
          </p:cNvSpPr>
          <p:nvPr>
            <p:ph type="ftr" idx="29"/>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29" name="PlaceHolder 5"/>
          <p:cNvSpPr>
            <a:spLocks noGrp="1"/>
          </p:cNvSpPr>
          <p:nvPr>
            <p:ph type="sldNum" idx="30"/>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98463-6B48-4322-A1E3-CFD9E21B45E7}"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6" name="Picture 6" descr="TextSlideOverlay.png"/>
          <p:cNvPicPr/>
          <p:nvPr/>
        </p:nvPicPr>
        <p:blipFill>
          <a:blip r:embed="rId3"/>
          <a:stretch/>
        </p:blipFill>
        <p:spPr>
          <a:xfrm>
            <a:off x="0" y="0"/>
            <a:ext cx="9144000" cy="6858000"/>
          </a:xfrm>
          <a:prstGeom prst="rect">
            <a:avLst/>
          </a:prstGeom>
          <a:ln w="0">
            <a:noFill/>
          </a:ln>
        </p:spPr>
      </p:pic>
      <p:grpSp>
        <p:nvGrpSpPr>
          <p:cNvPr id="867" name="Group 7"/>
          <p:cNvGrpSpPr/>
          <p:nvPr/>
        </p:nvGrpSpPr>
        <p:grpSpPr>
          <a:xfrm>
            <a:off x="-573120" y="-649800"/>
            <a:ext cx="7695360" cy="2026080"/>
            <a:chOff x="-573120" y="-649800"/>
            <a:chExt cx="7695360" cy="2026080"/>
          </a:xfrm>
        </p:grpSpPr>
        <p:grpSp>
          <p:nvGrpSpPr>
            <p:cNvPr id="868" name="Group 32"/>
            <p:cNvGrpSpPr/>
            <p:nvPr/>
          </p:nvGrpSpPr>
          <p:grpSpPr>
            <a:xfrm>
              <a:off x="-263160" y="-649800"/>
              <a:ext cx="7385400" cy="2026080"/>
              <a:chOff x="-263160" y="-649800"/>
              <a:chExt cx="7385400" cy="2026080"/>
            </a:xfrm>
          </p:grpSpPr>
          <p:sp>
            <p:nvSpPr>
              <p:cNvPr id="869"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0"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1"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2"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3"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4"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5"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6"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7"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8"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9"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0"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1"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2"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3"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4"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5"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6"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7"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8"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889"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890"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91"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92" name="Round Same Side Corner Rectangle 32"/>
          <p:cNvSpPr/>
          <p:nvPr/>
        </p:nvSpPr>
        <p:spPr>
          <a:xfrm>
            <a:off x="7299360" y="444600"/>
            <a:ext cx="1535040" cy="6400800"/>
          </a:xfrm>
          <a:custGeom>
            <a:avLst/>
            <a:gdLst/>
            <a:ahLst/>
            <a:rect l="l" t="t" r="r" b="b"/>
            <a:pathLst>
              <a:path w="1535113" h="6400800">
                <a:moveTo>
                  <a:pt x="767557" y="0"/>
                </a:moveTo>
                <a:lnTo>
                  <a:pt x="767557" y="0"/>
                </a:lnTo>
                <a:cubicBezTo>
                  <a:pt x="1191467" y="0"/>
                  <a:pt x="1535114" y="343647"/>
                  <a:pt x="1535114" y="767557"/>
                </a:cubicBezTo>
                <a:cubicBezTo>
                  <a:pt x="1535114" y="2645305"/>
                  <a:pt x="1535113" y="4523052"/>
                  <a:pt x="1535113" y="6400800"/>
                </a:cubicBezTo>
                <a:lnTo>
                  <a:pt x="1535113" y="6400800"/>
                </a:lnTo>
                <a:lnTo>
                  <a:pt x="0" y="6400800"/>
                </a:lnTo>
                <a:lnTo>
                  <a:pt x="0" y="6400800"/>
                </a:lnTo>
                <a:lnTo>
                  <a:pt x="0" y="767557"/>
                </a:lnTo>
                <a:cubicBezTo>
                  <a:pt x="0" y="343647"/>
                  <a:pt x="343647" y="0"/>
                  <a:pt x="767557" y="0"/>
                </a:cubicBezTo>
                <a:close/>
              </a:path>
            </a:pathLst>
          </a:custGeom>
          <a:solidFill>
            <a:srgbClr val="073779">
              <a:alpha val="30000"/>
            </a:srgbClr>
          </a:solidFill>
          <a:ln w="25560">
            <a:solidFill>
              <a:srgbClr val="ddf53d">
                <a:alpha val="3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9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94"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95" name="PlaceHolder 3"/>
          <p:cNvSpPr>
            <a:spLocks noGrp="1"/>
          </p:cNvSpPr>
          <p:nvPr>
            <p:ph type="dt" idx="31"/>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3553-21A4-414A-A63F-D972DBB9861A}" type="datetime3">
              <a:rPr b="0" lang="en-US" sz="1000" spc="-1" strike="noStrike">
                <a:solidFill>
                  <a:srgbClr val="ffffff"/>
                </a:solidFill>
                <a:latin typeface="Times New Roman"/>
              </a:rPr>
              <a:t>July 30, 2026</a:t>
            </a:fld>
            <a:endParaRPr b="0" lang="en-US" sz="1000" spc="-1" strike="noStrike">
              <a:solidFill>
                <a:srgbClr val="000000"/>
              </a:solidFill>
              <a:latin typeface="Times New Roman"/>
            </a:endParaRPr>
          </a:p>
        </p:txBody>
      </p:sp>
      <p:sp>
        <p:nvSpPr>
          <p:cNvPr id="896" name="PlaceHolder 4"/>
          <p:cNvSpPr>
            <a:spLocks noGrp="1"/>
          </p:cNvSpPr>
          <p:nvPr>
            <p:ph type="ftr" idx="32"/>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97" name="PlaceHolder 5"/>
          <p:cNvSpPr>
            <a:spLocks noGrp="1"/>
          </p:cNvSpPr>
          <p:nvPr>
            <p:ph type="sldNum" idx="3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C613-C4D2-4CF3-BEEE-45563415E207}"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 name="Picture 32" descr="TitleSlideOverlay.png"/>
          <p:cNvPicPr/>
          <p:nvPr/>
        </p:nvPicPr>
        <p:blipFill>
          <a:blip r:embed="rId3"/>
          <a:stretch/>
        </p:blipFill>
        <p:spPr>
          <a:xfrm>
            <a:off x="0" y="0"/>
            <a:ext cx="9144000" cy="6858000"/>
          </a:xfrm>
          <a:prstGeom prst="rect">
            <a:avLst/>
          </a:prstGeom>
          <a:ln w="0">
            <a:noFill/>
          </a:ln>
        </p:spPr>
      </p:pic>
      <p:grpSp>
        <p:nvGrpSpPr>
          <p:cNvPr id="68" name="Group 33"/>
          <p:cNvGrpSpPr/>
          <p:nvPr/>
        </p:nvGrpSpPr>
        <p:grpSpPr>
          <a:xfrm>
            <a:off x="-360" y="1577880"/>
            <a:ext cx="9472320" cy="4641120"/>
            <a:chOff x="-360" y="1577880"/>
            <a:chExt cx="9472320" cy="4641120"/>
          </a:xfrm>
        </p:grpSpPr>
        <p:sp>
          <p:nvSpPr>
            <p:cNvPr id="69" name="Freeform 34"/>
            <p:cNvSpPr/>
            <p:nvPr/>
          </p:nvSpPr>
          <p:spPr>
            <a:xfrm rot="15669000">
              <a:off x="3702600" y="-842040"/>
              <a:ext cx="2065680" cy="9264600"/>
            </a:xfrm>
            <a:custGeom>
              <a:avLst/>
              <a:gdLst/>
              <a:ahLst/>
              <a:rect l="l" t="t" r="r" b="b"/>
              <a:pathLst>
                <a:path w="2209695" h="9154402">
                  <a:moveTo>
                    <a:pt x="67397" y="8829966"/>
                  </a:moveTo>
                  <a:lnTo>
                    <a:pt x="0" y="1104848"/>
                  </a:lnTo>
                  <a:cubicBezTo>
                    <a:pt x="0" y="811824"/>
                    <a:pt x="116404" y="530802"/>
                    <a:pt x="323604" y="323603"/>
                  </a:cubicBezTo>
                  <a:cubicBezTo>
                    <a:pt x="530804" y="116404"/>
                    <a:pt x="811826" y="1"/>
                    <a:pt x="1104850" y="2"/>
                  </a:cubicBezTo>
                  <a:lnTo>
                    <a:pt x="1104848" y="0"/>
                  </a:lnTo>
                  <a:lnTo>
                    <a:pt x="1104848" y="0"/>
                  </a:lnTo>
                  <a:cubicBezTo>
                    <a:pt x="1397872" y="0"/>
                    <a:pt x="1678894" y="116404"/>
                    <a:pt x="1886093" y="323604"/>
                  </a:cubicBezTo>
                  <a:cubicBezTo>
                    <a:pt x="2093292" y="530804"/>
                    <a:pt x="2209695" y="811826"/>
                    <a:pt x="2209694" y="1104850"/>
                  </a:cubicBezTo>
                  <a:cubicBezTo>
                    <a:pt x="2209694" y="3788034"/>
                    <a:pt x="2209695" y="6471218"/>
                    <a:pt x="2209695" y="9154402"/>
                  </a:cubicBezTo>
                  <a:lnTo>
                    <a:pt x="2209695" y="9154402"/>
                  </a:lnTo>
                </a:path>
              </a:pathLst>
            </a:custGeom>
            <a:solidFill>
              <a:srgbClr val="073779">
                <a:alpha val="80000"/>
              </a:srgbClr>
            </a:solidFill>
            <a:ln w="25560">
              <a:solidFill>
                <a:srgbClr val="ddf53d">
                  <a:alpha val="6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0" name="Freeform 35"/>
            <p:cNvSpPr/>
            <p:nvPr/>
          </p:nvSpPr>
          <p:spPr>
            <a:xfrm rot="15660000">
              <a:off x="5178960" y="1578240"/>
              <a:ext cx="1041480" cy="7135920"/>
            </a:xfrm>
            <a:custGeom>
              <a:avLst/>
              <a:gdLst/>
              <a:ahLst/>
              <a:rect l="l" t="t" r="r" b="b"/>
              <a:pathLst>
                <a:path w="1040884" h="7134813">
                  <a:moveTo>
                    <a:pt x="0" y="6971904"/>
                  </a:moveTo>
                  <a:lnTo>
                    <a:pt x="0" y="6971904"/>
                  </a:lnTo>
                  <a:lnTo>
                    <a:pt x="0" y="6971904"/>
                  </a:lnTo>
                  <a:lnTo>
                    <a:pt x="0" y="498324"/>
                  </a:lnTo>
                  <a:cubicBezTo>
                    <a:pt x="0" y="366160"/>
                    <a:pt x="52502" y="239410"/>
                    <a:pt x="145956" y="145956"/>
                  </a:cubicBezTo>
                  <a:cubicBezTo>
                    <a:pt x="239410" y="52502"/>
                    <a:pt x="366161" y="1"/>
                    <a:pt x="498325" y="1"/>
                  </a:cubicBezTo>
                  <a:lnTo>
                    <a:pt x="498324" y="0"/>
                  </a:lnTo>
                  <a:lnTo>
                    <a:pt x="498324" y="0"/>
                  </a:lnTo>
                  <a:cubicBezTo>
                    <a:pt x="630488" y="0"/>
                    <a:pt x="757238" y="52502"/>
                    <a:pt x="850692" y="145956"/>
                  </a:cubicBezTo>
                  <a:cubicBezTo>
                    <a:pt x="944146" y="239410"/>
                    <a:pt x="996647" y="366161"/>
                    <a:pt x="996647" y="498325"/>
                  </a:cubicBezTo>
                  <a:cubicBezTo>
                    <a:pt x="1030126" y="1663149"/>
                    <a:pt x="1037566" y="5867764"/>
                    <a:pt x="1040884" y="7134813"/>
                  </a:cubicBezTo>
                </a:path>
              </a:pathLst>
            </a:custGeom>
            <a:solidFill>
              <a:srgbClr val="1b3861">
                <a:alpha val="60000"/>
              </a:srgbClr>
            </a:solidFill>
            <a:ln w="31680">
              <a:solidFill>
                <a:srgbClr val="38abed">
                  <a:alpha val="6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1" name="Freeform 36"/>
            <p:cNvSpPr/>
            <p:nvPr/>
          </p:nvSpPr>
          <p:spPr>
            <a:xfrm rot="15660000">
              <a:off x="6127560" y="-70200"/>
              <a:ext cx="931680" cy="5297400"/>
            </a:xfrm>
            <a:custGeom>
              <a:avLst/>
              <a:gdLst/>
              <a:ahLst/>
              <a:rect l="l" t="t" r="r" b="b"/>
              <a:pathLst>
                <a:path w="962833" h="6320186">
                  <a:moveTo>
                    <a:pt x="0" y="6172200"/>
                  </a:moveTo>
                  <a:lnTo>
                    <a:pt x="0" y="6172200"/>
                  </a:lnTo>
                  <a:lnTo>
                    <a:pt x="5534" y="6164375"/>
                  </a:lnTo>
                  <a:cubicBezTo>
                    <a:pt x="3689" y="4261983"/>
                    <a:pt x="1845" y="2359592"/>
                    <a:pt x="0" y="457200"/>
                  </a:cubicBez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70354" y="4525828"/>
                    <a:pt x="962833" y="6320186"/>
                  </a:cubicBezTo>
                </a:path>
              </a:pathLst>
            </a:custGeom>
            <a:solidFill>
              <a:srgbClr val="1b3861">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2" name="Freeform 37"/>
            <p:cNvSpPr/>
            <p:nvPr/>
          </p:nvSpPr>
          <p:spPr>
            <a:xfrm rot="15660000">
              <a:off x="5623560" y="-612360"/>
              <a:ext cx="963720" cy="6321600"/>
            </a:xfrm>
            <a:custGeom>
              <a:avLst/>
              <a:gdLst/>
              <a:ahLst/>
              <a:rect l="l" t="t" r="r" b="b"/>
              <a:pathLst>
                <a:path w="962833" h="6320186">
                  <a:moveTo>
                    <a:pt x="0" y="6172200"/>
                  </a:moveTo>
                  <a:lnTo>
                    <a:pt x="0" y="6172200"/>
                  </a:lnTo>
                  <a:lnTo>
                    <a:pt x="0" y="6172200"/>
                  </a:lnTo>
                  <a:lnTo>
                    <a:pt x="0" y="457200"/>
                  </a:ln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70354" y="4525828"/>
                    <a:pt x="962833" y="6320186"/>
                  </a:cubicBezTo>
                </a:path>
              </a:pathLst>
            </a:custGeom>
            <a:solidFill>
              <a:srgbClr val="073779">
                <a:alpha val="50000"/>
              </a:srgbClr>
            </a:solidFill>
            <a:ln w="25560">
              <a:solidFill>
                <a:srgbClr val="ddf53d">
                  <a:alpha val="5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3" name="Freeform 38"/>
            <p:cNvSpPr/>
            <p:nvPr/>
          </p:nvSpPr>
          <p:spPr>
            <a:xfrm rot="15660000">
              <a:off x="6394320" y="-279360"/>
              <a:ext cx="552240" cy="5105520"/>
            </a:xfrm>
            <a:custGeom>
              <a:avLst/>
              <a:gdLst/>
              <a:ahLst/>
              <a:rect l="l" t="t" r="r" b="b"/>
              <a:pathLst>
                <a:path w="552099" h="5109912">
                  <a:moveTo>
                    <a:pt x="0" y="5016061"/>
                  </a:moveTo>
                  <a:lnTo>
                    <a:pt x="0" y="5016061"/>
                  </a:lnTo>
                  <a:lnTo>
                    <a:pt x="0" y="251460"/>
                  </a:lnTo>
                  <a:cubicBezTo>
                    <a:pt x="0" y="184769"/>
                    <a:pt x="26493" y="120809"/>
                    <a:pt x="73651" y="73651"/>
                  </a:cubicBezTo>
                  <a:cubicBezTo>
                    <a:pt x="120809" y="26493"/>
                    <a:pt x="184769" y="0"/>
                    <a:pt x="251460" y="0"/>
                  </a:cubicBezTo>
                  <a:lnTo>
                    <a:pt x="251460" y="0"/>
                  </a:lnTo>
                  <a:cubicBezTo>
                    <a:pt x="318151" y="0"/>
                    <a:pt x="382111" y="26493"/>
                    <a:pt x="429269" y="73651"/>
                  </a:cubicBezTo>
                  <a:cubicBezTo>
                    <a:pt x="476427" y="120809"/>
                    <a:pt x="502920" y="184769"/>
                    <a:pt x="502920" y="251460"/>
                  </a:cubicBezTo>
                  <a:cubicBezTo>
                    <a:pt x="528237" y="1864408"/>
                    <a:pt x="536054" y="5039297"/>
                    <a:pt x="552099" y="5109912"/>
                  </a:cubicBezTo>
                </a:path>
              </a:pathLst>
            </a:custGeom>
            <a:solidFill>
              <a:srgbClr val="0c5986">
                <a:alpha val="30000"/>
              </a:srgbClr>
            </a:solidFill>
            <a:ln w="57240">
              <a:solidFill>
                <a:srgbClr val="ddf53d"/>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 name="Freeform 39"/>
            <p:cNvSpPr/>
            <p:nvPr/>
          </p:nvSpPr>
          <p:spPr>
            <a:xfrm rot="15660000">
              <a:off x="7468200" y="1177920"/>
              <a:ext cx="536400" cy="2935080"/>
            </a:xfrm>
            <a:custGeom>
              <a:avLst/>
              <a:gdLst/>
              <a:ahLst/>
              <a:rect l="l" t="t" r="r" b="b"/>
              <a:pathLst>
                <a:path w="536285" h="2938929">
                  <a:moveTo>
                    <a:pt x="6777" y="2849391"/>
                  </a:moveTo>
                  <a:cubicBezTo>
                    <a:pt x="6668" y="1978928"/>
                    <a:pt x="109" y="1121923"/>
                    <a:pt x="0" y="251460"/>
                  </a:cubicBezTo>
                  <a:cubicBezTo>
                    <a:pt x="0" y="184769"/>
                    <a:pt x="26493" y="120809"/>
                    <a:pt x="73651" y="73651"/>
                  </a:cubicBezTo>
                  <a:cubicBezTo>
                    <a:pt x="120809" y="26493"/>
                    <a:pt x="184769" y="0"/>
                    <a:pt x="251460" y="0"/>
                  </a:cubicBezTo>
                  <a:lnTo>
                    <a:pt x="251460" y="0"/>
                  </a:lnTo>
                  <a:cubicBezTo>
                    <a:pt x="318151" y="0"/>
                    <a:pt x="382111" y="26493"/>
                    <a:pt x="429269" y="73651"/>
                  </a:cubicBezTo>
                  <a:cubicBezTo>
                    <a:pt x="476427" y="120809"/>
                    <a:pt x="502920" y="184769"/>
                    <a:pt x="502920" y="251460"/>
                  </a:cubicBezTo>
                  <a:cubicBezTo>
                    <a:pt x="528237" y="1864408"/>
                    <a:pt x="517682" y="905440"/>
                    <a:pt x="536285" y="2938929"/>
                  </a:cubicBezTo>
                </a:path>
              </a:pathLst>
            </a:custGeom>
            <a:solidFill>
              <a:srgbClr val="0c5986"/>
            </a:solidFill>
            <a:ln w="57240">
              <a:solidFill>
                <a:srgbClr val="ddf53d"/>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75" name="Freeform 40"/>
          <p:cNvSpPr/>
          <p:nvPr/>
        </p:nvSpPr>
        <p:spPr>
          <a:xfrm rot="15660000">
            <a:off x="5750640" y="-641880"/>
            <a:ext cx="985680" cy="6048360"/>
          </a:xfrm>
          <a:custGeom>
            <a:avLst/>
            <a:gdLst/>
            <a:ahLst/>
            <a:rect l="l" t="t" r="r" b="b"/>
            <a:pathLst>
              <a:path w="981537" h="6338829">
                <a:moveTo>
                  <a:pt x="0" y="6172200"/>
                </a:moveTo>
                <a:lnTo>
                  <a:pt x="0" y="6172200"/>
                </a:lnTo>
                <a:lnTo>
                  <a:pt x="0" y="6172200"/>
                </a:lnTo>
                <a:lnTo>
                  <a:pt x="0" y="457200"/>
                </a:ln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89058" y="4544471"/>
                  <a:pt x="981537" y="6338829"/>
                </a:cubicBezTo>
              </a:path>
            </a:pathLst>
          </a:custGeom>
          <a:solidFill>
            <a:srgbClr val="afddf8">
              <a:alpha val="8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nvGrpSpPr>
          <p:cNvPr id="76" name="Group 41"/>
          <p:cNvGrpSpPr/>
          <p:nvPr/>
        </p:nvGrpSpPr>
        <p:grpSpPr>
          <a:xfrm>
            <a:off x="784080" y="-1220760"/>
            <a:ext cx="5811840" cy="2952720"/>
            <a:chOff x="784080" y="-1220760"/>
            <a:chExt cx="5811840" cy="2952720"/>
          </a:xfrm>
        </p:grpSpPr>
        <p:sp>
          <p:nvSpPr>
            <p:cNvPr id="77" name="Oval 42"/>
            <p:cNvSpPr/>
            <p:nvPr/>
          </p:nvSpPr>
          <p:spPr>
            <a:xfrm>
              <a:off x="2382840" y="1122480"/>
              <a:ext cx="609480" cy="6094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8" name="Oval 43"/>
            <p:cNvSpPr/>
            <p:nvPr/>
          </p:nvSpPr>
          <p:spPr>
            <a:xfrm>
              <a:off x="285588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9" name="Oval 44"/>
            <p:cNvSpPr/>
            <p:nvPr/>
          </p:nvSpPr>
          <p:spPr>
            <a:xfrm>
              <a:off x="1947600" y="46080"/>
              <a:ext cx="1023840" cy="868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0" name="Pie 45"/>
            <p:cNvSpPr/>
            <p:nvPr/>
          </p:nvSpPr>
          <p:spPr>
            <a:xfrm>
              <a:off x="1218960" y="-765000"/>
              <a:ext cx="3505320" cy="1520640"/>
            </a:xfrm>
            <a:custGeom>
              <a:avLst/>
              <a:gdLst/>
              <a:ahLst/>
              <a:rect l="l" t="t" r="r" b="b"/>
              <a:pathLst>
                <a:path w="3504811" h="1520823">
                  <a:moveTo>
                    <a:pt x="3504605" y="772070"/>
                  </a:moveTo>
                  <a:cubicBezTo>
                    <a:pt x="3489910" y="1187902"/>
                    <a:pt x="2708082" y="1521472"/>
                    <a:pt x="1749667" y="1520822"/>
                  </a:cubicBezTo>
                  <a:cubicBezTo>
                    <a:pt x="782047" y="1520166"/>
                    <a:pt x="-1220" y="1179326"/>
                    <a:pt x="0" y="759452"/>
                  </a:cubicBezTo>
                  <a:lnTo>
                    <a:pt x="1752406" y="760412"/>
                  </a:lnTo>
                  <a:lnTo>
                    <a:pt x="3504605" y="77207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 name="Oval 46"/>
            <p:cNvSpPr/>
            <p:nvPr/>
          </p:nvSpPr>
          <p:spPr>
            <a:xfrm>
              <a:off x="2344680" y="141480"/>
              <a:ext cx="1023840" cy="95256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2" name="Arc 47"/>
            <p:cNvSpPr/>
            <p:nvPr/>
          </p:nvSpPr>
          <p:spPr>
            <a:xfrm rot="12470400">
              <a:off x="1177560" y="-177480"/>
              <a:ext cx="1133280" cy="831600"/>
            </a:xfrm>
            <a:custGeom>
              <a:avLst/>
              <a:gdLst/>
              <a:ahLst/>
              <a:rect l="l" t="t" r="r" b="b"/>
              <a:pathLst>
                <a:path stroke="0" w="1133349" h="831849">
                  <a:moveTo>
                    <a:pt x="4015" y="366498"/>
                  </a:moveTo>
                  <a:cubicBezTo>
                    <a:pt x="37923" y="158552"/>
                    <a:pt x="277195" y="1544"/>
                    <a:pt x="562525" y="11"/>
                  </a:cubicBezTo>
                  <a:cubicBezTo>
                    <a:pt x="845199" y="-1508"/>
                    <a:pt x="1086166" y="150110"/>
                    <a:pt x="1127314" y="355382"/>
                  </a:cubicBezTo>
                  <a:lnTo>
                    <a:pt x="566675" y="415925"/>
                  </a:lnTo>
                  <a:lnTo>
                    <a:pt x="4015" y="366498"/>
                  </a:lnTo>
                  <a:close/>
                </a:path>
                <a:path fill="none" w="1133349" h="831849">
                  <a:moveTo>
                    <a:pt x="4015" y="366498"/>
                  </a:moveTo>
                  <a:cubicBezTo>
                    <a:pt x="37923" y="158552"/>
                    <a:pt x="277195" y="1544"/>
                    <a:pt x="562525" y="11"/>
                  </a:cubicBezTo>
                  <a:cubicBezTo>
                    <a:pt x="845199" y="-1508"/>
                    <a:pt x="1086166" y="150110"/>
                    <a:pt x="1127314" y="355382"/>
                  </a:cubicBezTo>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3" name="Pie 48"/>
            <p:cNvSpPr/>
            <p:nvPr/>
          </p:nvSpPr>
          <p:spPr>
            <a:xfrm rot="60000">
              <a:off x="786960" y="-197640"/>
              <a:ext cx="380880" cy="380880"/>
            </a:xfrm>
            <a:custGeom>
              <a:avLst/>
              <a:gdLst/>
              <a:ahLst/>
              <a:rect l="l" t="t" r="r" b="b"/>
              <a:pathLst>
                <a:path w="380958" h="381000">
                  <a:moveTo>
                    <a:pt x="380958" y="190416"/>
                  </a:moveTo>
                  <a:cubicBezTo>
                    <a:pt x="381004" y="293854"/>
                    <a:pt x="298508" y="378428"/>
                    <a:pt x="195112" y="380944"/>
                  </a:cubicBezTo>
                  <a:cubicBezTo>
                    <a:pt x="91715" y="383460"/>
                    <a:pt x="5204" y="302997"/>
                    <a:pt x="221" y="199679"/>
                  </a:cubicBezTo>
                  <a:lnTo>
                    <a:pt x="190479" y="190500"/>
                  </a:lnTo>
                  <a:lnTo>
                    <a:pt x="380958" y="190416"/>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4" name="Arc 49"/>
            <p:cNvSpPr/>
            <p:nvPr/>
          </p:nvSpPr>
          <p:spPr>
            <a:xfrm rot="6387000">
              <a:off x="4862160" y="-838800"/>
              <a:ext cx="1452600" cy="1671480"/>
            </a:xfrm>
            <a:custGeom>
              <a:avLst/>
              <a:gdLst/>
              <a:ahLst/>
              <a:rect l="l" t="t" r="r" b="b"/>
              <a:pathLst>
                <a:path stroke="0" w="1452561" h="1671452">
                  <a:moveTo>
                    <a:pt x="492890" y="44327"/>
                  </a:moveTo>
                  <a:cubicBezTo>
                    <a:pt x="765979" y="-62311"/>
                    <a:pt x="1068027" y="27076"/>
                    <a:pt x="1262522" y="272089"/>
                  </a:cubicBezTo>
                  <a:cubicBezTo>
                    <a:pt x="1420111" y="470609"/>
                    <a:pt x="1485070" y="744251"/>
                    <a:pt x="1437074" y="1007392"/>
                  </a:cubicBezTo>
                  <a:cubicBezTo>
                    <a:pt x="1384318" y="1296629"/>
                    <a:pt x="1202728" y="1532297"/>
                    <a:pt x="959493" y="1627196"/>
                  </a:cubicBezTo>
                  <a:lnTo>
                    <a:pt x="726281" y="835726"/>
                  </a:lnTo>
                  <a:lnTo>
                    <a:pt x="492890" y="44327"/>
                  </a:lnTo>
                  <a:close/>
                </a:path>
                <a:path fill="none" w="1452561" h="1671452">
                  <a:moveTo>
                    <a:pt x="492890" y="44327"/>
                  </a:moveTo>
                  <a:cubicBezTo>
                    <a:pt x="765979" y="-62311"/>
                    <a:pt x="1068027" y="27076"/>
                    <a:pt x="1262522" y="272089"/>
                  </a:cubicBezTo>
                  <a:cubicBezTo>
                    <a:pt x="1420111" y="470609"/>
                    <a:pt x="1485070" y="744251"/>
                    <a:pt x="1437074" y="1007392"/>
                  </a:cubicBezTo>
                  <a:cubicBezTo>
                    <a:pt x="1384318" y="1296629"/>
                    <a:pt x="1202728" y="1532297"/>
                    <a:pt x="959493" y="1627196"/>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5" name="Oval 50"/>
            <p:cNvSpPr/>
            <p:nvPr/>
          </p:nvSpPr>
          <p:spPr>
            <a:xfrm>
              <a:off x="5362560" y="461880"/>
              <a:ext cx="757080" cy="642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6" name="Oval 51"/>
            <p:cNvSpPr/>
            <p:nvPr/>
          </p:nvSpPr>
          <p:spPr>
            <a:xfrm>
              <a:off x="4800600" y="152280"/>
              <a:ext cx="757080" cy="64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 name="Arc 52"/>
            <p:cNvSpPr/>
            <p:nvPr/>
          </p:nvSpPr>
          <p:spPr>
            <a:xfrm rot="6387000">
              <a:off x="3395520" y="-1039680"/>
              <a:ext cx="1906560" cy="2046240"/>
            </a:xfrm>
            <a:custGeom>
              <a:avLst/>
              <a:gdLst/>
              <a:ahLst/>
              <a:rect l="l" t="t" r="r" b="b"/>
              <a:pathLst>
                <a:path stroke="0" w="1906585" h="2046060">
                  <a:moveTo>
                    <a:pt x="673803" y="44956"/>
                  </a:moveTo>
                  <a:cubicBezTo>
                    <a:pt x="1186853" y="-123885"/>
                    <a:pt x="1728613" y="194809"/>
                    <a:pt x="1871950" y="749773"/>
                  </a:cubicBezTo>
                  <a:cubicBezTo>
                    <a:pt x="2007629" y="1275088"/>
                    <a:pt x="1735648" y="1822304"/>
                    <a:pt x="1253539" y="1993994"/>
                  </a:cubicBezTo>
                  <a:lnTo>
                    <a:pt x="953293" y="1023030"/>
                  </a:lnTo>
                  <a:lnTo>
                    <a:pt x="673803" y="44956"/>
                  </a:lnTo>
                  <a:close/>
                </a:path>
                <a:path fill="none" w="1906585" h="2046060">
                  <a:moveTo>
                    <a:pt x="673803" y="44956"/>
                  </a:moveTo>
                  <a:cubicBezTo>
                    <a:pt x="1186853" y="-123885"/>
                    <a:pt x="1728613" y="194809"/>
                    <a:pt x="1871950" y="749773"/>
                  </a:cubicBezTo>
                  <a:cubicBezTo>
                    <a:pt x="2007629" y="1275088"/>
                    <a:pt x="1735648" y="1822304"/>
                    <a:pt x="1253539" y="1993994"/>
                  </a:cubicBezTo>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 name="Oval 53"/>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9" name="Oval 54"/>
            <p:cNvSpPr/>
            <p:nvPr/>
          </p:nvSpPr>
          <p:spPr>
            <a:xfrm>
              <a:off x="619128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90" name="Rectangle 55"/>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9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9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9" name="Picture 6" descr="TextSlideOverlay.png"/>
          <p:cNvPicPr/>
          <p:nvPr/>
        </p:nvPicPr>
        <p:blipFill>
          <a:blip r:embed="rId3"/>
          <a:stretch/>
        </p:blipFill>
        <p:spPr>
          <a:xfrm>
            <a:off x="0" y="0"/>
            <a:ext cx="9144000" cy="6858000"/>
          </a:xfrm>
          <a:prstGeom prst="rect">
            <a:avLst/>
          </a:prstGeom>
          <a:ln w="0">
            <a:noFill/>
          </a:ln>
        </p:spPr>
      </p:pic>
      <p:grpSp>
        <p:nvGrpSpPr>
          <p:cNvPr id="130" name="Group 7"/>
          <p:cNvGrpSpPr/>
          <p:nvPr/>
        </p:nvGrpSpPr>
        <p:grpSpPr>
          <a:xfrm>
            <a:off x="-573120" y="-649800"/>
            <a:ext cx="7695360" cy="2026080"/>
            <a:chOff x="-573120" y="-649800"/>
            <a:chExt cx="7695360" cy="2026080"/>
          </a:xfrm>
        </p:grpSpPr>
        <p:grpSp>
          <p:nvGrpSpPr>
            <p:cNvPr id="131" name="Group 32"/>
            <p:cNvGrpSpPr/>
            <p:nvPr/>
          </p:nvGrpSpPr>
          <p:grpSpPr>
            <a:xfrm>
              <a:off x="-263160" y="-649800"/>
              <a:ext cx="7385400" cy="2026080"/>
              <a:chOff x="-263160" y="-649800"/>
              <a:chExt cx="7385400" cy="2026080"/>
            </a:xfrm>
          </p:grpSpPr>
          <p:sp>
            <p:nvSpPr>
              <p:cNvPr id="132"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3"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4"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5"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6"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7"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8"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9"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0"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1"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2"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3"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4"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5"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6"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7"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8"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9"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50"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51"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152"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153"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54"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55" name="Round Same Side Corner Rectangle 32"/>
          <p:cNvSpPr/>
          <p:nvPr/>
        </p:nvSpPr>
        <p:spPr>
          <a:xfrm rot="16200000">
            <a:off x="3974400" y="-3026160"/>
            <a:ext cx="1450800" cy="8888400"/>
          </a:xfrm>
          <a:custGeom>
            <a:avLst/>
            <a:gdLst/>
            <a:ahLst/>
            <a:rect l="l" t="t" r="r" b="b"/>
            <a:pathLst>
              <a:path w="1450975" h="8888412">
                <a:moveTo>
                  <a:pt x="725488" y="0"/>
                </a:moveTo>
                <a:lnTo>
                  <a:pt x="725488" y="0"/>
                </a:lnTo>
                <a:cubicBezTo>
                  <a:pt x="1126164" y="0"/>
                  <a:pt x="1450976" y="324812"/>
                  <a:pt x="1450976" y="725488"/>
                </a:cubicBezTo>
                <a:cubicBezTo>
                  <a:pt x="1450976" y="3446463"/>
                  <a:pt x="1450975" y="6167437"/>
                  <a:pt x="1450975" y="8888412"/>
                </a:cubicBezTo>
                <a:lnTo>
                  <a:pt x="1450975" y="8888412"/>
                </a:lnTo>
                <a:lnTo>
                  <a:pt x="0" y="8888412"/>
                </a:lnTo>
                <a:lnTo>
                  <a:pt x="0" y="8888412"/>
                </a:lnTo>
                <a:lnTo>
                  <a:pt x="0" y="725488"/>
                </a:lnTo>
                <a:cubicBezTo>
                  <a:pt x="0" y="324812"/>
                  <a:pt x="324812" y="0"/>
                  <a:pt x="725488" y="0"/>
                </a:cubicBezTo>
                <a:close/>
              </a:path>
            </a:pathLst>
          </a:custGeom>
          <a:solidFill>
            <a:srgbClr val="073779">
              <a:alpha val="30000"/>
            </a:srgbClr>
          </a:solidFill>
          <a:ln w="25560">
            <a:solidFill>
              <a:srgbClr val="ddf53d">
                <a:alpha val="3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56"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5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15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159" name="PlaceHolder 3"/>
          <p:cNvSpPr>
            <a:spLocks noGrp="1"/>
          </p:cNvSpPr>
          <p:nvPr>
            <p:ph type="dt" idx="4"/>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7C91-8E88-4265-8808-58475C60F7AA}" type="datetime3">
              <a:rPr b="0" lang="en-US" sz="1000" spc="-1" strike="noStrike">
                <a:solidFill>
                  <a:srgbClr val="ffffff"/>
                </a:solidFill>
                <a:latin typeface="Times New Roman"/>
              </a:rPr>
              <a:t>July 30, 2026</a:t>
            </a:fld>
            <a:endParaRPr b="0" lang="en-US" sz="1000" spc="-1" strike="noStrike">
              <a:solidFill>
                <a:srgbClr val="000000"/>
              </a:solidFill>
              <a:latin typeface="Times New Roman"/>
            </a:endParaRPr>
          </a:p>
        </p:txBody>
      </p:sp>
      <p:sp>
        <p:nvSpPr>
          <p:cNvPr id="160" name="PlaceHolder 4"/>
          <p:cNvSpPr>
            <a:spLocks noGrp="1"/>
          </p:cNvSpPr>
          <p:nvPr>
            <p:ph type="ftr" idx="5"/>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61" name="PlaceHolder 5"/>
          <p:cNvSpPr>
            <a:spLocks noGrp="1"/>
          </p:cNvSpPr>
          <p:nvPr>
            <p:ph type="sldNum" idx="6"/>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C990-11D0-4270-B455-8C5EDA4F8F9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 name="Freeform 32"/>
          <p:cNvSpPr/>
          <p:nvPr/>
        </p:nvSpPr>
        <p:spPr>
          <a:xfrm rot="15660000">
            <a:off x="5180040" y="1836720"/>
            <a:ext cx="1039680" cy="7135920"/>
          </a:xfrm>
          <a:custGeom>
            <a:avLst/>
            <a:gdLst/>
            <a:ahLst/>
            <a:rect l="l" t="t" r="r" b="b"/>
            <a:pathLst>
              <a:path w="1040884" h="7134813">
                <a:moveTo>
                  <a:pt x="0" y="6971904"/>
                </a:moveTo>
                <a:lnTo>
                  <a:pt x="0" y="6971904"/>
                </a:lnTo>
                <a:lnTo>
                  <a:pt x="0" y="6971904"/>
                </a:lnTo>
                <a:lnTo>
                  <a:pt x="0" y="498324"/>
                </a:lnTo>
                <a:cubicBezTo>
                  <a:pt x="0" y="366160"/>
                  <a:pt x="52502" y="239410"/>
                  <a:pt x="145956" y="145956"/>
                </a:cubicBezTo>
                <a:cubicBezTo>
                  <a:pt x="239410" y="52502"/>
                  <a:pt x="366161" y="1"/>
                  <a:pt x="498325" y="1"/>
                </a:cubicBezTo>
                <a:lnTo>
                  <a:pt x="498324" y="0"/>
                </a:lnTo>
                <a:lnTo>
                  <a:pt x="498324" y="0"/>
                </a:lnTo>
                <a:cubicBezTo>
                  <a:pt x="630488" y="0"/>
                  <a:pt x="757238" y="52502"/>
                  <a:pt x="850692" y="145956"/>
                </a:cubicBezTo>
                <a:cubicBezTo>
                  <a:pt x="944146" y="239410"/>
                  <a:pt x="996647" y="366161"/>
                  <a:pt x="996647" y="498325"/>
                </a:cubicBezTo>
                <a:cubicBezTo>
                  <a:pt x="1030126" y="1663149"/>
                  <a:pt x="1037566" y="5867764"/>
                  <a:pt x="1040884" y="7134813"/>
                </a:cubicBezTo>
              </a:path>
            </a:pathLst>
          </a:custGeom>
          <a:solidFill>
            <a:srgbClr val="1b3861">
              <a:alpha val="60000"/>
            </a:srgbClr>
          </a:solidFill>
          <a:ln w="31680">
            <a:solidFill>
              <a:srgbClr val="38abed">
                <a:alpha val="6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pic>
        <p:nvPicPr>
          <p:cNvPr id="199" name="Picture 33" descr="TitleSlideOverlay.png"/>
          <p:cNvPicPr/>
          <p:nvPr/>
        </p:nvPicPr>
        <p:blipFill>
          <a:blip r:embed="rId3"/>
          <a:stretch/>
        </p:blipFill>
        <p:spPr>
          <a:xfrm>
            <a:off x="0" y="0"/>
            <a:ext cx="9144000" cy="6858000"/>
          </a:xfrm>
          <a:prstGeom prst="rect">
            <a:avLst/>
          </a:prstGeom>
          <a:ln w="0">
            <a:noFill/>
          </a:ln>
        </p:spPr>
      </p:pic>
      <p:grpSp>
        <p:nvGrpSpPr>
          <p:cNvPr id="200" name="Group 34"/>
          <p:cNvGrpSpPr/>
          <p:nvPr/>
        </p:nvGrpSpPr>
        <p:grpSpPr>
          <a:xfrm>
            <a:off x="784080" y="-1220760"/>
            <a:ext cx="5811840" cy="2952720"/>
            <a:chOff x="784080" y="-1220760"/>
            <a:chExt cx="5811840" cy="2952720"/>
          </a:xfrm>
        </p:grpSpPr>
        <p:sp>
          <p:nvSpPr>
            <p:cNvPr id="201" name="Oval 35"/>
            <p:cNvSpPr/>
            <p:nvPr/>
          </p:nvSpPr>
          <p:spPr>
            <a:xfrm>
              <a:off x="2382840" y="1122480"/>
              <a:ext cx="609480" cy="6094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02" name="Oval 36"/>
            <p:cNvSpPr/>
            <p:nvPr/>
          </p:nvSpPr>
          <p:spPr>
            <a:xfrm>
              <a:off x="285588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03" name="Oval 37"/>
            <p:cNvSpPr/>
            <p:nvPr/>
          </p:nvSpPr>
          <p:spPr>
            <a:xfrm>
              <a:off x="1947600" y="46080"/>
              <a:ext cx="1023840" cy="868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04" name="Pie 38"/>
            <p:cNvSpPr/>
            <p:nvPr/>
          </p:nvSpPr>
          <p:spPr>
            <a:xfrm>
              <a:off x="1218960" y="-765000"/>
              <a:ext cx="3505320" cy="1520640"/>
            </a:xfrm>
            <a:custGeom>
              <a:avLst/>
              <a:gdLst/>
              <a:ahLst/>
              <a:rect l="l" t="t" r="r" b="b"/>
              <a:pathLst>
                <a:path w="3504811" h="1520823">
                  <a:moveTo>
                    <a:pt x="3504605" y="772070"/>
                  </a:moveTo>
                  <a:cubicBezTo>
                    <a:pt x="3489910" y="1187902"/>
                    <a:pt x="2708082" y="1521472"/>
                    <a:pt x="1749667" y="1520822"/>
                  </a:cubicBezTo>
                  <a:cubicBezTo>
                    <a:pt x="782047" y="1520166"/>
                    <a:pt x="-1220" y="1179326"/>
                    <a:pt x="0" y="759452"/>
                  </a:cubicBezTo>
                  <a:lnTo>
                    <a:pt x="1752406" y="760412"/>
                  </a:lnTo>
                  <a:lnTo>
                    <a:pt x="3504605" y="77207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05" name="Oval 39"/>
            <p:cNvSpPr/>
            <p:nvPr/>
          </p:nvSpPr>
          <p:spPr>
            <a:xfrm>
              <a:off x="2344680" y="141480"/>
              <a:ext cx="1023840" cy="95256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06" name="Arc 40"/>
            <p:cNvSpPr/>
            <p:nvPr/>
          </p:nvSpPr>
          <p:spPr>
            <a:xfrm rot="12470400">
              <a:off x="1177560" y="-177480"/>
              <a:ext cx="1133280" cy="831600"/>
            </a:xfrm>
            <a:custGeom>
              <a:avLst/>
              <a:gdLst/>
              <a:ahLst/>
              <a:rect l="l" t="t" r="r" b="b"/>
              <a:pathLst>
                <a:path stroke="0" w="1133349" h="831849">
                  <a:moveTo>
                    <a:pt x="4015" y="366498"/>
                  </a:moveTo>
                  <a:cubicBezTo>
                    <a:pt x="37923" y="158552"/>
                    <a:pt x="277195" y="1544"/>
                    <a:pt x="562525" y="11"/>
                  </a:cubicBezTo>
                  <a:cubicBezTo>
                    <a:pt x="845199" y="-1508"/>
                    <a:pt x="1086166" y="150110"/>
                    <a:pt x="1127314" y="355382"/>
                  </a:cubicBezTo>
                  <a:lnTo>
                    <a:pt x="566675" y="415925"/>
                  </a:lnTo>
                  <a:lnTo>
                    <a:pt x="4015" y="366498"/>
                  </a:lnTo>
                  <a:close/>
                </a:path>
                <a:path fill="none" w="1133349" h="831849">
                  <a:moveTo>
                    <a:pt x="4015" y="366498"/>
                  </a:moveTo>
                  <a:cubicBezTo>
                    <a:pt x="37923" y="158552"/>
                    <a:pt x="277195" y="1544"/>
                    <a:pt x="562525" y="11"/>
                  </a:cubicBezTo>
                  <a:cubicBezTo>
                    <a:pt x="845199" y="-1508"/>
                    <a:pt x="1086166" y="150110"/>
                    <a:pt x="1127314" y="355382"/>
                  </a:cubicBezTo>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07" name="Pie 41"/>
            <p:cNvSpPr/>
            <p:nvPr/>
          </p:nvSpPr>
          <p:spPr>
            <a:xfrm rot="60000">
              <a:off x="786960" y="-197640"/>
              <a:ext cx="380880" cy="380880"/>
            </a:xfrm>
            <a:custGeom>
              <a:avLst/>
              <a:gdLst/>
              <a:ahLst/>
              <a:rect l="l" t="t" r="r" b="b"/>
              <a:pathLst>
                <a:path w="380958" h="381000">
                  <a:moveTo>
                    <a:pt x="380958" y="190416"/>
                  </a:moveTo>
                  <a:cubicBezTo>
                    <a:pt x="381004" y="293854"/>
                    <a:pt x="298508" y="378428"/>
                    <a:pt x="195112" y="380944"/>
                  </a:cubicBezTo>
                  <a:cubicBezTo>
                    <a:pt x="91715" y="383460"/>
                    <a:pt x="5204" y="302997"/>
                    <a:pt x="221" y="199679"/>
                  </a:cubicBezTo>
                  <a:lnTo>
                    <a:pt x="190479" y="190500"/>
                  </a:lnTo>
                  <a:lnTo>
                    <a:pt x="380958" y="190416"/>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08" name="Arc 42"/>
            <p:cNvSpPr/>
            <p:nvPr/>
          </p:nvSpPr>
          <p:spPr>
            <a:xfrm rot="6387000">
              <a:off x="4862160" y="-838800"/>
              <a:ext cx="1452600" cy="1671480"/>
            </a:xfrm>
            <a:custGeom>
              <a:avLst/>
              <a:gdLst/>
              <a:ahLst/>
              <a:rect l="l" t="t" r="r" b="b"/>
              <a:pathLst>
                <a:path stroke="0" w="1452561" h="1671452">
                  <a:moveTo>
                    <a:pt x="492890" y="44327"/>
                  </a:moveTo>
                  <a:cubicBezTo>
                    <a:pt x="765979" y="-62311"/>
                    <a:pt x="1068027" y="27076"/>
                    <a:pt x="1262522" y="272089"/>
                  </a:cubicBezTo>
                  <a:cubicBezTo>
                    <a:pt x="1420111" y="470609"/>
                    <a:pt x="1485070" y="744251"/>
                    <a:pt x="1437074" y="1007392"/>
                  </a:cubicBezTo>
                  <a:cubicBezTo>
                    <a:pt x="1384318" y="1296629"/>
                    <a:pt x="1202728" y="1532297"/>
                    <a:pt x="959493" y="1627196"/>
                  </a:cubicBezTo>
                  <a:lnTo>
                    <a:pt x="726281" y="835726"/>
                  </a:lnTo>
                  <a:lnTo>
                    <a:pt x="492890" y="44327"/>
                  </a:lnTo>
                  <a:close/>
                </a:path>
                <a:path fill="none" w="1452561" h="1671452">
                  <a:moveTo>
                    <a:pt x="492890" y="44327"/>
                  </a:moveTo>
                  <a:cubicBezTo>
                    <a:pt x="765979" y="-62311"/>
                    <a:pt x="1068027" y="27076"/>
                    <a:pt x="1262522" y="272089"/>
                  </a:cubicBezTo>
                  <a:cubicBezTo>
                    <a:pt x="1420111" y="470609"/>
                    <a:pt x="1485070" y="744251"/>
                    <a:pt x="1437074" y="1007392"/>
                  </a:cubicBezTo>
                  <a:cubicBezTo>
                    <a:pt x="1384318" y="1296629"/>
                    <a:pt x="1202728" y="1532297"/>
                    <a:pt x="959493" y="1627196"/>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09" name="Oval 43"/>
            <p:cNvSpPr/>
            <p:nvPr/>
          </p:nvSpPr>
          <p:spPr>
            <a:xfrm>
              <a:off x="5362560" y="461880"/>
              <a:ext cx="757080" cy="642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0" name="Oval 44"/>
            <p:cNvSpPr/>
            <p:nvPr/>
          </p:nvSpPr>
          <p:spPr>
            <a:xfrm>
              <a:off x="4800600" y="152280"/>
              <a:ext cx="757080" cy="64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1" name="Arc 45"/>
            <p:cNvSpPr/>
            <p:nvPr/>
          </p:nvSpPr>
          <p:spPr>
            <a:xfrm rot="6387000">
              <a:off x="3395520" y="-1039680"/>
              <a:ext cx="1906560" cy="2046240"/>
            </a:xfrm>
            <a:custGeom>
              <a:avLst/>
              <a:gdLst/>
              <a:ahLst/>
              <a:rect l="l" t="t" r="r" b="b"/>
              <a:pathLst>
                <a:path stroke="0" w="1906585" h="2046060">
                  <a:moveTo>
                    <a:pt x="673803" y="44956"/>
                  </a:moveTo>
                  <a:cubicBezTo>
                    <a:pt x="1186853" y="-123885"/>
                    <a:pt x="1728613" y="194809"/>
                    <a:pt x="1871950" y="749773"/>
                  </a:cubicBezTo>
                  <a:cubicBezTo>
                    <a:pt x="2007629" y="1275088"/>
                    <a:pt x="1735648" y="1822304"/>
                    <a:pt x="1253539" y="1993994"/>
                  </a:cubicBezTo>
                  <a:lnTo>
                    <a:pt x="953293" y="1023030"/>
                  </a:lnTo>
                  <a:lnTo>
                    <a:pt x="673803" y="44956"/>
                  </a:lnTo>
                  <a:close/>
                </a:path>
                <a:path fill="none" w="1906585" h="2046060">
                  <a:moveTo>
                    <a:pt x="673803" y="44956"/>
                  </a:moveTo>
                  <a:cubicBezTo>
                    <a:pt x="1186853" y="-123885"/>
                    <a:pt x="1728613" y="194809"/>
                    <a:pt x="1871950" y="749773"/>
                  </a:cubicBezTo>
                  <a:cubicBezTo>
                    <a:pt x="2007629" y="1275088"/>
                    <a:pt x="1735648" y="1822304"/>
                    <a:pt x="1253539" y="1993994"/>
                  </a:cubicBezTo>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2" name="Oval 46"/>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3" name="Oval 47"/>
            <p:cNvSpPr/>
            <p:nvPr/>
          </p:nvSpPr>
          <p:spPr>
            <a:xfrm>
              <a:off x="619128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214" name="Freeform 48"/>
          <p:cNvSpPr/>
          <p:nvPr/>
        </p:nvSpPr>
        <p:spPr>
          <a:xfrm rot="15660000">
            <a:off x="5752080" y="67320"/>
            <a:ext cx="968400" cy="6031080"/>
          </a:xfrm>
          <a:custGeom>
            <a:avLst/>
            <a:gdLst/>
            <a:ahLst/>
            <a:rect l="l" t="t" r="r" b="b"/>
            <a:pathLst>
              <a:path w="962833" h="6320186">
                <a:moveTo>
                  <a:pt x="0" y="6172200"/>
                </a:moveTo>
                <a:lnTo>
                  <a:pt x="0" y="6172200"/>
                </a:lnTo>
                <a:lnTo>
                  <a:pt x="0" y="6172200"/>
                </a:lnTo>
                <a:lnTo>
                  <a:pt x="0" y="457200"/>
                </a:ln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70354" y="4525828"/>
                  <a:pt x="962833" y="6320186"/>
                </a:cubicBezTo>
              </a:path>
            </a:pathLst>
          </a:custGeom>
          <a:solidFill>
            <a:srgbClr val="afddf8">
              <a:alpha val="8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5" name="Freeform 49"/>
          <p:cNvSpPr/>
          <p:nvPr/>
        </p:nvSpPr>
        <p:spPr>
          <a:xfrm rot="15669000">
            <a:off x="4038480" y="-17280"/>
            <a:ext cx="1789200" cy="8821800"/>
          </a:xfrm>
          <a:custGeom>
            <a:avLst/>
            <a:gdLst/>
            <a:ahLst/>
            <a:rect l="l" t="t" r="r" b="b"/>
            <a:pathLst>
              <a:path w="2209695" h="9154402">
                <a:moveTo>
                  <a:pt x="70836" y="8848823"/>
                </a:moveTo>
                <a:lnTo>
                  <a:pt x="0" y="1104848"/>
                </a:lnTo>
                <a:cubicBezTo>
                  <a:pt x="0" y="811824"/>
                  <a:pt x="116404" y="530802"/>
                  <a:pt x="323604" y="323603"/>
                </a:cubicBezTo>
                <a:cubicBezTo>
                  <a:pt x="530804" y="116404"/>
                  <a:pt x="811826" y="1"/>
                  <a:pt x="1104850" y="2"/>
                </a:cubicBezTo>
                <a:lnTo>
                  <a:pt x="1104848" y="0"/>
                </a:lnTo>
                <a:lnTo>
                  <a:pt x="1104848" y="0"/>
                </a:lnTo>
                <a:cubicBezTo>
                  <a:pt x="1397872" y="0"/>
                  <a:pt x="1678894" y="116404"/>
                  <a:pt x="1886093" y="323604"/>
                </a:cubicBezTo>
                <a:cubicBezTo>
                  <a:pt x="2093292" y="530804"/>
                  <a:pt x="2209695" y="811826"/>
                  <a:pt x="2209694" y="1104850"/>
                </a:cubicBezTo>
                <a:cubicBezTo>
                  <a:pt x="2209694" y="3788034"/>
                  <a:pt x="2209695" y="6471218"/>
                  <a:pt x="2209695" y="9154402"/>
                </a:cubicBezTo>
                <a:lnTo>
                  <a:pt x="2209695" y="9154402"/>
                </a:lnTo>
              </a:path>
            </a:pathLst>
          </a:custGeom>
          <a:solidFill>
            <a:srgbClr val="073779">
              <a:alpha val="30000"/>
            </a:srgbClr>
          </a:solidFill>
          <a:ln w="25560">
            <a:solidFill>
              <a:srgbClr val="ddf53d">
                <a:alpha val="3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6" name="Freeform 50"/>
          <p:cNvSpPr/>
          <p:nvPr/>
        </p:nvSpPr>
        <p:spPr>
          <a:xfrm rot="15660000">
            <a:off x="6128640" y="621720"/>
            <a:ext cx="931680" cy="5295600"/>
          </a:xfrm>
          <a:custGeom>
            <a:avLst/>
            <a:gdLst/>
            <a:ahLst/>
            <a:rect l="l" t="t" r="r" b="b"/>
            <a:pathLst>
              <a:path w="962833" h="6320186">
                <a:moveTo>
                  <a:pt x="0" y="6172200"/>
                </a:moveTo>
                <a:lnTo>
                  <a:pt x="0" y="6172200"/>
                </a:lnTo>
                <a:lnTo>
                  <a:pt x="0" y="6172200"/>
                </a:lnTo>
                <a:lnTo>
                  <a:pt x="0" y="457200"/>
                </a:ln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70354" y="4525828"/>
                  <a:pt x="962833" y="6320186"/>
                </a:cubicBezTo>
              </a:path>
            </a:pathLst>
          </a:custGeom>
          <a:solidFill>
            <a:srgbClr val="1b3861">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7" name="Freeform 51"/>
          <p:cNvSpPr/>
          <p:nvPr/>
        </p:nvSpPr>
        <p:spPr>
          <a:xfrm rot="15660000">
            <a:off x="5624280" y="77400"/>
            <a:ext cx="961920" cy="6321600"/>
          </a:xfrm>
          <a:custGeom>
            <a:avLst/>
            <a:gdLst/>
            <a:ahLst/>
            <a:rect l="l" t="t" r="r" b="b"/>
            <a:pathLst>
              <a:path w="962833" h="6320186">
                <a:moveTo>
                  <a:pt x="0" y="6172200"/>
                </a:moveTo>
                <a:lnTo>
                  <a:pt x="0" y="6172200"/>
                </a:lnTo>
                <a:lnTo>
                  <a:pt x="0" y="6172200"/>
                </a:lnTo>
                <a:lnTo>
                  <a:pt x="0" y="457200"/>
                </a:ln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70354" y="4525828"/>
                  <a:pt x="962833" y="6320186"/>
                </a:cubicBezTo>
              </a:path>
            </a:pathLst>
          </a:custGeom>
          <a:solidFill>
            <a:srgbClr val="073779">
              <a:alpha val="50000"/>
            </a:srgbClr>
          </a:solidFill>
          <a:ln w="25560">
            <a:solidFill>
              <a:srgbClr val="ddf53d">
                <a:alpha val="5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8" name="Freeform 52"/>
          <p:cNvSpPr/>
          <p:nvPr/>
        </p:nvSpPr>
        <p:spPr>
          <a:xfrm rot="15660000">
            <a:off x="6395040" y="411840"/>
            <a:ext cx="552240" cy="5103720"/>
          </a:xfrm>
          <a:custGeom>
            <a:avLst/>
            <a:gdLst/>
            <a:ahLst/>
            <a:rect l="l" t="t" r="r" b="b"/>
            <a:pathLst>
              <a:path w="552099" h="5109912">
                <a:moveTo>
                  <a:pt x="0" y="5016061"/>
                </a:moveTo>
                <a:lnTo>
                  <a:pt x="0" y="5016061"/>
                </a:lnTo>
                <a:lnTo>
                  <a:pt x="0" y="251460"/>
                </a:lnTo>
                <a:cubicBezTo>
                  <a:pt x="0" y="184769"/>
                  <a:pt x="26493" y="120809"/>
                  <a:pt x="73651" y="73651"/>
                </a:cubicBezTo>
                <a:cubicBezTo>
                  <a:pt x="120809" y="26493"/>
                  <a:pt x="184769" y="0"/>
                  <a:pt x="251460" y="0"/>
                </a:cubicBezTo>
                <a:lnTo>
                  <a:pt x="251460" y="0"/>
                </a:lnTo>
                <a:cubicBezTo>
                  <a:pt x="318151" y="0"/>
                  <a:pt x="382111" y="26493"/>
                  <a:pt x="429269" y="73651"/>
                </a:cubicBezTo>
                <a:cubicBezTo>
                  <a:pt x="476427" y="120809"/>
                  <a:pt x="502920" y="184769"/>
                  <a:pt x="502920" y="251460"/>
                </a:cubicBezTo>
                <a:cubicBezTo>
                  <a:pt x="528237" y="1864408"/>
                  <a:pt x="536054" y="5039297"/>
                  <a:pt x="552099" y="5109912"/>
                </a:cubicBezTo>
              </a:path>
            </a:pathLst>
          </a:custGeom>
          <a:solidFill>
            <a:srgbClr val="0c5986">
              <a:alpha val="30000"/>
            </a:srgbClr>
          </a:solidFill>
          <a:ln w="57240">
            <a:solidFill>
              <a:srgbClr val="ddf53d"/>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9" name="Freeform 53"/>
          <p:cNvSpPr/>
          <p:nvPr/>
        </p:nvSpPr>
        <p:spPr>
          <a:xfrm rot="15660000">
            <a:off x="7468920" y="1865160"/>
            <a:ext cx="528480" cy="2947680"/>
          </a:xfrm>
          <a:custGeom>
            <a:avLst/>
            <a:gdLst/>
            <a:ahLst/>
            <a:rect l="l" t="t" r="r" b="b"/>
            <a:pathLst>
              <a:path w="528237" h="2951509">
                <a:moveTo>
                  <a:pt x="328" y="2862849"/>
                </a:moveTo>
                <a:cubicBezTo>
                  <a:pt x="219" y="1992386"/>
                  <a:pt x="109" y="1121923"/>
                  <a:pt x="0" y="251460"/>
                </a:cubicBezTo>
                <a:cubicBezTo>
                  <a:pt x="0" y="184769"/>
                  <a:pt x="26493" y="120809"/>
                  <a:pt x="73651" y="73651"/>
                </a:cubicBezTo>
                <a:cubicBezTo>
                  <a:pt x="120809" y="26493"/>
                  <a:pt x="184769" y="0"/>
                  <a:pt x="251460" y="0"/>
                </a:cubicBezTo>
                <a:lnTo>
                  <a:pt x="251460" y="0"/>
                </a:lnTo>
                <a:cubicBezTo>
                  <a:pt x="318151" y="0"/>
                  <a:pt x="382111" y="26493"/>
                  <a:pt x="429269" y="73651"/>
                </a:cubicBezTo>
                <a:cubicBezTo>
                  <a:pt x="476427" y="120809"/>
                  <a:pt x="502920" y="184769"/>
                  <a:pt x="502920" y="251460"/>
                </a:cubicBezTo>
                <a:cubicBezTo>
                  <a:pt x="528237" y="1864408"/>
                  <a:pt x="505702" y="918020"/>
                  <a:pt x="524305" y="2951509"/>
                </a:cubicBezTo>
              </a:path>
            </a:pathLst>
          </a:custGeom>
          <a:solidFill>
            <a:srgbClr val="0c5986"/>
          </a:solidFill>
          <a:ln w="57240">
            <a:solidFill>
              <a:srgbClr val="ddf53d"/>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20" name="Rectangle 54"/>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2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9" name="Picture 32" descr="SectionHeaderOverlay.png"/>
          <p:cNvPicPr/>
          <p:nvPr/>
        </p:nvPicPr>
        <p:blipFill>
          <a:blip r:embed="rId3"/>
          <a:stretch/>
        </p:blipFill>
        <p:spPr>
          <a:xfrm>
            <a:off x="0" y="0"/>
            <a:ext cx="9144000" cy="6858000"/>
          </a:xfrm>
          <a:prstGeom prst="rect">
            <a:avLst/>
          </a:prstGeom>
          <a:ln w="0">
            <a:noFill/>
          </a:ln>
        </p:spPr>
      </p:pic>
      <p:sp>
        <p:nvSpPr>
          <p:cNvPr id="260" name="Freeform 33"/>
          <p:cNvSpPr/>
          <p:nvPr/>
        </p:nvSpPr>
        <p:spPr>
          <a:xfrm rot="4810200">
            <a:off x="3407760" y="1817640"/>
            <a:ext cx="1100160" cy="8103960"/>
          </a:xfrm>
          <a:custGeom>
            <a:avLst/>
            <a:gdLst/>
            <a:ahLst/>
            <a:rect l="l" t="t" r="r" b="b"/>
            <a:pathLst>
              <a:path w="1100209" h="8104720">
                <a:moveTo>
                  <a:pt x="533400" y="0"/>
                </a:moveTo>
                <a:lnTo>
                  <a:pt x="533400" y="0"/>
                </a:lnTo>
                <a:cubicBezTo>
                  <a:pt x="674867" y="0"/>
                  <a:pt x="810539" y="56198"/>
                  <a:pt x="910571" y="156230"/>
                </a:cubicBezTo>
                <a:cubicBezTo>
                  <a:pt x="1010603" y="256262"/>
                  <a:pt x="1055019" y="390601"/>
                  <a:pt x="1066800" y="533401"/>
                </a:cubicBezTo>
                <a:cubicBezTo>
                  <a:pt x="1066437" y="2679490"/>
                  <a:pt x="1093715" y="6711917"/>
                  <a:pt x="1100209" y="6755640"/>
                </a:cubicBezTo>
                <a:lnTo>
                  <a:pt x="848624" y="8104720"/>
                </a:lnTo>
                <a:lnTo>
                  <a:pt x="17782" y="7974865"/>
                </a:lnTo>
                <a:cubicBezTo>
                  <a:pt x="11855" y="5494377"/>
                  <a:pt x="5927" y="3013888"/>
                  <a:pt x="0" y="533400"/>
                </a:cubicBezTo>
                <a:cubicBezTo>
                  <a:pt x="0" y="391933"/>
                  <a:pt x="56198" y="256261"/>
                  <a:pt x="156230" y="156229"/>
                </a:cubicBezTo>
                <a:cubicBezTo>
                  <a:pt x="256262" y="56197"/>
                  <a:pt x="391935" y="0"/>
                  <a:pt x="533401" y="0"/>
                </a:cubicBezTo>
                <a:lnTo>
                  <a:pt x="533400" y="0"/>
                </a:lnTo>
                <a:close/>
              </a:path>
            </a:pathLst>
          </a:custGeom>
          <a:solidFill>
            <a:srgbClr val="0c5986">
              <a:alpha val="30000"/>
            </a:srgbClr>
          </a:solidFill>
          <a:ln w="31680">
            <a:solidFill>
              <a:srgbClr val="ddf53d">
                <a:alpha val="3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61" name="Freeform 34"/>
          <p:cNvSpPr/>
          <p:nvPr/>
        </p:nvSpPr>
        <p:spPr>
          <a:xfrm flipH="1" flipV="1" rot="15600000">
            <a:off x="3393000" y="-446400"/>
            <a:ext cx="2008440" cy="9264960"/>
          </a:xfrm>
          <a:custGeom>
            <a:avLst/>
            <a:gdLst/>
            <a:ahLst/>
            <a:rect l="l" t="t" r="r" b="b"/>
            <a:pathLst>
              <a:path w="2209695" h="9154402">
                <a:moveTo>
                  <a:pt x="93577" y="8811781"/>
                </a:moveTo>
                <a:lnTo>
                  <a:pt x="0" y="1104848"/>
                </a:lnTo>
                <a:cubicBezTo>
                  <a:pt x="0" y="811824"/>
                  <a:pt x="116404" y="530802"/>
                  <a:pt x="323604" y="323603"/>
                </a:cubicBezTo>
                <a:cubicBezTo>
                  <a:pt x="530804" y="116404"/>
                  <a:pt x="811826" y="1"/>
                  <a:pt x="1104850" y="2"/>
                </a:cubicBezTo>
                <a:lnTo>
                  <a:pt x="1104848" y="0"/>
                </a:lnTo>
                <a:lnTo>
                  <a:pt x="1104848" y="0"/>
                </a:lnTo>
                <a:cubicBezTo>
                  <a:pt x="1397872" y="0"/>
                  <a:pt x="1678894" y="116404"/>
                  <a:pt x="1886093" y="323604"/>
                </a:cubicBezTo>
                <a:cubicBezTo>
                  <a:pt x="2093292" y="530804"/>
                  <a:pt x="2209695" y="811826"/>
                  <a:pt x="2209694" y="1104850"/>
                </a:cubicBezTo>
                <a:cubicBezTo>
                  <a:pt x="2209694" y="3788034"/>
                  <a:pt x="2209695" y="6471218"/>
                  <a:pt x="2209695" y="9154402"/>
                </a:cubicBezTo>
                <a:lnTo>
                  <a:pt x="2209695" y="9154402"/>
                </a:lnTo>
              </a:path>
            </a:pathLst>
          </a:custGeom>
          <a:solidFill>
            <a:srgbClr val="073779">
              <a:alpha val="80000"/>
            </a:srgbClr>
          </a:solidFill>
          <a:ln w="25560">
            <a:solidFill>
              <a:srgbClr val="ddf53d">
                <a:alpha val="6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nvGrpSpPr>
          <p:cNvPr id="262" name="Group 35"/>
          <p:cNvGrpSpPr/>
          <p:nvPr/>
        </p:nvGrpSpPr>
        <p:grpSpPr>
          <a:xfrm>
            <a:off x="2741400" y="-1206000"/>
            <a:ext cx="4668840" cy="2958480"/>
            <a:chOff x="2741400" y="-1206000"/>
            <a:chExt cx="4668840" cy="2958480"/>
          </a:xfrm>
        </p:grpSpPr>
        <p:sp>
          <p:nvSpPr>
            <p:cNvPr id="263" name="Oval 36"/>
            <p:cNvSpPr/>
            <p:nvPr/>
          </p:nvSpPr>
          <p:spPr>
            <a:xfrm>
              <a:off x="4495680" y="1143000"/>
              <a:ext cx="609480" cy="6094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nvGrpSpPr>
            <p:cNvPr id="264" name="Group 37"/>
            <p:cNvGrpSpPr/>
            <p:nvPr/>
          </p:nvGrpSpPr>
          <p:grpSpPr>
            <a:xfrm>
              <a:off x="2741400" y="-932040"/>
              <a:ext cx="2014560" cy="1892160"/>
              <a:chOff x="2741400" y="-932040"/>
              <a:chExt cx="2014560" cy="1892160"/>
            </a:xfrm>
          </p:grpSpPr>
          <p:sp>
            <p:nvSpPr>
              <p:cNvPr id="265" name="Arc 45"/>
              <p:cNvSpPr/>
              <p:nvPr/>
            </p:nvSpPr>
            <p:spPr>
              <a:xfrm flipH="1" rot="15213000">
                <a:off x="3022560" y="-834840"/>
                <a:ext cx="1452240" cy="1671840"/>
              </a:xfrm>
              <a:custGeom>
                <a:avLst/>
                <a:gdLst/>
                <a:ahLst/>
                <a:rect l="l" t="t" r="r" b="b"/>
                <a:pathLst>
                  <a:path stroke="0" w="1452860" h="1671082">
                    <a:moveTo>
                      <a:pt x="485387" y="47339"/>
                    </a:moveTo>
                    <a:cubicBezTo>
                      <a:pt x="759333" y="-63495"/>
                      <a:pt x="1064346" y="23980"/>
                      <a:pt x="1260984" y="269772"/>
                    </a:cubicBezTo>
                    <a:cubicBezTo>
                      <a:pt x="1420359" y="468986"/>
                      <a:pt x="1485941" y="744670"/>
                      <a:pt x="1436949" y="1009462"/>
                    </a:cubicBezTo>
                    <a:cubicBezTo>
                      <a:pt x="1383038" y="1300836"/>
                      <a:pt x="1198329" y="1537157"/>
                      <a:pt x="952153" y="1629722"/>
                    </a:cubicBezTo>
                    <a:lnTo>
                      <a:pt x="726430" y="835541"/>
                    </a:lnTo>
                    <a:lnTo>
                      <a:pt x="485387" y="47339"/>
                    </a:lnTo>
                    <a:close/>
                  </a:path>
                  <a:path fill="none" w="1452860" h="1671082">
                    <a:moveTo>
                      <a:pt x="485387" y="47339"/>
                    </a:moveTo>
                    <a:cubicBezTo>
                      <a:pt x="759333" y="-63495"/>
                      <a:pt x="1064346" y="23980"/>
                      <a:pt x="1260984" y="269772"/>
                    </a:cubicBezTo>
                    <a:cubicBezTo>
                      <a:pt x="1420359" y="468986"/>
                      <a:pt x="1485941" y="744670"/>
                      <a:pt x="1436949" y="1009462"/>
                    </a:cubicBezTo>
                    <a:cubicBezTo>
                      <a:pt x="1383038" y="1300836"/>
                      <a:pt x="1198329" y="1537157"/>
                      <a:pt x="952153" y="162972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66" name="Oval 46"/>
              <p:cNvSpPr/>
              <p:nvPr/>
            </p:nvSpPr>
            <p:spPr>
              <a:xfrm flipH="1">
                <a:off x="3217680" y="317520"/>
                <a:ext cx="757440" cy="642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67" name="Oval 47"/>
              <p:cNvSpPr/>
              <p:nvPr/>
            </p:nvSpPr>
            <p:spPr>
              <a:xfrm flipH="1">
                <a:off x="3781080" y="156960"/>
                <a:ext cx="755640" cy="64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grpSp>
          <p:nvGrpSpPr>
            <p:cNvPr id="268" name="Group 38"/>
            <p:cNvGrpSpPr/>
            <p:nvPr/>
          </p:nvGrpSpPr>
          <p:grpSpPr>
            <a:xfrm>
              <a:off x="3217680" y="-1206000"/>
              <a:ext cx="4192560" cy="2355840"/>
              <a:chOff x="3217680" y="-1206000"/>
              <a:chExt cx="4192560" cy="2355840"/>
            </a:xfrm>
          </p:grpSpPr>
          <p:sp>
            <p:nvSpPr>
              <p:cNvPr id="269" name="Pie 41"/>
              <p:cNvSpPr/>
              <p:nvPr/>
            </p:nvSpPr>
            <p:spPr>
              <a:xfrm>
                <a:off x="3388320" y="-776160"/>
                <a:ext cx="3198240" cy="1521000"/>
              </a:xfrm>
              <a:custGeom>
                <a:avLst/>
                <a:gdLst/>
                <a:ahLst/>
                <a:rect l="l" t="t" r="r" b="b"/>
                <a:pathLst>
                  <a:path w="3504392" h="1521138">
                    <a:moveTo>
                      <a:pt x="3504186" y="772227"/>
                    </a:moveTo>
                    <a:cubicBezTo>
                      <a:pt x="3489508" y="1187854"/>
                      <a:pt x="2708818" y="1521378"/>
                      <a:pt x="1751186" y="1521138"/>
                    </a:cubicBezTo>
                    <a:cubicBezTo>
                      <a:pt x="790164" y="1520898"/>
                      <a:pt x="8924" y="1184702"/>
                      <a:pt x="74" y="767573"/>
                    </a:cubicBezTo>
                    <a:lnTo>
                      <a:pt x="1752196" y="760569"/>
                    </a:lnTo>
                    <a:lnTo>
                      <a:pt x="3504186" y="772227"/>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70" name="Oval 42"/>
              <p:cNvSpPr/>
              <p:nvPr/>
            </p:nvSpPr>
            <p:spPr>
              <a:xfrm>
                <a:off x="4415760" y="130320"/>
                <a:ext cx="933480" cy="95256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71" name="Arc 43"/>
              <p:cNvSpPr/>
              <p:nvPr/>
            </p:nvSpPr>
            <p:spPr>
              <a:xfrm rot="12470400">
                <a:off x="3351600" y="-188280"/>
                <a:ext cx="1033560" cy="830160"/>
              </a:xfrm>
              <a:custGeom>
                <a:avLst/>
                <a:gdLst/>
                <a:ahLst/>
                <a:rect l="l" t="t" r="r" b="b"/>
                <a:pathLst>
                  <a:path stroke="0" w="1132751" h="830433">
                    <a:moveTo>
                      <a:pt x="4023" y="365817"/>
                    </a:moveTo>
                    <a:cubicBezTo>
                      <a:pt x="37949" y="158249"/>
                      <a:pt x="277083" y="1540"/>
                      <a:pt x="562234" y="11"/>
                    </a:cubicBezTo>
                    <a:cubicBezTo>
                      <a:pt x="844720" y="-1504"/>
                      <a:pt x="1085538" y="149818"/>
                      <a:pt x="1126706" y="354707"/>
                    </a:cubicBezTo>
                    <a:lnTo>
                      <a:pt x="566376" y="415217"/>
                    </a:lnTo>
                    <a:lnTo>
                      <a:pt x="4023" y="365817"/>
                    </a:lnTo>
                    <a:close/>
                  </a:path>
                  <a:path fill="none" w="1132751" h="830433">
                    <a:moveTo>
                      <a:pt x="4023" y="365817"/>
                    </a:moveTo>
                    <a:cubicBezTo>
                      <a:pt x="37949" y="158249"/>
                      <a:pt x="277083" y="1540"/>
                      <a:pt x="562234" y="11"/>
                    </a:cubicBezTo>
                    <a:cubicBezTo>
                      <a:pt x="844720" y="-1504"/>
                      <a:pt x="1085538" y="149818"/>
                      <a:pt x="1126706" y="354707"/>
                    </a:cubicBezTo>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72" name="Arc 44"/>
              <p:cNvSpPr/>
              <p:nvPr/>
            </p:nvSpPr>
            <p:spPr>
              <a:xfrm rot="6387000">
                <a:off x="5292360" y="-961560"/>
                <a:ext cx="1905120" cy="1867320"/>
              </a:xfrm>
              <a:custGeom>
                <a:avLst/>
                <a:gdLst/>
                <a:ahLst/>
                <a:rect l="l" t="t" r="r" b="b"/>
                <a:pathLst>
                  <a:path stroke="0" w="1905390" h="2046259">
                    <a:moveTo>
                      <a:pt x="673195" y="45021"/>
                    </a:moveTo>
                    <a:cubicBezTo>
                      <a:pt x="1186031" y="-123994"/>
                      <a:pt x="1727633" y="194831"/>
                      <a:pt x="1870823" y="750030"/>
                    </a:cubicBezTo>
                    <a:cubicBezTo>
                      <a:pt x="2006286" y="1275270"/>
                      <a:pt x="1734579" y="1822350"/>
                      <a:pt x="1252948" y="1994118"/>
                    </a:cubicBezTo>
                    <a:lnTo>
                      <a:pt x="952695" y="1023130"/>
                    </a:lnTo>
                    <a:lnTo>
                      <a:pt x="673195" y="45021"/>
                    </a:lnTo>
                    <a:close/>
                  </a:path>
                  <a:path fill="none" w="1905390" h="2046259">
                    <a:moveTo>
                      <a:pt x="673195" y="45021"/>
                    </a:moveTo>
                    <a:cubicBezTo>
                      <a:pt x="1186031" y="-123994"/>
                      <a:pt x="1727633" y="194831"/>
                      <a:pt x="1870823" y="750030"/>
                    </a:cubicBezTo>
                    <a:cubicBezTo>
                      <a:pt x="2006286" y="1275270"/>
                      <a:pt x="1734579" y="1822350"/>
                      <a:pt x="1252948" y="1994118"/>
                    </a:cubicBezTo>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273" name="Oval 39"/>
            <p:cNvSpPr/>
            <p:nvPr/>
          </p:nvSpPr>
          <p:spPr>
            <a:xfrm>
              <a:off x="3062160" y="90360"/>
              <a:ext cx="268200" cy="2664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74" name="Chord 40"/>
            <p:cNvSpPr/>
            <p:nvPr/>
          </p:nvSpPr>
          <p:spPr>
            <a:xfrm rot="17618400">
              <a:off x="2809080" y="-84600"/>
              <a:ext cx="182520" cy="228600"/>
            </a:xfrm>
            <a:custGeom>
              <a:avLst/>
              <a:gdLst/>
              <a:ahLst/>
              <a:rect l="l" t="t" r="r" b="b"/>
              <a:pathLst>
                <a:path w="182600" h="228524">
                  <a:moveTo>
                    <a:pt x="162627" y="185589"/>
                  </a:moveTo>
                  <a:cubicBezTo>
                    <a:pt x="132224" y="233208"/>
                    <a:pt x="77306" y="242576"/>
                    <a:pt x="37829" y="206878"/>
                  </a:cubicBezTo>
                  <a:cubicBezTo>
                    <a:pt x="8491" y="180349"/>
                    <a:pt x="-5554" y="134635"/>
                    <a:pt x="2024" y="90341"/>
                  </a:cubicBezTo>
                  <a:cubicBezTo>
                    <a:pt x="11038" y="37649"/>
                    <a:pt x="48243" y="1"/>
                    <a:pt x="91301" y="1"/>
                  </a:cubicBezTo>
                  <a:lnTo>
                    <a:pt x="162627" y="185589"/>
                  </a:lnTo>
                  <a:close/>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275" name="Round Same Side Corner Rectangle 48"/>
          <p:cNvSpPr/>
          <p:nvPr/>
        </p:nvSpPr>
        <p:spPr>
          <a:xfrm rot="4733400">
            <a:off x="1459080" y="2141640"/>
            <a:ext cx="809640" cy="2606400"/>
          </a:xfrm>
          <a:custGeom>
            <a:avLst/>
            <a:gdLst/>
            <a:ahLst/>
            <a:rect l="l" t="t" r="r" b="b"/>
            <a:pathLst>
              <a:path w="809625" h="2606675">
                <a:moveTo>
                  <a:pt x="404813" y="0"/>
                </a:moveTo>
                <a:lnTo>
                  <a:pt x="404813" y="0"/>
                </a:lnTo>
                <a:cubicBezTo>
                  <a:pt x="628385" y="0"/>
                  <a:pt x="809626" y="181241"/>
                  <a:pt x="809626" y="404813"/>
                </a:cubicBezTo>
                <a:cubicBezTo>
                  <a:pt x="809626" y="1138767"/>
                  <a:pt x="809625" y="1872721"/>
                  <a:pt x="809625" y="2606675"/>
                </a:cubicBezTo>
                <a:lnTo>
                  <a:pt x="809625" y="2606675"/>
                </a:lnTo>
                <a:lnTo>
                  <a:pt x="0" y="2606675"/>
                </a:lnTo>
                <a:lnTo>
                  <a:pt x="0" y="2606675"/>
                </a:lnTo>
                <a:lnTo>
                  <a:pt x="0" y="404813"/>
                </a:lnTo>
                <a:cubicBezTo>
                  <a:pt x="0" y="181241"/>
                  <a:pt x="181241" y="0"/>
                  <a:pt x="404813" y="0"/>
                </a:cubicBezTo>
                <a:close/>
              </a:path>
            </a:pathLst>
          </a:custGeom>
          <a:solidFill>
            <a:srgbClr val="0c5986">
              <a:alpha val="65000"/>
            </a:srgbClr>
          </a:solidFill>
          <a:ln w="25560">
            <a:solidFill>
              <a:srgbClr val="ddf53d">
                <a:alpha val="65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76" name="Freeform 49"/>
          <p:cNvSpPr/>
          <p:nvPr/>
        </p:nvSpPr>
        <p:spPr>
          <a:xfrm rot="4733400">
            <a:off x="813600" y="2201760"/>
            <a:ext cx="700200" cy="2513160"/>
          </a:xfrm>
          <a:custGeom>
            <a:avLst/>
            <a:gdLst/>
            <a:ahLst/>
            <a:rect l="l" t="t" r="r" b="b"/>
            <a:pathLst>
              <a:path w="778667" h="2512599">
                <a:moveTo>
                  <a:pt x="0" y="2357093"/>
                </a:moveTo>
                <a:lnTo>
                  <a:pt x="19377" y="370199"/>
                </a:lnTo>
                <a:cubicBezTo>
                  <a:pt x="19377" y="272016"/>
                  <a:pt x="58380" y="177855"/>
                  <a:pt x="127806" y="108429"/>
                </a:cubicBezTo>
                <a:cubicBezTo>
                  <a:pt x="197232" y="39003"/>
                  <a:pt x="291394" y="0"/>
                  <a:pt x="389576" y="1"/>
                </a:cubicBezTo>
                <a:lnTo>
                  <a:pt x="389576" y="0"/>
                </a:lnTo>
                <a:lnTo>
                  <a:pt x="389576" y="0"/>
                </a:lnTo>
                <a:cubicBezTo>
                  <a:pt x="487759" y="0"/>
                  <a:pt x="581920" y="39003"/>
                  <a:pt x="651346" y="108429"/>
                </a:cubicBezTo>
                <a:cubicBezTo>
                  <a:pt x="720772" y="177855"/>
                  <a:pt x="759775" y="272017"/>
                  <a:pt x="759774" y="370199"/>
                </a:cubicBezTo>
                <a:cubicBezTo>
                  <a:pt x="778667" y="770894"/>
                  <a:pt x="763675" y="2066266"/>
                  <a:pt x="764702" y="2512599"/>
                </a:cubicBezTo>
              </a:path>
            </a:pathLst>
          </a:custGeom>
          <a:solidFill>
            <a:srgbClr val="0c5986"/>
          </a:solidFill>
          <a:ln w="127080">
            <a:solidFill>
              <a:srgbClr val="ddf53d"/>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77" name="Freeform 50"/>
          <p:cNvSpPr/>
          <p:nvPr/>
        </p:nvSpPr>
        <p:spPr>
          <a:xfrm rot="4733400">
            <a:off x="390600" y="3357360"/>
            <a:ext cx="379080" cy="1208160"/>
          </a:xfrm>
          <a:custGeom>
            <a:avLst/>
            <a:gdLst/>
            <a:ahLst/>
            <a:rect l="l" t="t" r="r" b="b"/>
            <a:pathLst>
              <a:path w="459179" h="1462129">
                <a:moveTo>
                  <a:pt x="0" y="1379079"/>
                </a:moveTo>
                <a:lnTo>
                  <a:pt x="597" y="229291"/>
                </a:lnTo>
                <a:cubicBezTo>
                  <a:pt x="597" y="168479"/>
                  <a:pt x="24755" y="110158"/>
                  <a:pt x="67755" y="67158"/>
                </a:cubicBezTo>
                <a:cubicBezTo>
                  <a:pt x="110755" y="24158"/>
                  <a:pt x="169077" y="0"/>
                  <a:pt x="229888" y="0"/>
                </a:cubicBezTo>
                <a:lnTo>
                  <a:pt x="229888" y="0"/>
                </a:lnTo>
                <a:cubicBezTo>
                  <a:pt x="290700" y="0"/>
                  <a:pt x="349021" y="24158"/>
                  <a:pt x="392021" y="67158"/>
                </a:cubicBezTo>
                <a:cubicBezTo>
                  <a:pt x="435021" y="110158"/>
                  <a:pt x="459179" y="168480"/>
                  <a:pt x="459179" y="229291"/>
                </a:cubicBezTo>
                <a:lnTo>
                  <a:pt x="448070" y="1462129"/>
                </a:lnTo>
              </a:path>
            </a:pathLst>
          </a:custGeom>
          <a:solidFill>
            <a:srgbClr val="0c5986"/>
          </a:solidFill>
          <a:ln w="63360">
            <a:solidFill>
              <a:srgbClr val="ddf53d"/>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78" name="Rectangle 51"/>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7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80"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7" name="Picture 6" descr="TextSlideOverlay.png"/>
          <p:cNvPicPr/>
          <p:nvPr/>
        </p:nvPicPr>
        <p:blipFill>
          <a:blip r:embed="rId3"/>
          <a:stretch/>
        </p:blipFill>
        <p:spPr>
          <a:xfrm>
            <a:off x="0" y="0"/>
            <a:ext cx="9144000" cy="6858000"/>
          </a:xfrm>
          <a:prstGeom prst="rect">
            <a:avLst/>
          </a:prstGeom>
          <a:ln w="0">
            <a:noFill/>
          </a:ln>
        </p:spPr>
      </p:pic>
      <p:grpSp>
        <p:nvGrpSpPr>
          <p:cNvPr id="318" name="Group 7"/>
          <p:cNvGrpSpPr/>
          <p:nvPr/>
        </p:nvGrpSpPr>
        <p:grpSpPr>
          <a:xfrm>
            <a:off x="-573120" y="-649800"/>
            <a:ext cx="7695360" cy="2026080"/>
            <a:chOff x="-573120" y="-649800"/>
            <a:chExt cx="7695360" cy="2026080"/>
          </a:xfrm>
        </p:grpSpPr>
        <p:grpSp>
          <p:nvGrpSpPr>
            <p:cNvPr id="319" name="Group 32"/>
            <p:cNvGrpSpPr/>
            <p:nvPr/>
          </p:nvGrpSpPr>
          <p:grpSpPr>
            <a:xfrm>
              <a:off x="-263160" y="-649800"/>
              <a:ext cx="7385400" cy="2026080"/>
              <a:chOff x="-263160" y="-649800"/>
              <a:chExt cx="7385400" cy="2026080"/>
            </a:xfrm>
          </p:grpSpPr>
          <p:sp>
            <p:nvSpPr>
              <p:cNvPr id="320"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21"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22"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23"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24"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25"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26"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27"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28"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29"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30"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31"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32"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33"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34"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35"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36"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37"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38"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39"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340"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341"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42"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43" name="Round Same Side Corner Rectangle 32"/>
          <p:cNvSpPr/>
          <p:nvPr/>
        </p:nvSpPr>
        <p:spPr>
          <a:xfrm rot="16200000">
            <a:off x="3974040" y="-2953800"/>
            <a:ext cx="1451160" cy="8888400"/>
          </a:xfrm>
          <a:custGeom>
            <a:avLst/>
            <a:gdLst/>
            <a:ahLst/>
            <a:rect l="l" t="t" r="r" b="b"/>
            <a:pathLst>
              <a:path w="1450975" h="8888412">
                <a:moveTo>
                  <a:pt x="725488" y="0"/>
                </a:moveTo>
                <a:lnTo>
                  <a:pt x="725488" y="0"/>
                </a:lnTo>
                <a:cubicBezTo>
                  <a:pt x="1126164" y="0"/>
                  <a:pt x="1450976" y="324812"/>
                  <a:pt x="1450976" y="725488"/>
                </a:cubicBezTo>
                <a:cubicBezTo>
                  <a:pt x="1450976" y="3446463"/>
                  <a:pt x="1450975" y="6167437"/>
                  <a:pt x="1450975" y="8888412"/>
                </a:cubicBezTo>
                <a:lnTo>
                  <a:pt x="1450975" y="8888412"/>
                </a:lnTo>
                <a:lnTo>
                  <a:pt x="0" y="8888412"/>
                </a:lnTo>
                <a:lnTo>
                  <a:pt x="0" y="8888412"/>
                </a:lnTo>
                <a:lnTo>
                  <a:pt x="0" y="725488"/>
                </a:lnTo>
                <a:cubicBezTo>
                  <a:pt x="0" y="324812"/>
                  <a:pt x="324812" y="0"/>
                  <a:pt x="725488" y="0"/>
                </a:cubicBezTo>
                <a:close/>
              </a:path>
            </a:pathLst>
          </a:custGeom>
          <a:solidFill>
            <a:srgbClr val="073779">
              <a:alpha val="30000"/>
            </a:srgbClr>
          </a:solidFill>
          <a:ln w="25560">
            <a:solidFill>
              <a:srgbClr val="ddf53d">
                <a:alpha val="3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4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34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346" name="PlaceHolder 3"/>
          <p:cNvSpPr>
            <a:spLocks noGrp="1"/>
          </p:cNvSpPr>
          <p:nvPr>
            <p:ph type="dt" idx="7"/>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15FA-2F25-403A-842C-EED79885E048}" type="datetime3">
              <a:rPr b="0" lang="en-US" sz="1000" spc="-1" strike="noStrike">
                <a:solidFill>
                  <a:srgbClr val="ffffff"/>
                </a:solidFill>
                <a:latin typeface="Times New Roman"/>
              </a:rPr>
              <a:t>July 30, 2026</a:t>
            </a:fld>
            <a:endParaRPr b="0" lang="en-US" sz="1000" spc="-1" strike="noStrike">
              <a:solidFill>
                <a:srgbClr val="000000"/>
              </a:solidFill>
              <a:latin typeface="Times New Roman"/>
            </a:endParaRPr>
          </a:p>
        </p:txBody>
      </p:sp>
      <p:sp>
        <p:nvSpPr>
          <p:cNvPr id="347" name="PlaceHolder 4"/>
          <p:cNvSpPr>
            <a:spLocks noGrp="1"/>
          </p:cNvSpPr>
          <p:nvPr>
            <p:ph type="ftr" idx="8"/>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48" name="PlaceHolder 5"/>
          <p:cNvSpPr>
            <a:spLocks noGrp="1"/>
          </p:cNvSpPr>
          <p:nvPr>
            <p:ph type="sldNum" idx="9"/>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7D37D-DB51-4F43-9C2C-97ACE9CBE805}"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5" name="Picture 6" descr="TextSlideOverlay.png"/>
          <p:cNvPicPr/>
          <p:nvPr/>
        </p:nvPicPr>
        <p:blipFill>
          <a:blip r:embed="rId3"/>
          <a:stretch/>
        </p:blipFill>
        <p:spPr>
          <a:xfrm>
            <a:off x="0" y="0"/>
            <a:ext cx="9144000" cy="6858000"/>
          </a:xfrm>
          <a:prstGeom prst="rect">
            <a:avLst/>
          </a:prstGeom>
          <a:ln w="0">
            <a:noFill/>
          </a:ln>
        </p:spPr>
      </p:pic>
      <p:grpSp>
        <p:nvGrpSpPr>
          <p:cNvPr id="386" name="Group 7"/>
          <p:cNvGrpSpPr/>
          <p:nvPr/>
        </p:nvGrpSpPr>
        <p:grpSpPr>
          <a:xfrm>
            <a:off x="-573120" y="-649800"/>
            <a:ext cx="7695360" cy="2026080"/>
            <a:chOff x="-573120" y="-649800"/>
            <a:chExt cx="7695360" cy="2026080"/>
          </a:xfrm>
        </p:grpSpPr>
        <p:grpSp>
          <p:nvGrpSpPr>
            <p:cNvPr id="387" name="Group 32"/>
            <p:cNvGrpSpPr/>
            <p:nvPr/>
          </p:nvGrpSpPr>
          <p:grpSpPr>
            <a:xfrm>
              <a:off x="-263160" y="-649800"/>
              <a:ext cx="7385400" cy="2026080"/>
              <a:chOff x="-263160" y="-649800"/>
              <a:chExt cx="7385400" cy="2026080"/>
            </a:xfrm>
          </p:grpSpPr>
          <p:sp>
            <p:nvSpPr>
              <p:cNvPr id="388"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89"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90"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91"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92"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93"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94"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95"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96"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97"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98"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99"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00"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01"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02"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03"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04"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05"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06"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07"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408"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40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10"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11" name="Round Same Side Corner Rectangle 32"/>
          <p:cNvSpPr/>
          <p:nvPr/>
        </p:nvSpPr>
        <p:spPr>
          <a:xfrm rot="16200000">
            <a:off x="3974400" y="-2346840"/>
            <a:ext cx="1450800" cy="8888400"/>
          </a:xfrm>
          <a:custGeom>
            <a:avLst/>
            <a:gdLst/>
            <a:ahLst/>
            <a:rect l="l" t="t" r="r" b="b"/>
            <a:pathLst>
              <a:path w="1450975" h="8888412">
                <a:moveTo>
                  <a:pt x="725488" y="0"/>
                </a:moveTo>
                <a:lnTo>
                  <a:pt x="725488" y="0"/>
                </a:lnTo>
                <a:cubicBezTo>
                  <a:pt x="1126164" y="0"/>
                  <a:pt x="1450976" y="324812"/>
                  <a:pt x="1450976" y="725488"/>
                </a:cubicBezTo>
                <a:cubicBezTo>
                  <a:pt x="1450976" y="3446463"/>
                  <a:pt x="1450975" y="6167437"/>
                  <a:pt x="1450975" y="8888412"/>
                </a:cubicBezTo>
                <a:lnTo>
                  <a:pt x="1450975" y="8888412"/>
                </a:lnTo>
                <a:lnTo>
                  <a:pt x="0" y="8888412"/>
                </a:lnTo>
                <a:lnTo>
                  <a:pt x="0" y="8888412"/>
                </a:lnTo>
                <a:lnTo>
                  <a:pt x="0" y="725488"/>
                </a:lnTo>
                <a:cubicBezTo>
                  <a:pt x="0" y="324812"/>
                  <a:pt x="324812" y="0"/>
                  <a:pt x="725488" y="0"/>
                </a:cubicBezTo>
                <a:close/>
              </a:path>
            </a:pathLst>
          </a:custGeom>
          <a:solidFill>
            <a:srgbClr val="073779">
              <a:alpha val="30000"/>
            </a:srgbClr>
          </a:solidFill>
          <a:ln w="25560">
            <a:solidFill>
              <a:srgbClr val="ddf53d">
                <a:alpha val="3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13"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14" name="PlaceHolder 3"/>
          <p:cNvSpPr>
            <a:spLocks noGrp="1"/>
          </p:cNvSpPr>
          <p:nvPr>
            <p:ph type="dt" idx="10"/>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1F670-B463-4A9F-9092-501231E43A50}" type="datetime3">
              <a:rPr b="0" lang="en-US" sz="1000" spc="-1" strike="noStrike">
                <a:solidFill>
                  <a:srgbClr val="ffffff"/>
                </a:solidFill>
                <a:latin typeface="Times New Roman"/>
              </a:rPr>
              <a:t>July 30, 2026</a:t>
            </a:fld>
            <a:endParaRPr b="0" lang="en-US" sz="1000" spc="-1" strike="noStrike">
              <a:solidFill>
                <a:srgbClr val="000000"/>
              </a:solidFill>
              <a:latin typeface="Times New Roman"/>
            </a:endParaRPr>
          </a:p>
        </p:txBody>
      </p:sp>
      <p:sp>
        <p:nvSpPr>
          <p:cNvPr id="415" name="PlaceHolder 4"/>
          <p:cNvSpPr>
            <a:spLocks noGrp="1"/>
          </p:cNvSpPr>
          <p:nvPr>
            <p:ph type="ftr" idx="11"/>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16" name="PlaceHolder 5"/>
          <p:cNvSpPr>
            <a:spLocks noGrp="1"/>
          </p:cNvSpPr>
          <p:nvPr>
            <p:ph type="sldNum" idx="12"/>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5DBAD-A6A3-443D-89C4-83B5C96ACCA6}"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3" name="Picture 6" descr="TextSlideOverlay.png"/>
          <p:cNvPicPr/>
          <p:nvPr/>
        </p:nvPicPr>
        <p:blipFill>
          <a:blip r:embed="rId3"/>
          <a:stretch/>
        </p:blipFill>
        <p:spPr>
          <a:xfrm>
            <a:off x="0" y="0"/>
            <a:ext cx="9144000" cy="6858000"/>
          </a:xfrm>
          <a:prstGeom prst="rect">
            <a:avLst/>
          </a:prstGeom>
          <a:ln w="0">
            <a:noFill/>
          </a:ln>
        </p:spPr>
      </p:pic>
      <p:grpSp>
        <p:nvGrpSpPr>
          <p:cNvPr id="454" name="Group 7"/>
          <p:cNvGrpSpPr/>
          <p:nvPr/>
        </p:nvGrpSpPr>
        <p:grpSpPr>
          <a:xfrm>
            <a:off x="-573120" y="-649800"/>
            <a:ext cx="7695360" cy="2026080"/>
            <a:chOff x="-573120" y="-649800"/>
            <a:chExt cx="7695360" cy="2026080"/>
          </a:xfrm>
        </p:grpSpPr>
        <p:grpSp>
          <p:nvGrpSpPr>
            <p:cNvPr id="455" name="Group 32"/>
            <p:cNvGrpSpPr/>
            <p:nvPr/>
          </p:nvGrpSpPr>
          <p:grpSpPr>
            <a:xfrm>
              <a:off x="-263160" y="-649800"/>
              <a:ext cx="7385400" cy="2026080"/>
              <a:chOff x="-263160" y="-649800"/>
              <a:chExt cx="7385400" cy="2026080"/>
            </a:xfrm>
          </p:grpSpPr>
          <p:sp>
            <p:nvSpPr>
              <p:cNvPr id="456"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57"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58"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59"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0"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1"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2"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3"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4"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5"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6"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7"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8"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9"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70"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71"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72"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73"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74"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75"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476"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477"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78"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79" name="Round Same Side Corner Rectangle 32"/>
          <p:cNvSpPr/>
          <p:nvPr/>
        </p:nvSpPr>
        <p:spPr>
          <a:xfrm rot="16200000">
            <a:off x="3974400" y="-2346840"/>
            <a:ext cx="1450800" cy="8888400"/>
          </a:xfrm>
          <a:custGeom>
            <a:avLst/>
            <a:gdLst/>
            <a:ahLst/>
            <a:rect l="l" t="t" r="r" b="b"/>
            <a:pathLst>
              <a:path w="1450975" h="8888412">
                <a:moveTo>
                  <a:pt x="725488" y="0"/>
                </a:moveTo>
                <a:lnTo>
                  <a:pt x="725488" y="0"/>
                </a:lnTo>
                <a:cubicBezTo>
                  <a:pt x="1126164" y="0"/>
                  <a:pt x="1450976" y="324812"/>
                  <a:pt x="1450976" y="725488"/>
                </a:cubicBezTo>
                <a:cubicBezTo>
                  <a:pt x="1450976" y="3446463"/>
                  <a:pt x="1450975" y="6167437"/>
                  <a:pt x="1450975" y="8888412"/>
                </a:cubicBezTo>
                <a:lnTo>
                  <a:pt x="1450975" y="8888412"/>
                </a:lnTo>
                <a:lnTo>
                  <a:pt x="0" y="8888412"/>
                </a:lnTo>
                <a:lnTo>
                  <a:pt x="0" y="8888412"/>
                </a:lnTo>
                <a:lnTo>
                  <a:pt x="0" y="725488"/>
                </a:lnTo>
                <a:cubicBezTo>
                  <a:pt x="0" y="324812"/>
                  <a:pt x="324812" y="0"/>
                  <a:pt x="725488" y="0"/>
                </a:cubicBezTo>
                <a:close/>
              </a:path>
            </a:pathLst>
          </a:custGeom>
          <a:solidFill>
            <a:srgbClr val="073779">
              <a:alpha val="30000"/>
            </a:srgbClr>
          </a:solidFill>
          <a:ln w="25560">
            <a:solidFill>
              <a:srgbClr val="ddf53d">
                <a:alpha val="3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8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82" name="PlaceHolder 3"/>
          <p:cNvSpPr>
            <a:spLocks noGrp="1"/>
          </p:cNvSpPr>
          <p:nvPr>
            <p:ph type="dt" idx="13"/>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188D-6F3F-4F50-B2C6-4B677D58916B}" type="datetime3">
              <a:rPr b="0" lang="en-US" sz="1000" spc="-1" strike="noStrike">
                <a:solidFill>
                  <a:srgbClr val="ffffff"/>
                </a:solidFill>
                <a:latin typeface="Times New Roman"/>
              </a:rPr>
              <a:t>July 30, 2026</a:t>
            </a:fld>
            <a:endParaRPr b="0" lang="en-US" sz="1000" spc="-1" strike="noStrike">
              <a:solidFill>
                <a:srgbClr val="000000"/>
              </a:solidFill>
              <a:latin typeface="Times New Roman"/>
            </a:endParaRPr>
          </a:p>
        </p:txBody>
      </p:sp>
      <p:sp>
        <p:nvSpPr>
          <p:cNvPr id="483" name="PlaceHolder 4"/>
          <p:cNvSpPr>
            <a:spLocks noGrp="1"/>
          </p:cNvSpPr>
          <p:nvPr>
            <p:ph type="ftr" idx="14"/>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84" name="PlaceHolder 5"/>
          <p:cNvSpPr>
            <a:spLocks noGrp="1"/>
          </p:cNvSpPr>
          <p:nvPr>
            <p:ph type="sldNum" idx="15"/>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66C1-9C48-4AFD-9CEC-7E5667B1B416}"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6" descr="TextSlideOverlay.png"/>
          <p:cNvPicPr/>
          <p:nvPr/>
        </p:nvPicPr>
        <p:blipFill>
          <a:blip r:embed="rId3"/>
          <a:stretch/>
        </p:blipFill>
        <p:spPr>
          <a:xfrm>
            <a:off x="0" y="0"/>
            <a:ext cx="9144000" cy="6858000"/>
          </a:xfrm>
          <a:prstGeom prst="rect">
            <a:avLst/>
          </a:prstGeom>
          <a:ln w="0">
            <a:noFill/>
          </a:ln>
        </p:spPr>
      </p:pic>
      <p:grpSp>
        <p:nvGrpSpPr>
          <p:cNvPr id="522" name="Group 7"/>
          <p:cNvGrpSpPr/>
          <p:nvPr/>
        </p:nvGrpSpPr>
        <p:grpSpPr>
          <a:xfrm>
            <a:off x="-573120" y="-649800"/>
            <a:ext cx="7695360" cy="2026080"/>
            <a:chOff x="-573120" y="-649800"/>
            <a:chExt cx="7695360" cy="2026080"/>
          </a:xfrm>
        </p:grpSpPr>
        <p:grpSp>
          <p:nvGrpSpPr>
            <p:cNvPr id="523" name="Group 32"/>
            <p:cNvGrpSpPr/>
            <p:nvPr/>
          </p:nvGrpSpPr>
          <p:grpSpPr>
            <a:xfrm>
              <a:off x="-263160" y="-649800"/>
              <a:ext cx="7385400" cy="2026080"/>
              <a:chOff x="-263160" y="-649800"/>
              <a:chExt cx="7385400" cy="2026080"/>
            </a:xfrm>
          </p:grpSpPr>
          <p:sp>
            <p:nvSpPr>
              <p:cNvPr id="524"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25"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26"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27"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28"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29"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30"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31"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32"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33"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34"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35"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36"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37"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38"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39"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40"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41"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42"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43"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544"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545"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46"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47" name="Rounded Rectangle 32"/>
          <p:cNvSpPr/>
          <p:nvPr/>
        </p:nvSpPr>
        <p:spPr>
          <a:xfrm>
            <a:off x="366840" y="1447920"/>
            <a:ext cx="3747960" cy="4800600"/>
          </a:xfrm>
          <a:custGeom>
            <a:avLst/>
            <a:gdLst>
              <a:gd name="textAreaLeft" fmla="*/ 182880 w 3747960"/>
              <a:gd name="textAreaRight" fmla="*/ 3565080 w 3747960"/>
              <a:gd name="textAreaTop" fmla="*/ 182880 h 4800600"/>
              <a:gd name="textAreaBottom" fmla="*/ 4617720 h 4800600"/>
            </a:gdLst>
            <a:ahLst/>
            <a:rect l="textAreaLeft" t="textAreaTop" r="textAreaRight" b="textAreaBottom"/>
            <a:pathLst>
              <a:path w="21600" h="27666">
                <a:moveTo>
                  <a:pt x="3600" y="0"/>
                </a:moveTo>
                <a:arcTo wR="3600" hR="3600" stAng="16200000" swAng="-5400000"/>
                <a:lnTo>
                  <a:pt x="0" y="24066"/>
                </a:lnTo>
                <a:arcTo wR="3600" hR="3600" stAng="10800000" swAng="-5400000"/>
                <a:lnTo>
                  <a:pt x="18000" y="27666"/>
                </a:lnTo>
                <a:arcTo wR="3600" hR="3600" stAng="5400000" swAng="-5400000"/>
                <a:lnTo>
                  <a:pt x="21600" y="3600"/>
                </a:lnTo>
                <a:arcTo wR="3600" hR="3600" stAng="0" swAng="-5400000"/>
                <a:close/>
              </a:path>
            </a:pathLst>
          </a:custGeom>
          <a:solidFill>
            <a:srgbClr val="0c5986">
              <a:alpha val="60000"/>
            </a:srgbClr>
          </a:solidFill>
          <a:ln w="63360">
            <a:solidFill>
              <a:srgbClr val="ddf53d">
                <a:alpha val="60000"/>
              </a:srgbClr>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54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550" name="PlaceHolder 3"/>
          <p:cNvSpPr>
            <a:spLocks noGrp="1"/>
          </p:cNvSpPr>
          <p:nvPr>
            <p:ph type="dt" idx="16"/>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4122-F1E3-451B-BE6C-D0C168462D80}" type="datetime3">
              <a:rPr b="0" lang="en-US" sz="1000" spc="-1" strike="noStrike">
                <a:solidFill>
                  <a:srgbClr val="ffffff"/>
                </a:solidFill>
                <a:latin typeface="Times New Roman"/>
              </a:rPr>
              <a:t>July 30, 2026</a:t>
            </a:fld>
            <a:endParaRPr b="0" lang="en-US" sz="1000" spc="-1" strike="noStrike">
              <a:solidFill>
                <a:srgbClr val="000000"/>
              </a:solidFill>
              <a:latin typeface="Times New Roman"/>
            </a:endParaRPr>
          </a:p>
        </p:txBody>
      </p:sp>
      <p:sp>
        <p:nvSpPr>
          <p:cNvPr id="551" name="PlaceHolder 4"/>
          <p:cNvSpPr>
            <a:spLocks noGrp="1"/>
          </p:cNvSpPr>
          <p:nvPr>
            <p:ph type="ftr" idx="17"/>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52" name="PlaceHolder 5"/>
          <p:cNvSpPr>
            <a:spLocks noGrp="1"/>
          </p:cNvSpPr>
          <p:nvPr>
            <p:ph type="sldNum" idx="18"/>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429B-F5D8-4E0A-AD81-8DF2B762287B}"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rot="21042000">
            <a:off x="1022040" y="2960640"/>
            <a:ext cx="7551720" cy="1612800"/>
          </a:xfrm>
          <a:prstGeom prst="rect">
            <a:avLst/>
          </a:prstGeom>
          <a:noFill/>
          <a:ln w="0">
            <a:noFill/>
          </a:ln>
        </p:spPr>
        <p:txBody>
          <a:bodyPr anchor="b">
            <a:noAutofit/>
          </a:bodyPr>
          <a:p>
            <a:pPr indent="0" algn="ctr">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Rounded MT Bold"/>
              </a:rPr>
              <a:t>Crime &amp; Punishment</a:t>
            </a:r>
            <a:endParaRPr b="0" lang="en-US" sz="5400" spc="-1" strike="noStrike">
              <a:solidFill>
                <a:srgbClr val="ffffff"/>
              </a:solidFill>
              <a:latin typeface="Arial Rounded MT Bold"/>
            </a:endParaRPr>
          </a:p>
        </p:txBody>
      </p:sp>
      <p:sp>
        <p:nvSpPr>
          <p:cNvPr id="935" name="PlaceHolder 2"/>
          <p:cNvSpPr>
            <a:spLocks noGrp="1"/>
          </p:cNvSpPr>
          <p:nvPr>
            <p:ph type="subTitle"/>
          </p:nvPr>
        </p:nvSpPr>
        <p:spPr>
          <a:xfrm>
            <a:off x="324000" y="764640"/>
            <a:ext cx="8632800" cy="103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P7, XXXX Primary School</a:t>
            </a:r>
            <a:endParaRPr b="0" lang="en-US" sz="2400" spc="-1" strike="noStrike">
              <a:solidFill>
                <a:srgbClr val="ffffff"/>
              </a:solidFill>
              <a:latin typeface="Arial Rounded MT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21</a:t>
            </a:r>
            <a:r>
              <a:rPr b="0" lang="en-US" sz="2400" spc="-1" strike="noStrike" baseline="30000">
                <a:solidFill>
                  <a:srgbClr val="ffffff"/>
                </a:solidFill>
                <a:latin typeface="Arial Rounded MT Bold"/>
              </a:rPr>
              <a:t>st</a:t>
            </a:r>
            <a:r>
              <a:rPr b="0" lang="en-US" sz="2400" spc="-1" strike="noStrike">
                <a:solidFill>
                  <a:srgbClr val="ffffff"/>
                </a:solidFill>
                <a:latin typeface="Arial Rounded MT Bold"/>
              </a:rPr>
              <a:t> January 2014</a:t>
            </a:r>
            <a:endParaRPr b="0" lang="en-US" sz="2400" spc="-1" strike="noStrike">
              <a:solidFill>
                <a:srgbClr val="ffffff"/>
              </a:solidFill>
              <a:latin typeface="Arial Rounded MT Bold"/>
            </a:endParaRPr>
          </a:p>
        </p:txBody>
      </p:sp>
      <p:sp>
        <p:nvSpPr>
          <p:cNvPr id="936" name="TextBox 5"/>
          <p:cNvSpPr/>
          <p:nvPr/>
        </p:nvSpPr>
        <p:spPr>
          <a:xfrm>
            <a:off x="6510240" y="4883040"/>
            <a:ext cx="184320" cy="40032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AutoShape 2"/>
          <p:cNvSpPr/>
          <p:nvPr/>
        </p:nvSpPr>
        <p:spPr>
          <a:xfrm>
            <a:off x="8864640" y="-447840"/>
            <a:ext cx="1542960" cy="115272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pic>
        <p:nvPicPr>
          <p:cNvPr id="959" name="Picture 4" descr="http://newsimg.bbc.co.uk/media/images/44464000/jpg/_44464459_barlinnie_withpa203.jpg"/>
          <p:cNvPicPr/>
          <p:nvPr/>
        </p:nvPicPr>
        <p:blipFill>
          <a:blip r:embed="rId1"/>
          <a:stretch/>
        </p:blipFill>
        <p:spPr>
          <a:xfrm>
            <a:off x="468360" y="1125360"/>
            <a:ext cx="3941640" cy="2951280"/>
          </a:xfrm>
          <a:prstGeom prst="rect">
            <a:avLst/>
          </a:prstGeom>
          <a:ln w="0">
            <a:noFill/>
          </a:ln>
        </p:spPr>
      </p:pic>
      <p:pic>
        <p:nvPicPr>
          <p:cNvPr id="960" name="Picture 6" descr="http://www.theglasgowstory.com/images/TGSG00016_m.jpg"/>
          <p:cNvPicPr/>
          <p:nvPr/>
        </p:nvPicPr>
        <p:blipFill>
          <a:blip r:embed="rId2"/>
          <a:stretch/>
        </p:blipFill>
        <p:spPr>
          <a:xfrm>
            <a:off x="4859280" y="1125360"/>
            <a:ext cx="3809880" cy="2876760"/>
          </a:xfrm>
          <a:prstGeom prst="rect">
            <a:avLst/>
          </a:prstGeom>
          <a:ln w="0">
            <a:noFill/>
          </a:ln>
        </p:spPr>
      </p:pic>
      <p:pic>
        <p:nvPicPr>
          <p:cNvPr id="961" name="Picture 8" descr="http://3.bp.blogspot.com/-5T1nObTeqOg/Te6qyGw684I/AAAAAAAAEiY/n6en8Kofu_0/s1600/chain-gang1.jpg"/>
          <p:cNvPicPr/>
          <p:nvPr/>
        </p:nvPicPr>
        <p:blipFill>
          <a:blip r:embed="rId3"/>
          <a:stretch/>
        </p:blipFill>
        <p:spPr>
          <a:xfrm>
            <a:off x="468360" y="4221000"/>
            <a:ext cx="3216240" cy="2492640"/>
          </a:xfrm>
          <a:prstGeom prst="rect">
            <a:avLst/>
          </a:prstGeom>
          <a:ln w="0">
            <a:noFill/>
          </a:ln>
        </p:spPr>
      </p:pic>
      <p:pic>
        <p:nvPicPr>
          <p:cNvPr id="962" name="Picture 10" descr="http://t2.gstatic.com/images?q=tbn:ANd9GcQKmSyE8aKzoVeh-J--JyM-0Wt8BiXvmZU6H8-DBxcHpEOGGzO2Ag"/>
          <p:cNvPicPr/>
          <p:nvPr/>
        </p:nvPicPr>
        <p:blipFill>
          <a:blip r:embed="rId4"/>
          <a:stretch/>
        </p:blipFill>
        <p:spPr>
          <a:xfrm>
            <a:off x="5364000" y="4221000"/>
            <a:ext cx="3311640" cy="24498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3" name="Picture 2" descr="http://images.mirror.co.uk/upl/m4/dec2008/0/3/F4E4095A-ED0D-412B-8B552258FBD33F08.jpg"/>
          <p:cNvPicPr/>
          <p:nvPr/>
        </p:nvPicPr>
        <p:blipFill>
          <a:blip r:embed="rId1"/>
          <a:stretch/>
        </p:blipFill>
        <p:spPr>
          <a:xfrm>
            <a:off x="395280" y="1413000"/>
            <a:ext cx="4286160" cy="2590560"/>
          </a:xfrm>
          <a:prstGeom prst="rect">
            <a:avLst/>
          </a:prstGeom>
          <a:ln w="0">
            <a:noFill/>
          </a:ln>
        </p:spPr>
      </p:pic>
      <p:pic>
        <p:nvPicPr>
          <p:cNvPr id="964" name="Picture 4" descr="http://t3.gstatic.com/images?q=tbn:ANd9GcQHrWC2LvTJjAFhz6cHmmahr_3w6PLZ_2ILOOhfx7AMw9N-RPOe"/>
          <p:cNvPicPr/>
          <p:nvPr/>
        </p:nvPicPr>
        <p:blipFill>
          <a:blip r:embed="rId2"/>
          <a:stretch/>
        </p:blipFill>
        <p:spPr>
          <a:xfrm>
            <a:off x="4932360" y="1413000"/>
            <a:ext cx="3430440" cy="2592360"/>
          </a:xfrm>
          <a:prstGeom prst="rect">
            <a:avLst/>
          </a:prstGeom>
          <a:ln w="0">
            <a:noFill/>
          </a:ln>
        </p:spPr>
      </p:pic>
      <p:pic>
        <p:nvPicPr>
          <p:cNvPr id="965" name="Picture 6" descr="http://i.dailymail.co.uk/i/pix/2009/02/23/article-0-02079BD200000578-256_468x390.jpg"/>
          <p:cNvPicPr/>
          <p:nvPr/>
        </p:nvPicPr>
        <p:blipFill>
          <a:blip r:embed="rId3"/>
          <a:stretch/>
        </p:blipFill>
        <p:spPr>
          <a:xfrm>
            <a:off x="1908000" y="4076640"/>
            <a:ext cx="2945160" cy="24544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1331640" y="765000"/>
            <a:ext cx="771660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Ordering punishments</a:t>
            </a:r>
            <a:endParaRPr b="0" lang="en-US" sz="4600" spc="-1" strike="noStrike">
              <a:solidFill>
                <a:srgbClr val="ffffff"/>
              </a:solidFill>
              <a:latin typeface="Arial Rounded MT Bold"/>
            </a:endParaRPr>
          </a:p>
        </p:txBody>
      </p:sp>
      <p:sp>
        <p:nvSpPr>
          <p:cNvPr id="967" name=""/>
          <p:cNvSpPr txBox="1"/>
          <p:nvPr/>
        </p:nvSpPr>
        <p:spPr>
          <a:xfrm>
            <a:off x="712800" y="2276640"/>
            <a:ext cx="7716960" cy="4124160"/>
          </a:xfrm>
          <a:prstGeom prst="rect">
            <a:avLst/>
          </a:prstGeom>
          <a:noFill/>
          <a:ln w="0">
            <a:noFill/>
          </a:ln>
        </p:spPr>
        <p:txBody>
          <a:bodyPr anchor="t">
            <a:normAutofit/>
          </a:bodyPr>
          <a:p>
            <a:pPr marL="343080" indent="-343080">
              <a:lnSpc>
                <a:spcPct val="90000"/>
              </a:lnSpc>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nes</a:t>
            </a:r>
            <a:endParaRPr b="0" lang="en-US" sz="2400" spc="-1" strike="noStrike">
              <a:solidFill>
                <a:srgbClr val="ffffff"/>
              </a:solidFill>
              <a:latin typeface="Arial Rounded MT Bold"/>
            </a:endParaRPr>
          </a:p>
          <a:p>
            <a:pPr marL="343080" indent="-343080">
              <a:lnSpc>
                <a:spcPct val="90000"/>
              </a:lnSpc>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logging/Whipping</a:t>
            </a:r>
            <a:endParaRPr b="0" lang="en-US" sz="2400" spc="-1" strike="noStrike">
              <a:solidFill>
                <a:srgbClr val="ffffff"/>
              </a:solidFill>
              <a:latin typeface="Arial Rounded MT Bold"/>
            </a:endParaRPr>
          </a:p>
          <a:p>
            <a:pPr marL="343080" indent="-343080">
              <a:lnSpc>
                <a:spcPct val="90000"/>
              </a:lnSpc>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Unpaid work </a:t>
            </a:r>
            <a:endParaRPr b="0" lang="en-US" sz="2400" spc="-1" strike="noStrike">
              <a:solidFill>
                <a:srgbClr val="ffffff"/>
              </a:solidFill>
              <a:latin typeface="Arial Rounded MT Bold"/>
            </a:endParaRPr>
          </a:p>
          <a:p>
            <a:pPr marL="343080" indent="-343080">
              <a:lnSpc>
                <a:spcPct val="90000"/>
              </a:lnSpc>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Execution</a:t>
            </a:r>
            <a:endParaRPr b="0" lang="en-US" sz="2400" spc="-1" strike="noStrike">
              <a:solidFill>
                <a:srgbClr val="ffffff"/>
              </a:solidFill>
              <a:latin typeface="Arial Rounded MT Bold"/>
            </a:endParaRPr>
          </a:p>
          <a:p>
            <a:pPr marL="343080" indent="-343080">
              <a:lnSpc>
                <a:spcPct val="90000"/>
              </a:lnSpc>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upervision</a:t>
            </a:r>
            <a:endParaRPr b="0" lang="en-US" sz="2400" spc="-1" strike="noStrike">
              <a:solidFill>
                <a:srgbClr val="ffffff"/>
              </a:solidFill>
              <a:latin typeface="Arial Rounded MT Bold"/>
            </a:endParaRPr>
          </a:p>
          <a:p>
            <a:pPr marL="343080" indent="-343080">
              <a:lnSpc>
                <a:spcPct val="90000"/>
              </a:lnSpc>
              <a:spcAft>
                <a:spcPts val="200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Imprisonment</a:t>
            </a:r>
            <a:endParaRPr b="0" lang="en-US" sz="2400" spc="-1" strike="noStrike">
              <a:solidFill>
                <a:srgbClr val="ffffff"/>
              </a:solidFill>
              <a:latin typeface="Arial Rounded MT Bold"/>
            </a:endParaRPr>
          </a:p>
          <a:p>
            <a:pPr marL="343080" indent="-343080">
              <a:lnSpc>
                <a:spcPct val="90000"/>
              </a:lnSpc>
              <a:spcAft>
                <a:spcPts val="200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arnings</a:t>
            </a:r>
            <a:endParaRPr b="0" lang="en-US" sz="2400" spc="-1" strike="noStrike">
              <a:solidFill>
                <a:srgbClr val="ffffff"/>
              </a:solidFill>
              <a:latin typeface="Arial Rounded MT Bold"/>
            </a:endParaRPr>
          </a:p>
        </p:txBody>
      </p:sp>
      <p:sp>
        <p:nvSpPr>
          <p:cNvPr id="968" name="Slide Number Placeholder 3"/>
          <p:cNvSpPr/>
          <p:nvPr/>
        </p:nvSpPr>
        <p:spPr>
          <a:xfrm>
            <a:off x="76320" y="604800"/>
            <a:ext cx="1385640" cy="2332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1B29-EF59-4390-B300-24867D83AB10}" type="slidenum">
              <a:rPr b="0" lang="en-US" sz="1200" spc="-1" strike="noStrike">
                <a:solidFill>
                  <a:srgbClr val="fffff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1331640" y="765000"/>
            <a:ext cx="771660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Kinds of sentences</a:t>
            </a:r>
            <a:endParaRPr b="0" lang="en-US" sz="4600" spc="-1" strike="noStrike">
              <a:solidFill>
                <a:srgbClr val="ffffff"/>
              </a:solidFill>
              <a:latin typeface="Arial Rounded MT Bold"/>
            </a:endParaRPr>
          </a:p>
        </p:txBody>
      </p:sp>
      <p:pic>
        <p:nvPicPr>
          <p:cNvPr id="970" name="Content Placeholder 3" descr=""/>
          <p:cNvPicPr/>
          <p:nvPr/>
        </p:nvPicPr>
        <p:blipFill>
          <a:blip r:embed="rId1"/>
          <a:stretch/>
        </p:blipFill>
        <p:spPr>
          <a:xfrm>
            <a:off x="407880" y="1047600"/>
            <a:ext cx="8467920" cy="562788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765000"/>
            <a:ext cx="771660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You be the judge</a:t>
            </a:r>
            <a:endParaRPr b="0" lang="en-US" sz="4600" spc="-1" strike="noStrike">
              <a:solidFill>
                <a:srgbClr val="ffffff"/>
              </a:solidFill>
              <a:latin typeface="Arial Rounded MT Bold"/>
            </a:endParaRPr>
          </a:p>
        </p:txBody>
      </p:sp>
      <p:sp>
        <p:nvSpPr>
          <p:cNvPr id="972" name=""/>
          <p:cNvSpPr txBox="1"/>
          <p:nvPr/>
        </p:nvSpPr>
        <p:spPr>
          <a:xfrm>
            <a:off x="712800" y="2276640"/>
            <a:ext cx="7716960" cy="412416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Robert Johnson breaks into a house in the night. He breaks a window to get in. No one is at home. He steals a TV and an iPad; goods worth about £1,000. The cost of repairing the window is £250. </a:t>
            </a:r>
            <a:endParaRPr b="0" lang="en-US" sz="2400" spc="-1" strike="noStrike">
              <a:solidFill>
                <a:srgbClr val="ffffff"/>
              </a:solidFill>
              <a:latin typeface="Arial Rounded MT Bold"/>
            </a:endParaRPr>
          </a:p>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Robert has been in trouble before; he has two convictions for stealing from shops.</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hat sentence would you pass?</a:t>
            </a:r>
            <a:endParaRPr b="0" lang="en-US" sz="2400" spc="-1" strike="noStrike">
              <a:solidFill>
                <a:srgbClr val="ffffff"/>
              </a:solidFill>
              <a:latin typeface="Arial Rounded MT Bold"/>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755640" y="836280"/>
            <a:ext cx="7716960" cy="112068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A little more information</a:t>
            </a:r>
            <a:endParaRPr b="0" lang="en-US" sz="4600" spc="-1" strike="noStrike">
              <a:solidFill>
                <a:srgbClr val="ffffff"/>
              </a:solidFill>
              <a:latin typeface="Arial Rounded MT Bold"/>
            </a:endParaRPr>
          </a:p>
        </p:txBody>
      </p:sp>
      <p:sp>
        <p:nvSpPr>
          <p:cNvPr id="974" name=""/>
          <p:cNvSpPr txBox="1"/>
          <p:nvPr/>
        </p:nvSpPr>
        <p:spPr>
          <a:xfrm>
            <a:off x="468360" y="2060640"/>
            <a:ext cx="8229600" cy="4525920"/>
          </a:xfrm>
          <a:prstGeom prst="rect">
            <a:avLst/>
          </a:prstGeom>
          <a:noFill/>
          <a:ln w="0">
            <a:noFill/>
          </a:ln>
        </p:spPr>
        <p:txBody>
          <a:bodyPr anchor="t">
            <a:normAutofit/>
          </a:bodyPr>
          <a:p>
            <a:pPr marL="343080" indent="-343080">
              <a:lnSpc>
                <a:spcPct val="90000"/>
              </a:lnSpc>
              <a:spcAft>
                <a:spcPts val="2001"/>
              </a:spcAft>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Rounded MT Bold"/>
              </a:rPr>
              <a:t>The owner of the house is an old lady called Mrs Beech. She is a widow and lives alone. She has been in hospital at the time of the break-in. She doesn’t get out much anymore and relies on the TV for news and entertainment. Her iPad held all the photos of her grandchildren who live in Australia and she used it to Skype them regularly. She has house insurance and can get the TV and iPad replaced (and maybe the photos too), but she has been left scared about living on her own. She fears the thief might come back.</a:t>
            </a:r>
            <a:endParaRPr b="0" lang="en-US" sz="2300" spc="-1" strike="noStrike">
              <a:solidFill>
                <a:srgbClr val="ffffff"/>
              </a:solidFill>
              <a:latin typeface="Arial Rounded MT Bold"/>
            </a:endParaRPr>
          </a:p>
          <a:p>
            <a:pPr marL="343080" indent="-343080">
              <a:lnSpc>
                <a:spcPct val="90000"/>
              </a:lnSpc>
              <a:spcAft>
                <a:spcPts val="2001"/>
              </a:spcAft>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Rounded MT Bold"/>
              </a:rPr>
              <a:t>Does this information make you want to reconsider the sentence you gave Robert?</a:t>
            </a:r>
            <a:endParaRPr b="0" lang="en-US" sz="2300" spc="-1" strike="noStrike">
              <a:solidFill>
                <a:srgbClr val="ffffff"/>
              </a:solidFill>
              <a:latin typeface="Arial Rounded MT Bold"/>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610920" y="764640"/>
            <a:ext cx="8437320" cy="129564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And some more information</a:t>
            </a:r>
            <a:endParaRPr b="0" lang="en-US" sz="4600" spc="-1" strike="noStrike">
              <a:solidFill>
                <a:srgbClr val="ffffff"/>
              </a:solidFill>
              <a:latin typeface="Arial Rounded MT Bold"/>
            </a:endParaRPr>
          </a:p>
        </p:txBody>
      </p:sp>
      <p:sp>
        <p:nvSpPr>
          <p:cNvPr id="976" name=""/>
          <p:cNvSpPr txBox="1"/>
          <p:nvPr/>
        </p:nvSpPr>
        <p:spPr>
          <a:xfrm>
            <a:off x="457200" y="2133360"/>
            <a:ext cx="8229600" cy="4608360"/>
          </a:xfrm>
          <a:prstGeom prst="rect">
            <a:avLst/>
          </a:prstGeom>
          <a:noFill/>
          <a:ln w="0">
            <a:noFill/>
          </a:ln>
        </p:spPr>
        <p:txBody>
          <a:bodyPr anchor="t">
            <a:normAutofit/>
          </a:bodyPr>
          <a:p>
            <a:pPr marL="343080" indent="-343080">
              <a:lnSpc>
                <a:spcPct val="80000"/>
              </a:lnSpc>
              <a:spcAft>
                <a:spcPts val="2001"/>
              </a:spcAft>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Robert is 21. He is a drug addict and is homeless. He has been living on the streets since he was 15, when we ran away from a children’s home. He was in the home because his mum couldn’t look after him properly because of her drug problem. He doesn’t know his dad.</a:t>
            </a:r>
            <a:endParaRPr b="0" lang="en-US" sz="2200" spc="-1" strike="noStrike">
              <a:solidFill>
                <a:srgbClr val="ffffff"/>
              </a:solidFill>
              <a:latin typeface="Arial Rounded MT Bold"/>
            </a:endParaRPr>
          </a:p>
          <a:p>
            <a:pPr marL="343080" indent="-343080">
              <a:lnSpc>
                <a:spcPct val="80000"/>
              </a:lnSpc>
              <a:spcAft>
                <a:spcPts val="2001"/>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He says he broke into the house because he was desperate for money. He has a son (aged 3) who lives with his ex-girlfriend. He wanted to be able to buy his son something nice for Christmas. He didn’t have any money because (a) he can</a:t>
            </a:r>
            <a:r>
              <a:rPr b="0" lang="fr-FR" sz="2200" spc="-1" strike="noStrike">
                <a:solidFill>
                  <a:srgbClr val="ffffff"/>
                </a:solidFill>
                <a:latin typeface="Arial Rounded MT Bold"/>
              </a:rPr>
              <a:t>’</a:t>
            </a:r>
            <a:r>
              <a:rPr b="0" lang="en-US" sz="2200" spc="-1" strike="noStrike">
                <a:solidFill>
                  <a:srgbClr val="ffffff"/>
                </a:solidFill>
                <a:latin typeface="Arial Rounded MT Bold"/>
              </a:rPr>
              <a:t>t work because of his drug problem and (b) his benefits had been stopped when he missed appointments (also because of his drug problems). </a:t>
            </a:r>
            <a:endParaRPr b="0" lang="en-US" sz="2200" spc="-1" strike="noStrike">
              <a:solidFill>
                <a:srgbClr val="ffffff"/>
              </a:solidFill>
              <a:latin typeface="Arial Rounded MT Bold"/>
            </a:endParaRPr>
          </a:p>
          <a:p>
            <a:pPr marL="343080" indent="-343080">
              <a:lnSpc>
                <a:spcPct val="80000"/>
              </a:lnSpc>
              <a:spcAft>
                <a:spcPts val="2001"/>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Does any of this information change the way you would sentence Robert?</a:t>
            </a:r>
            <a:endParaRPr b="0" lang="en-US" sz="2200" spc="-1" strike="noStrike">
              <a:solidFill>
                <a:srgbClr val="ffffff"/>
              </a:solidFill>
              <a:latin typeface="Arial Rounded MT Bold"/>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1331640" y="765000"/>
            <a:ext cx="771660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And some more…</a:t>
            </a:r>
            <a:endParaRPr b="0" lang="en-US" sz="4600" spc="-1" strike="noStrike">
              <a:solidFill>
                <a:srgbClr val="ffffff"/>
              </a:solidFill>
              <a:latin typeface="Arial Rounded MT Bold"/>
            </a:endParaRPr>
          </a:p>
        </p:txBody>
      </p:sp>
      <p:sp>
        <p:nvSpPr>
          <p:cNvPr id="978" name=""/>
          <p:cNvSpPr txBox="1"/>
          <p:nvPr/>
        </p:nvSpPr>
        <p:spPr>
          <a:xfrm>
            <a:off x="712800" y="2276640"/>
            <a:ext cx="7716960" cy="412416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You delayed sentence on Robert because he had made plans to go into drug rehab and sort himself out. You wanted to see if he was serious about that. He was. He completed the programme and has been drug free for 6 months; he’s back in regular contact with his ex-girlfriend and son and has just started a college course. He’s also now a volunteer helper in the drug rehab.</a:t>
            </a:r>
            <a:endParaRPr b="0" lang="en-US" sz="2400" spc="-1" strike="noStrike">
              <a:solidFill>
                <a:srgbClr val="ffffff"/>
              </a:solidFill>
              <a:latin typeface="Arial Rounded MT Bold"/>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331640" y="765000"/>
            <a:ext cx="771660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And finally…</a:t>
            </a:r>
            <a:endParaRPr b="0" lang="en-US" sz="4600" spc="-1" strike="noStrike">
              <a:solidFill>
                <a:srgbClr val="ffffff"/>
              </a:solidFill>
              <a:latin typeface="Arial Rounded MT Bold"/>
            </a:endParaRPr>
          </a:p>
        </p:txBody>
      </p:sp>
      <p:sp>
        <p:nvSpPr>
          <p:cNvPr id="980" name=""/>
          <p:cNvSpPr txBox="1"/>
          <p:nvPr/>
        </p:nvSpPr>
        <p:spPr>
          <a:xfrm>
            <a:off x="468360" y="2205000"/>
            <a:ext cx="8229600" cy="4392720"/>
          </a:xfrm>
          <a:prstGeom prst="rect">
            <a:avLst/>
          </a:prstGeom>
          <a:noFill/>
          <a:ln w="0">
            <a:noFill/>
          </a:ln>
        </p:spPr>
        <p:txBody>
          <a:bodyPr anchor="t">
            <a:normAutofit/>
          </a:bodyPr>
          <a:p>
            <a:pPr marL="343080" indent="-343080">
              <a:lnSpc>
                <a:spcPct val="80000"/>
              </a:lnSpc>
              <a:spcAft>
                <a:spcPts val="2001"/>
              </a:spcAft>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During his time in the rehab, Robert wrote a letter to Mrs Beech and, after some careful planning, they met up. He apologised and explained why he had done what he had done. Mrs Beech was relieved to find that he hadn’t targeted her house for any particular reason. She was also very glad to know that he was sorting his life out. She and Robert agreed that he would spend the next 2 or 3 weekends tidying up her garden as a way of saying sorry.</a:t>
            </a:r>
            <a:endParaRPr b="0" lang="en-US" sz="2600" spc="-1" strike="noStrike">
              <a:solidFill>
                <a:srgbClr val="ffffff"/>
              </a:solidFill>
              <a:latin typeface="Arial Rounded MT Bold"/>
            </a:endParaRPr>
          </a:p>
          <a:p>
            <a:pPr marL="343080" indent="-343080">
              <a:lnSpc>
                <a:spcPct val="80000"/>
              </a:lnSpc>
              <a:spcAft>
                <a:spcPts val="2001"/>
              </a:spcAft>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The time has come to pass final sentence on Robert. What will you do?</a:t>
            </a:r>
            <a:endParaRPr b="0" lang="en-US" sz="2600" spc="-1" strike="noStrike">
              <a:solidFill>
                <a:srgbClr val="ffffff"/>
              </a:solidFill>
              <a:latin typeface="Arial Rounded MT Bold"/>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1331640" y="765000"/>
            <a:ext cx="771660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Stopping Offending</a:t>
            </a:r>
            <a:endParaRPr b="0" lang="en-US" sz="4600" spc="-1" strike="noStrike">
              <a:solidFill>
                <a:srgbClr val="ffffff"/>
              </a:solidFill>
              <a:latin typeface="Arial Rounded MT Bold"/>
            </a:endParaRPr>
          </a:p>
        </p:txBody>
      </p:sp>
      <p:sp>
        <p:nvSpPr>
          <p:cNvPr id="982" name=""/>
          <p:cNvSpPr txBox="1"/>
          <p:nvPr/>
        </p:nvSpPr>
        <p:spPr>
          <a:xfrm>
            <a:off x="712800" y="2276640"/>
            <a:ext cx="7716960" cy="412416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hat might help keep Robert out of trouble and off drugs in future?</a:t>
            </a:r>
            <a:endParaRPr b="0" lang="en-US" sz="2400" spc="-1" strike="noStrike">
              <a:solidFill>
                <a:srgbClr val="ffffff"/>
              </a:solidFill>
              <a:latin typeface="Arial Rounded MT Bold"/>
            </a:endParaRPr>
          </a:p>
          <a:p>
            <a:pPr lvl="1" marL="631800" indent="-282600">
              <a:spcAft>
                <a:spcPts val="1001"/>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Getting older and becoming more mature; learning to think things through before acting</a:t>
            </a:r>
            <a:endParaRPr b="0" lang="en-US" sz="2200" spc="-1" strike="noStrike">
              <a:solidFill>
                <a:srgbClr val="ffffff"/>
              </a:solidFill>
              <a:latin typeface="Arial Rounded MT Bold"/>
            </a:endParaRPr>
          </a:p>
          <a:p>
            <a:pPr lvl="1" marL="631800" indent="-282600">
              <a:spcAft>
                <a:spcPts val="1001"/>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Getting an education, a job and a house; being able to be a good dad</a:t>
            </a:r>
            <a:endParaRPr b="0" lang="en-US" sz="2200" spc="-1" strike="noStrike">
              <a:solidFill>
                <a:srgbClr val="ffffff"/>
              </a:solidFill>
              <a:latin typeface="Arial Rounded MT Bold"/>
            </a:endParaRPr>
          </a:p>
          <a:p>
            <a:pPr lvl="1" marL="631800" indent="-282600">
              <a:spcAft>
                <a:spcPts val="1001"/>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Thinking differently about himself; realising he can be a good person and lead a good life.</a:t>
            </a:r>
            <a:endParaRPr b="0" lang="en-US" sz="2200" spc="-1" strike="noStrike">
              <a:solidFill>
                <a:srgbClr val="ffffff"/>
              </a:solidFill>
              <a:latin typeface="Arial Rounded MT Bold"/>
            </a:endParaRPr>
          </a:p>
          <a:p>
            <a:pPr marL="343080" indent="-34308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1331640" y="765000"/>
            <a:ext cx="771660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Punishment</a:t>
            </a:r>
            <a:endParaRPr b="0" lang="en-US" sz="4600" spc="-1" strike="noStrike">
              <a:solidFill>
                <a:srgbClr val="ffffff"/>
              </a:solidFill>
              <a:latin typeface="Arial Rounded MT Bold"/>
            </a:endParaRPr>
          </a:p>
        </p:txBody>
      </p:sp>
      <p:sp>
        <p:nvSpPr>
          <p:cNvPr id="938" name=""/>
          <p:cNvSpPr txBox="1"/>
          <p:nvPr/>
        </p:nvSpPr>
        <p:spPr>
          <a:xfrm>
            <a:off x="712800" y="2276640"/>
            <a:ext cx="7716960" cy="412416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nk of as many examples of different forms of punishment as you can… This could be:</a:t>
            </a:r>
            <a:endParaRPr b="0" lang="en-US" sz="2400" spc="-1" strike="noStrike">
              <a:solidFill>
                <a:srgbClr val="ffffff"/>
              </a:solidFill>
              <a:latin typeface="Arial Rounded MT Bold"/>
            </a:endParaRPr>
          </a:p>
          <a:p>
            <a:pPr lvl="1" marL="631800" indent="-282600">
              <a:spcAft>
                <a:spcPts val="1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At home</a:t>
            </a:r>
            <a:endParaRPr b="0" lang="en-US" sz="3200" spc="-1" strike="noStrike">
              <a:solidFill>
                <a:srgbClr val="ffffff"/>
              </a:solidFill>
              <a:latin typeface="Arial Rounded MT Bold"/>
            </a:endParaRPr>
          </a:p>
          <a:p>
            <a:pPr lvl="1" marL="631800" indent="-282600">
              <a:spcAft>
                <a:spcPts val="1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At school</a:t>
            </a:r>
            <a:endParaRPr b="0" lang="en-US" sz="3200" spc="-1" strike="noStrike">
              <a:solidFill>
                <a:srgbClr val="ffffff"/>
              </a:solidFill>
              <a:latin typeface="Arial Rounded MT Bold"/>
            </a:endParaRPr>
          </a:p>
          <a:p>
            <a:pPr lvl="1" marL="631800" indent="-282600">
              <a:spcAft>
                <a:spcPts val="1001"/>
              </a:spcAft>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In court</a:t>
            </a:r>
            <a:endParaRPr b="0" lang="en-US" sz="3200" spc="-1" strike="noStrike">
              <a:solidFill>
                <a:srgbClr val="ffffff"/>
              </a:solidFill>
              <a:latin typeface="Arial Rounded MT Bold"/>
            </a:endParaRPr>
          </a:p>
          <a:p>
            <a:pPr marL="343080" indent="-343080">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hy do people get punished? What is punishment supposed to achieve?</a:t>
            </a:r>
            <a:endParaRPr b="0" lang="en-US" sz="2400" spc="-1" strike="noStrike">
              <a:solidFill>
                <a:srgbClr val="ffffff"/>
              </a:solidFill>
              <a:latin typeface="Arial Rounded MT Bold"/>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765000"/>
            <a:ext cx="771660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Supervising Robert</a:t>
            </a:r>
            <a:endParaRPr b="0" lang="en-US" sz="4600" spc="-1" strike="noStrike">
              <a:solidFill>
                <a:srgbClr val="ffffff"/>
              </a:solidFill>
              <a:latin typeface="Arial Rounded MT Bold"/>
            </a:endParaRPr>
          </a:p>
        </p:txBody>
      </p:sp>
      <p:sp>
        <p:nvSpPr>
          <p:cNvPr id="984" name=""/>
          <p:cNvSpPr txBox="1"/>
          <p:nvPr/>
        </p:nvSpPr>
        <p:spPr>
          <a:xfrm>
            <a:off x="457200" y="2133720"/>
            <a:ext cx="8229600" cy="399240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If you were Robert’s social worker and had to supervise him for a year or two, what sorts of things might you do with him or for him to help him keep out of trouble?</a:t>
            </a:r>
            <a:endParaRPr b="0" lang="en-US" sz="2400" spc="-1" strike="noStrike">
              <a:solidFill>
                <a:srgbClr val="ffffff"/>
              </a:solidFill>
              <a:latin typeface="Arial Rounded MT Bold"/>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712800" y="2276640"/>
            <a:ext cx="7716960" cy="4124160"/>
          </a:xfrm>
          <a:prstGeom prst="rect">
            <a:avLst/>
          </a:prstGeom>
          <a:noFill/>
          <a:ln w="0">
            <a:noFill/>
          </a:ln>
        </p:spPr>
        <p:txBody>
          <a:bodyPr anchor="t">
            <a:normAutofit/>
          </a:bodyPr>
          <a:p>
            <a:pPr marL="343080" indent="-343080">
              <a:spcAft>
                <a:spcPts val="2001"/>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Any questions?</a:t>
            </a:r>
            <a:endParaRPr b="0" lang="en-US" sz="3600" spc="-1" strike="noStrike">
              <a:solidFill>
                <a:srgbClr val="ffffff"/>
              </a:solidFill>
              <a:latin typeface="Arial Rounded MT Bold"/>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258920" y="692280"/>
            <a:ext cx="7716960" cy="12967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Fair and unfair punishments</a:t>
            </a:r>
            <a:endParaRPr b="0" lang="en-US" sz="4600" spc="-1" strike="noStrike">
              <a:solidFill>
                <a:srgbClr val="ffffff"/>
              </a:solidFill>
              <a:latin typeface="Arial Rounded MT Bold"/>
            </a:endParaRPr>
          </a:p>
        </p:txBody>
      </p:sp>
      <p:sp>
        <p:nvSpPr>
          <p:cNvPr id="940" name=""/>
          <p:cNvSpPr txBox="1"/>
          <p:nvPr/>
        </p:nvSpPr>
        <p:spPr>
          <a:xfrm>
            <a:off x="712800" y="2276640"/>
            <a:ext cx="7716960" cy="412416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nk of an example of unfair punishment. It might be from home or school, or something you have seen on the TV or at the movies.</a:t>
            </a:r>
            <a:endParaRPr b="0" lang="en-US" sz="2400" spc="-1" strike="noStrike">
              <a:solidFill>
                <a:srgbClr val="ffffff"/>
              </a:solidFill>
              <a:latin typeface="Arial Rounded MT Bold"/>
            </a:endParaRPr>
          </a:p>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hat made it unfair?</a:t>
            </a:r>
            <a:endParaRPr b="0" lang="en-US" sz="2400" spc="-1" strike="noStrike">
              <a:solidFill>
                <a:srgbClr val="ffffff"/>
              </a:solidFill>
              <a:latin typeface="Arial Rounded MT Bold"/>
            </a:endParaRPr>
          </a:p>
          <a:p>
            <a:pPr lvl="1" marL="631800" indent="-282600">
              <a:spcAft>
                <a:spcPts val="1001"/>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Was it something to do with the way the punishment was decided?</a:t>
            </a:r>
            <a:endParaRPr b="0" lang="en-US" sz="2200" spc="-1" strike="noStrike">
              <a:solidFill>
                <a:srgbClr val="ffffff"/>
              </a:solidFill>
              <a:latin typeface="Arial Rounded MT Bold"/>
            </a:endParaRPr>
          </a:p>
          <a:p>
            <a:pPr lvl="1" marL="631800" indent="-282600">
              <a:spcAft>
                <a:spcPts val="1001"/>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Was it something to do with the specific punishment that was chosen?</a:t>
            </a:r>
            <a:endParaRPr b="0" lang="en-US" sz="2200" spc="-1" strike="noStrike">
              <a:solidFill>
                <a:srgbClr val="ffffff"/>
              </a:solidFill>
              <a:latin typeface="Arial Rounded MT Bold"/>
            </a:endParaRPr>
          </a:p>
        </p:txBody>
      </p:sp>
      <p:sp>
        <p:nvSpPr>
          <p:cNvPr id="941" name="Slide Number Placeholder 3"/>
          <p:cNvSpPr/>
          <p:nvPr/>
        </p:nvSpPr>
        <p:spPr>
          <a:xfrm>
            <a:off x="76320" y="604800"/>
            <a:ext cx="1385640" cy="2332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42C9-EE3E-461C-BD3C-A79C94A24567}" type="slidenum">
              <a:rPr b="0" lang="en-US" sz="1200" spc="-1" strike="noStrike">
                <a:solidFill>
                  <a:srgbClr val="fffff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331640" y="765000"/>
            <a:ext cx="771660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Ordering crimes</a:t>
            </a:r>
            <a:endParaRPr b="0" lang="en-US" sz="4600" spc="-1" strike="noStrike">
              <a:solidFill>
                <a:srgbClr val="ffffff"/>
              </a:solidFill>
              <a:latin typeface="Arial Rounded MT Bold"/>
            </a:endParaRPr>
          </a:p>
        </p:txBody>
      </p:sp>
      <p:sp>
        <p:nvSpPr>
          <p:cNvPr id="943" name=""/>
          <p:cNvSpPr txBox="1"/>
          <p:nvPr/>
        </p:nvSpPr>
        <p:spPr>
          <a:xfrm>
            <a:off x="712800" y="2276640"/>
            <a:ext cx="7716960" cy="4124160"/>
          </a:xfrm>
          <a:prstGeom prst="rect">
            <a:avLst/>
          </a:prstGeom>
          <a:noFill/>
          <a:ln w="0">
            <a:noFill/>
          </a:ln>
        </p:spPr>
        <p:txBody>
          <a:bodyPr anchor="t">
            <a:normAutofit/>
          </a:bodyPr>
          <a:p>
            <a:pPr marL="343080" indent="-343080">
              <a:lnSpc>
                <a:spcPct val="80000"/>
              </a:lnSpc>
              <a:spcAft>
                <a:spcPts val="2001"/>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tealing from a shop</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tabbing someone with a knife</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houting and swearing at someone</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unching someone in the face</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Telling lies in court</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Murdering someone</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Dangerous driving</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elling illegal drugs</a:t>
            </a:r>
            <a:endParaRPr b="0" lang="en-US" sz="2000" spc="-1" strike="noStrike">
              <a:solidFill>
                <a:srgbClr val="ffffff"/>
              </a:solidFill>
              <a:latin typeface="Arial Rounded MT Bold"/>
            </a:endParaRPr>
          </a:p>
          <a:p>
            <a:pPr marL="343080" indent="-343080">
              <a:lnSpc>
                <a:spcPct val="80000"/>
              </a:lnSpc>
              <a:spcAft>
                <a:spcPts val="2001"/>
              </a:spcAft>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p:txBody>
      </p:sp>
      <p:sp>
        <p:nvSpPr>
          <p:cNvPr id="944" name="Slide Number Placeholder 3"/>
          <p:cNvSpPr/>
          <p:nvPr/>
        </p:nvSpPr>
        <p:spPr>
          <a:xfrm>
            <a:off x="76320" y="604800"/>
            <a:ext cx="1385640" cy="2332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FD8F-4EE7-40D2-A431-E2B3844A67D8}" type="slidenum">
              <a:rPr b="0" lang="en-US" sz="1200" spc="-1" strike="noStrike">
                <a:solidFill>
                  <a:srgbClr val="fffff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1331640" y="765000"/>
            <a:ext cx="771660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Purposes of punishment</a:t>
            </a:r>
            <a:endParaRPr b="0" lang="en-US" sz="4600" spc="-1" strike="noStrike">
              <a:solidFill>
                <a:srgbClr val="ffffff"/>
              </a:solidFill>
              <a:latin typeface="Arial Rounded MT Bold"/>
            </a:endParaRPr>
          </a:p>
        </p:txBody>
      </p:sp>
      <p:pic>
        <p:nvPicPr>
          <p:cNvPr id="946" name="Content Placeholder 4" descr=""/>
          <p:cNvPicPr/>
          <p:nvPr/>
        </p:nvPicPr>
        <p:blipFill>
          <a:blip r:embed="rId1"/>
          <a:stretch/>
        </p:blipFill>
        <p:spPr>
          <a:xfrm>
            <a:off x="658800" y="2992320"/>
            <a:ext cx="7905600" cy="3408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7" name="Picture 5" descr="guillotine.jpg"/>
          <p:cNvPicPr/>
          <p:nvPr/>
        </p:nvPicPr>
        <p:blipFill>
          <a:blip r:embed="rId1"/>
          <a:stretch/>
        </p:blipFill>
        <p:spPr>
          <a:xfrm>
            <a:off x="3059280" y="2205000"/>
            <a:ext cx="2336760" cy="3492360"/>
          </a:xfrm>
          <a:prstGeom prst="rect">
            <a:avLst/>
          </a:prstGeom>
          <a:ln w="0">
            <a:noFill/>
          </a:ln>
        </p:spPr>
      </p:pic>
      <p:pic>
        <p:nvPicPr>
          <p:cNvPr id="948" name="Picture 6" descr="lethal injection.jpg"/>
          <p:cNvPicPr/>
          <p:nvPr/>
        </p:nvPicPr>
        <p:blipFill>
          <a:blip r:embed="rId2"/>
          <a:stretch/>
        </p:blipFill>
        <p:spPr>
          <a:xfrm>
            <a:off x="5651640" y="4076640"/>
            <a:ext cx="3289320" cy="2463840"/>
          </a:xfrm>
          <a:prstGeom prst="rect">
            <a:avLst/>
          </a:prstGeom>
          <a:ln w="0">
            <a:noFill/>
          </a:ln>
        </p:spPr>
      </p:pic>
      <p:pic>
        <p:nvPicPr>
          <p:cNvPr id="949" name="Picture 7" descr="Electric chair.jpg"/>
          <p:cNvPicPr/>
          <p:nvPr/>
        </p:nvPicPr>
        <p:blipFill>
          <a:blip r:embed="rId3"/>
          <a:stretch/>
        </p:blipFill>
        <p:spPr>
          <a:xfrm>
            <a:off x="250920" y="1125360"/>
            <a:ext cx="2736720" cy="4086360"/>
          </a:xfrm>
          <a:prstGeom prst="rect">
            <a:avLst/>
          </a:prstGeom>
          <a:ln w="0">
            <a:noFill/>
          </a:ln>
        </p:spPr>
      </p:pic>
      <p:pic>
        <p:nvPicPr>
          <p:cNvPr id="950" name="Picture 8" descr="Gallows.jpg"/>
          <p:cNvPicPr/>
          <p:nvPr/>
        </p:nvPicPr>
        <p:blipFill>
          <a:blip r:embed="rId4"/>
          <a:stretch/>
        </p:blipFill>
        <p:spPr>
          <a:xfrm>
            <a:off x="5580000" y="333360"/>
            <a:ext cx="3321000" cy="34560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1" name="Picture 4" descr="Unknown.jpg"/>
          <p:cNvPicPr/>
          <p:nvPr/>
        </p:nvPicPr>
        <p:blipFill>
          <a:blip r:embed="rId1"/>
          <a:stretch/>
        </p:blipFill>
        <p:spPr>
          <a:xfrm>
            <a:off x="395280" y="2414520"/>
            <a:ext cx="4681440" cy="3940200"/>
          </a:xfrm>
          <a:prstGeom prst="rect">
            <a:avLst/>
          </a:prstGeom>
          <a:ln w="0">
            <a:noFill/>
          </a:ln>
        </p:spPr>
      </p:pic>
      <p:pic>
        <p:nvPicPr>
          <p:cNvPr id="952" name="Picture 3" descr="images.jpeg"/>
          <p:cNvPicPr/>
          <p:nvPr/>
        </p:nvPicPr>
        <p:blipFill>
          <a:blip r:embed="rId2"/>
          <a:stretch/>
        </p:blipFill>
        <p:spPr>
          <a:xfrm>
            <a:off x="3851280" y="260280"/>
            <a:ext cx="5089680" cy="34178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3" name="Picture 2" descr="http://www.stronghold-knights.com/site/album/aubergine/pillory_stocks.jpg"/>
          <p:cNvPicPr/>
          <p:nvPr/>
        </p:nvPicPr>
        <p:blipFill>
          <a:blip r:embed="rId1"/>
          <a:stretch/>
        </p:blipFill>
        <p:spPr>
          <a:xfrm>
            <a:off x="5867280" y="1628640"/>
            <a:ext cx="2934000" cy="4152960"/>
          </a:xfrm>
          <a:prstGeom prst="rect">
            <a:avLst/>
          </a:prstGeom>
          <a:ln w="0">
            <a:noFill/>
          </a:ln>
        </p:spPr>
      </p:pic>
      <p:sp>
        <p:nvSpPr>
          <p:cNvPr id="954" name="AutoShape 6"/>
          <p:cNvSpPr/>
          <p:nvPr/>
        </p:nvSpPr>
        <p:spPr>
          <a:xfrm>
            <a:off x="8740800" y="-709560"/>
            <a:ext cx="2495520" cy="183816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pic>
        <p:nvPicPr>
          <p:cNvPr id="955" name="Picture 8" descr="&quot;Witch-bridle&quot;. Illustration. XIX."/>
          <p:cNvPicPr/>
          <p:nvPr/>
        </p:nvPicPr>
        <p:blipFill>
          <a:blip r:embed="rId2"/>
          <a:stretch/>
        </p:blipFill>
        <p:spPr>
          <a:xfrm>
            <a:off x="250920" y="1916280"/>
            <a:ext cx="5400720" cy="39812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6" name="Picture 4" descr="http://t1.gstatic.com/images?q=tbn:ANd9GcQ5PZkVPvpglkEZMf7y46e_YtLeERjh-IFo3YImdSLp1qA0li9Jag"/>
          <p:cNvPicPr/>
          <p:nvPr/>
        </p:nvPicPr>
        <p:blipFill>
          <a:blip r:embed="rId1"/>
          <a:stretch/>
        </p:blipFill>
        <p:spPr>
          <a:xfrm>
            <a:off x="900000" y="1125360"/>
            <a:ext cx="7580520" cy="5243760"/>
          </a:xfrm>
          <a:prstGeom prst="rect">
            <a:avLst/>
          </a:prstGeom>
          <a:ln w="0">
            <a:noFill/>
          </a:ln>
        </p:spPr>
      </p:pic>
      <p:sp>
        <p:nvSpPr>
          <p:cNvPr id="957" name="PlaceHolder 1"/>
          <p:cNvSpPr>
            <a:spLocks noGrp="1"/>
          </p:cNvSpPr>
          <p:nvPr>
            <p:ph type="title"/>
          </p:nvPr>
        </p:nvSpPr>
        <p:spPr>
          <a:xfrm>
            <a:off x="1331640" y="765000"/>
            <a:ext cx="771660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9:08:27Z</dcterms:created>
  <dc:creator>Fergus McNeil</dc:creator>
  <dc:description/>
  <dc:language>en-US</dc:language>
  <cp:lastModifiedBy>Fergus McNeill</cp:lastModifiedBy>
  <dcterms:modified xsi:type="dcterms:W3CDTF">2014-01-24T16:31:52Z</dcterms:modified>
  <cp:revision>197</cp:revision>
  <dc:subject/>
  <dc:title>Veterans and Villains: Oral History and  Penological Research</dc:title>
</cp:coreProperties>
</file>