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948488"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B5A6F-1D69-4EB5-96BD-78C8FE849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3"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4"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15A7-391D-4BE2-B632-DAC68ED9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D353F0-B7CA-4B3D-841D-8B6F9E5944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A1A8B3-D2AA-4371-B9FB-91405A6D2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C6D86-7642-4D56-9A50-CD384FAF2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6EFD7-799B-4910-8B86-985E4160F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F38CF6-04C6-4063-B285-E4D9166ED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9EF89-3101-4E8A-BA46-865A3CFC8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EA28EE-AC46-4ADE-B25C-626399E01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1B39B-DD52-49B5-93AD-3F3770DF1F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8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B6BFC-D7C2-4EF8-B591-B5DAE4959D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AD8A5E-644F-4923-9263-47745FDE75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9"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4E45C-465A-4D0D-94B9-E032C88AE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01B5A8-F60B-4F50-8F40-91AC8A38D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40ED22-4C0B-47B2-82DF-7828F0349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F536C-2425-4E3C-AE20-E16F18AF7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B6BD1-3320-4A70-BBC2-9D6DFAA65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070EDD-ACF5-4B28-92AB-AF88ABDD5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2D2E1-8DD7-472A-9155-13955C8E5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3EC208-EDCA-4880-A1A2-300720B35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DB7BB-9174-464C-B0DA-231DBB091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1A9A73-83F4-4A32-A873-F2B1D0232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22FEF2-C9BD-416A-9568-40D8718122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6"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EED06-FD20-490A-8D9B-800C34662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5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AFF325-A3CF-440A-BC72-14D3691196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2527E9-949A-48A3-A25F-BA860E9804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7A5831-B7E1-4B11-8E44-F38BA73700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CBA6F-D131-4C82-95FB-DB7BD45846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E1DFB0-2442-4DF1-B3FB-0BA077B695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10201-D0E1-4504-9C9E-958A9ABB6F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FFA23-39C5-4C18-B8FD-E44B374E3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441162-5591-42FE-BCA5-F11491F9D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2A107-8EE5-4751-AC29-4184F17F30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86F4F8-9581-415F-8C5C-0AC7DCD23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C2D368-5E2C-4BE4-B0F4-7795DF9149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FF607-5E6F-4400-8153-665216BC23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34B63D-A444-4E9F-A19B-62B06B0DE8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BC9790-1A7C-4CEB-8189-176C546BC6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3F7B11-61C6-48F0-9DCF-1AF61032FD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8B3BA7-5717-4190-A725-E19D2B96B9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3B7786-6C73-4F3E-AA07-03458984C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D534F0-E0C3-488D-9E48-426C5AE502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24716F-6644-4D3F-9151-6480A0FB15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9B55E2-3FB6-4DE3-9B1D-90CBEEEAA5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89CFF-96BC-44F3-9C92-A5010CD03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A8AF1-F195-4BC8-A10B-AB44405DD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818BE4-3E2B-4576-B9D2-2B4F9FF0BD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1DCD2D-89DF-4CBA-AA22-DBA76DB7BA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9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9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CBCEAC-8EEC-4CEC-BB8C-91249B01D4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5956A6-605B-4F03-8387-A820CD48C0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759CCB-9B31-4ECD-B5E4-6C6FE2C5F1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85976A-15B6-4AB8-839C-ADA85DF0D8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43F9CA-0A72-4F44-A6EF-7268F804F8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903635-B92F-4067-90AF-66FBD9D317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A0D013-DA8D-448D-B39C-DD82CB9F60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9221C3-03B8-4F67-AA84-DCF1A864C0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8E645F-E84B-4B63-A1F6-82B27C7703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DC014B-B839-4267-9B1C-E191738E81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1C86E8-F3BC-4CCB-945E-34F8A78CFC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7BDFC7-CF84-4C2D-9D1D-598C4B1BF6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975D20-F040-4CD5-9DEC-B095E9FD56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CF1CEA-9F8F-4B90-9A8E-3EE6966232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1F4A16-DE30-4373-8AB3-895AA22C62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57CC8D-644B-446A-A862-4C3E5EF8EF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49F32A-0544-4BE2-84E8-F6CB38F7FC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37BA00-A028-4D09-AACA-3C8ED62C4C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349053-B781-450D-B2BA-753AF7BDD5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5DAE4F-77A3-4D00-AEEF-1608A090F9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2B8D47-4408-4535-B449-6B80559D86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3AF026-7139-4318-97C3-D10DDEBAA2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2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50EEBF-4064-43FA-8F86-8C3381C487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2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684977-373C-41C2-B44F-ED4AF79A21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2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3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F51299-596E-431B-B595-CAB0D26B7D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2"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EFDFA-16B1-4C93-9616-D9812DDE0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9BFEC-FC17-4047-8951-346091274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D1D1F-C131-4626-BD27-670DE339B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F4A70-41ED-4BFC-89BB-5A6E7C4D8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0E72F-E61F-4974-8DF6-F0538D5EE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16CEE-313D-464E-8AC5-A459D9E22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086EA-32DC-4469-8109-F9621D3EF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E8A31-9ECD-4D7D-BB02-E5BE07067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A14C5-61BD-425A-8EA0-5E2675A7B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2737C-ABA2-48F6-B415-85268474F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A89A9-1215-4708-9EE3-7761E7F9F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065C1-2B76-483C-B966-31DBC7E36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35D87-8A52-4E1A-B835-BDAA48629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9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2585D-C487-48F9-A250-5566E4E1B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356F-52D9-49B5-9464-C859DEF70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11A23-78F1-4B48-8531-C891DF90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2"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4"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783C-765D-435A-944A-946761724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1"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4"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5"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6"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BBCCB-EF49-4C6F-A1C3-A4550862F0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348DD-1AEE-4836-A4E5-902462530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68507-28DD-4EF6-AFC0-A1E5B116F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FCFE0-4916-4951-A849-05EA98CDE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CCEC7-47A6-4571-98F4-13215DFD2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73BA4-E9D3-44ED-8B28-4267FCE00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A1815-754F-4AE6-AA15-025DD8C78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9CC7F-2A90-4879-A0C8-C0E51A71E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8D5ED-2A04-4161-B8D2-CD1285DD8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0FEC-8D97-4B6B-8FC0-E44292C8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6BE98A-8752-45FF-9385-7E9BF072F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7A7D2-6FC6-4FBD-B774-8CB787714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B7B190-A389-418D-9BFF-FE021F28FA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10B8D-25DA-4A73-ADC3-ECD0D075E5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8"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CC14D1-4488-492A-B942-9E80E164B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0"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3DD96-FBB2-499B-B171-44B3E86A2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F01B3-B5F2-4AF1-944D-F42AE57D14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A4547-C196-49D9-A0F3-12B9871C9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EE312-3DD9-4CFE-A65D-70138599B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2F291-189D-455D-AC6E-D00205BD6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7"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4989-5DDE-4B80-83A6-2F881BB5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3"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8729C-C326-4BF4-9947-26E33884E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7"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1E1E7-114D-415D-81FA-A0F9DBFD3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9"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157527-B9F0-4F49-AA10-E33EDF003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74F2FD-E108-4003-85F4-21701D4A6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7"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8"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9"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0"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1"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2"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309F4-C09C-41BB-B4BF-D351E85B04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AAAA09-0AFC-4706-8A6B-3FBF72F81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57F21B-32FD-4522-8550-39ABD7197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F54CE-11F7-41F0-9743-531474815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D47A35-53CF-4AB1-A216-F64C3E8C1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6F340-3BD8-45DA-A771-FB48362B2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1C70-4ED5-436E-A411-93B3E4A1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09C2B9-F6D0-425D-BC15-9AAC6DCE8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A4730-02A5-4E58-B577-EF2162894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A005B-9E54-44ED-A7CA-602F56129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DB3944-F66E-4224-AE2D-83BEB3BE6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02472-10B8-42B5-BA8C-8FF9BACB75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4D46BC-8B7B-4007-8FA5-6D21153624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1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2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3813D6-6718-4AC1-A4B2-1C4175D803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FD120B-6CF3-443C-8D0F-0646D082B4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991C1-F424-4FF5-8172-25A7912B2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B02BE7-616F-4DAA-A29B-A3E3BC5538C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800"/>
            <a:ext cx="7695360" cy="2026080"/>
            <a:chOff x="-573120" y="-649800"/>
            <a:chExt cx="7695360" cy="2026080"/>
          </a:xfrm>
        </p:grpSpPr>
        <p:grpSp>
          <p:nvGrpSpPr>
            <p:cNvPr id="2" name="Group 32"/>
            <p:cNvGrpSpPr/>
            <p:nvPr/>
          </p:nvGrpSpPr>
          <p:grpSpPr>
            <a:xfrm>
              <a:off x="-263160" y="-649800"/>
              <a:ext cx="7385400" cy="2026080"/>
              <a:chOff x="-263160" y="-649800"/>
              <a:chExt cx="7385400" cy="2026080"/>
            </a:xfrm>
          </p:grpSpPr>
          <p:sp>
            <p:nvSpPr>
              <p:cNvPr id="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0"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1"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6"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8"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9"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3"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727C-FF1B-48BE-8A2D-E07661BC19EE}"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7548-64FA-498E-BC36-3BB70C9BE909}"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0"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9" name="Picture 6" descr="TextSlideOverlay.png"/>
          <p:cNvPicPr/>
          <p:nvPr/>
        </p:nvPicPr>
        <p:blipFill>
          <a:blip r:embed="rId3"/>
          <a:stretch/>
        </p:blipFill>
        <p:spPr>
          <a:xfrm>
            <a:off x="0" y="0"/>
            <a:ext cx="9144000" cy="6858000"/>
          </a:xfrm>
          <a:prstGeom prst="rect">
            <a:avLst/>
          </a:prstGeom>
          <a:ln w="0">
            <a:noFill/>
          </a:ln>
        </p:spPr>
      </p:pic>
      <p:grpSp>
        <p:nvGrpSpPr>
          <p:cNvPr id="590" name="Group 7"/>
          <p:cNvGrpSpPr/>
          <p:nvPr/>
        </p:nvGrpSpPr>
        <p:grpSpPr>
          <a:xfrm>
            <a:off x="-573120" y="-649800"/>
            <a:ext cx="7695360" cy="2026080"/>
            <a:chOff x="-573120" y="-649800"/>
            <a:chExt cx="7695360" cy="2026080"/>
          </a:xfrm>
        </p:grpSpPr>
        <p:grpSp>
          <p:nvGrpSpPr>
            <p:cNvPr id="591" name="Group 32"/>
            <p:cNvGrpSpPr/>
            <p:nvPr/>
          </p:nvGrpSpPr>
          <p:grpSpPr>
            <a:xfrm>
              <a:off x="-263160" y="-649800"/>
              <a:ext cx="7385400" cy="2026080"/>
              <a:chOff x="-263160" y="-649800"/>
              <a:chExt cx="7385400" cy="2026080"/>
            </a:xfrm>
          </p:grpSpPr>
          <p:sp>
            <p:nvSpPr>
              <p:cNvPr id="59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4"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6"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7"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8"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99"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0"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2"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3"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4"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5"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7"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8"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09"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0"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1"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12"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1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4"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5" name="Rectangle 32"/>
          <p:cNvSpPr/>
          <p:nvPr/>
        </p:nvSpPr>
        <p:spPr>
          <a:xfrm>
            <a:off x="9360" y="2476440"/>
            <a:ext cx="9125280" cy="4368960"/>
          </a:xfrm>
          <a:prstGeom prst="rect">
            <a:avLst/>
          </a:prstGeom>
          <a:solidFill>
            <a:srgbClr val="0c5986">
              <a:alpha val="4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6" name="Straight Connector 33"/>
          <p:cNvSpPr/>
          <p:nvPr/>
        </p:nvSpPr>
        <p:spPr>
          <a:xfrm>
            <a:off x="9360" y="2476440"/>
            <a:ext cx="9125280" cy="1800"/>
          </a:xfrm>
          <a:prstGeom prst="line">
            <a:avLst/>
          </a:prstGeom>
          <a:ln w="25560">
            <a:solidFill>
              <a:srgbClr val="ddf53d">
                <a:alpha val="40000"/>
              </a:srgbClr>
            </a:solidFill>
            <a:miter/>
          </a:ln>
        </p:spPr>
        <p:style>
          <a:lnRef idx="0"/>
          <a:fillRef idx="0"/>
          <a:effectRef idx="0"/>
          <a:fontRef idx="minor"/>
        </p:style>
        <p:txBody>
          <a:bodyPr lIns="90000" rIns="90000" tIns="-45000" bIns="-450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1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9"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9BF4-2CC3-4CFD-BE8D-777834943E41}"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620"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21"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95EC-23D2-425A-854B-13D5C380F108}"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8" name="Picture 6" descr="TextSlideOverlay.png"/>
          <p:cNvPicPr/>
          <p:nvPr/>
        </p:nvPicPr>
        <p:blipFill>
          <a:blip r:embed="rId3"/>
          <a:stretch/>
        </p:blipFill>
        <p:spPr>
          <a:xfrm>
            <a:off x="0" y="0"/>
            <a:ext cx="9144000" cy="6858000"/>
          </a:xfrm>
          <a:prstGeom prst="rect">
            <a:avLst/>
          </a:prstGeom>
          <a:ln w="0">
            <a:noFill/>
          </a:ln>
        </p:spPr>
      </p:pic>
      <p:grpSp>
        <p:nvGrpSpPr>
          <p:cNvPr id="659" name="Group 7"/>
          <p:cNvGrpSpPr/>
          <p:nvPr/>
        </p:nvGrpSpPr>
        <p:grpSpPr>
          <a:xfrm>
            <a:off x="-573120" y="-649800"/>
            <a:ext cx="7695360" cy="2026080"/>
            <a:chOff x="-573120" y="-649800"/>
            <a:chExt cx="7695360" cy="2026080"/>
          </a:xfrm>
        </p:grpSpPr>
        <p:grpSp>
          <p:nvGrpSpPr>
            <p:cNvPr id="660" name="Group 32"/>
            <p:cNvGrpSpPr/>
            <p:nvPr/>
          </p:nvGrpSpPr>
          <p:grpSpPr>
            <a:xfrm>
              <a:off x="-263160" y="-649800"/>
              <a:ext cx="7385400" cy="2026080"/>
              <a:chOff x="-263160" y="-649800"/>
              <a:chExt cx="7385400" cy="2026080"/>
            </a:xfrm>
          </p:grpSpPr>
          <p:sp>
            <p:nvSpPr>
              <p:cNvPr id="66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7"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8"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6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3"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79"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8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8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8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83"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684" name="Group 32"/>
          <p:cNvGrpSpPr/>
          <p:nvPr/>
        </p:nvGrpSpPr>
        <p:grpSpPr>
          <a:xfrm>
            <a:off x="9360" y="3809880"/>
            <a:ext cx="9125280" cy="3035520"/>
            <a:chOff x="9360" y="3809880"/>
            <a:chExt cx="9125280" cy="3035520"/>
          </a:xfrm>
        </p:grpSpPr>
        <p:sp>
          <p:nvSpPr>
            <p:cNvPr id="685" name="Rectangle 33"/>
            <p:cNvSpPr/>
            <p:nvPr/>
          </p:nvSpPr>
          <p:spPr>
            <a:xfrm>
              <a:off x="9360" y="3809880"/>
              <a:ext cx="9125280" cy="3035520"/>
            </a:xfrm>
            <a:prstGeom prst="rect">
              <a:avLst/>
            </a:prstGeom>
            <a:solidFill>
              <a:srgbClr val="0c5986">
                <a:alpha val="4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86" name="Straight Connector 34"/>
            <p:cNvSpPr/>
            <p:nvPr/>
          </p:nvSpPr>
          <p:spPr>
            <a:xfrm>
              <a:off x="9360" y="3809880"/>
              <a:ext cx="9125280" cy="1440"/>
            </a:xfrm>
            <a:prstGeom prst="line">
              <a:avLst/>
            </a:prstGeom>
            <a:ln w="25560">
              <a:solidFill>
                <a:srgbClr val="ddf53d">
                  <a:alpha val="40000"/>
                </a:srgbClr>
              </a:solidFill>
              <a:miter/>
            </a:ln>
          </p:spPr>
          <p:style>
            <a:lnRef idx="0"/>
            <a:fillRef idx="0"/>
            <a:effectRef idx="0"/>
            <a:fontRef idx="minor"/>
          </p:style>
          <p:txBody>
            <a:bodyPr lIns="90000" rIns="90000" tIns="-45360" bIns="-4536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8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9"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F339-458E-4BB5-A02D-5CFAFEA5EAF8}"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690"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691"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9038-BED7-4A28-B0AB-42A11CC9028B}"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28" name="Picture 6" descr="TextSlideOverlay.png"/>
          <p:cNvPicPr/>
          <p:nvPr/>
        </p:nvPicPr>
        <p:blipFill>
          <a:blip r:embed="rId3"/>
          <a:stretch/>
        </p:blipFill>
        <p:spPr>
          <a:xfrm>
            <a:off x="0" y="0"/>
            <a:ext cx="9144000" cy="6858000"/>
          </a:xfrm>
          <a:prstGeom prst="rect">
            <a:avLst/>
          </a:prstGeom>
          <a:ln w="0">
            <a:noFill/>
          </a:ln>
        </p:spPr>
      </p:pic>
      <p:grpSp>
        <p:nvGrpSpPr>
          <p:cNvPr id="729" name="Group 7"/>
          <p:cNvGrpSpPr/>
          <p:nvPr/>
        </p:nvGrpSpPr>
        <p:grpSpPr>
          <a:xfrm>
            <a:off x="-573120" y="-649800"/>
            <a:ext cx="7695360" cy="2026080"/>
            <a:chOff x="-573120" y="-649800"/>
            <a:chExt cx="7695360" cy="2026080"/>
          </a:xfrm>
        </p:grpSpPr>
        <p:grpSp>
          <p:nvGrpSpPr>
            <p:cNvPr id="730" name="Group 32"/>
            <p:cNvGrpSpPr/>
            <p:nvPr/>
          </p:nvGrpSpPr>
          <p:grpSpPr>
            <a:xfrm>
              <a:off x="-263160" y="-649800"/>
              <a:ext cx="7385400" cy="2026080"/>
              <a:chOff x="-263160" y="-649800"/>
              <a:chExt cx="7385400" cy="2026080"/>
            </a:xfrm>
          </p:grpSpPr>
          <p:sp>
            <p:nvSpPr>
              <p:cNvPr id="73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7"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8"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3"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9"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5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53"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754" name="Group 32"/>
          <p:cNvGrpSpPr/>
          <p:nvPr/>
        </p:nvGrpSpPr>
        <p:grpSpPr>
          <a:xfrm>
            <a:off x="9360" y="3809880"/>
            <a:ext cx="9125280" cy="3035520"/>
            <a:chOff x="9360" y="3809880"/>
            <a:chExt cx="9125280" cy="3035520"/>
          </a:xfrm>
        </p:grpSpPr>
        <p:sp>
          <p:nvSpPr>
            <p:cNvPr id="755" name="Rectangle 33"/>
            <p:cNvSpPr/>
            <p:nvPr/>
          </p:nvSpPr>
          <p:spPr>
            <a:xfrm>
              <a:off x="9360" y="3809880"/>
              <a:ext cx="9125280" cy="3035520"/>
            </a:xfrm>
            <a:prstGeom prst="rect">
              <a:avLst/>
            </a:prstGeom>
            <a:solidFill>
              <a:srgbClr val="0c5986">
                <a:alpha val="4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56" name="Straight Connector 34"/>
            <p:cNvSpPr/>
            <p:nvPr/>
          </p:nvSpPr>
          <p:spPr>
            <a:xfrm>
              <a:off x="9360" y="3809880"/>
              <a:ext cx="9125280" cy="1440"/>
            </a:xfrm>
            <a:prstGeom prst="line">
              <a:avLst/>
            </a:prstGeom>
            <a:ln w="25560">
              <a:solidFill>
                <a:srgbClr val="ddf53d">
                  <a:alpha val="40000"/>
                </a:srgbClr>
              </a:solidFill>
              <a:miter/>
            </a:ln>
          </p:spPr>
          <p:style>
            <a:lnRef idx="0"/>
            <a:fillRef idx="0"/>
            <a:effectRef idx="0"/>
            <a:fontRef idx="minor"/>
          </p:style>
          <p:txBody>
            <a:bodyPr lIns="90000" rIns="90000" tIns="-45360" bIns="-4536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5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5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B0A6-12BB-4017-87B3-4DF8EAF4A1AF}"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76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6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5F2F-ADFC-4279-A377-185641AA7F6A}"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8" name="Picture 6" descr="TextSlideOverlay.png"/>
          <p:cNvPicPr/>
          <p:nvPr/>
        </p:nvPicPr>
        <p:blipFill>
          <a:blip r:embed="rId3"/>
          <a:stretch/>
        </p:blipFill>
        <p:spPr>
          <a:xfrm>
            <a:off x="0" y="0"/>
            <a:ext cx="9144000" cy="6858000"/>
          </a:xfrm>
          <a:prstGeom prst="rect">
            <a:avLst/>
          </a:prstGeom>
          <a:ln w="0">
            <a:noFill/>
          </a:ln>
        </p:spPr>
      </p:pic>
      <p:grpSp>
        <p:nvGrpSpPr>
          <p:cNvPr id="799" name="Group 7"/>
          <p:cNvGrpSpPr/>
          <p:nvPr/>
        </p:nvGrpSpPr>
        <p:grpSpPr>
          <a:xfrm>
            <a:off x="-573120" y="-649800"/>
            <a:ext cx="7695360" cy="2026080"/>
            <a:chOff x="-573120" y="-649800"/>
            <a:chExt cx="7695360" cy="2026080"/>
          </a:xfrm>
        </p:grpSpPr>
        <p:grpSp>
          <p:nvGrpSpPr>
            <p:cNvPr id="800" name="Group 32"/>
            <p:cNvGrpSpPr/>
            <p:nvPr/>
          </p:nvGrpSpPr>
          <p:grpSpPr>
            <a:xfrm>
              <a:off x="-263160" y="-649800"/>
              <a:ext cx="7385400" cy="2026080"/>
              <a:chOff x="-263160" y="-649800"/>
              <a:chExt cx="7385400" cy="2026080"/>
            </a:xfrm>
          </p:grpSpPr>
          <p:sp>
            <p:nvSpPr>
              <p:cNvPr id="80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7"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8"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3"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9"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2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2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3"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4" name="Round Same Side Corner Rectangle 32"/>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26"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27"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AD23-B10F-4AD0-BFCE-C469949EFECA}"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828"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9"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D997-63E1-445A-9354-E4C80DD121E5}"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Picture 6" descr="TextSlideOverlay.png"/>
          <p:cNvPicPr/>
          <p:nvPr/>
        </p:nvPicPr>
        <p:blipFill>
          <a:blip r:embed="rId3"/>
          <a:stretch/>
        </p:blipFill>
        <p:spPr>
          <a:xfrm>
            <a:off x="0" y="0"/>
            <a:ext cx="9144000" cy="6858000"/>
          </a:xfrm>
          <a:prstGeom prst="rect">
            <a:avLst/>
          </a:prstGeom>
          <a:ln w="0">
            <a:noFill/>
          </a:ln>
        </p:spPr>
      </p:pic>
      <p:grpSp>
        <p:nvGrpSpPr>
          <p:cNvPr id="867" name="Group 7"/>
          <p:cNvGrpSpPr/>
          <p:nvPr/>
        </p:nvGrpSpPr>
        <p:grpSpPr>
          <a:xfrm>
            <a:off x="-573120" y="-649800"/>
            <a:ext cx="7695360" cy="2026080"/>
            <a:chOff x="-573120" y="-649800"/>
            <a:chExt cx="7695360" cy="2026080"/>
          </a:xfrm>
        </p:grpSpPr>
        <p:grpSp>
          <p:nvGrpSpPr>
            <p:cNvPr id="868" name="Group 32"/>
            <p:cNvGrpSpPr/>
            <p:nvPr/>
          </p:nvGrpSpPr>
          <p:grpSpPr>
            <a:xfrm>
              <a:off x="-263160" y="-649800"/>
              <a:ext cx="7385400" cy="2026080"/>
              <a:chOff x="-263160" y="-649800"/>
              <a:chExt cx="7385400" cy="2026080"/>
            </a:xfrm>
          </p:grpSpPr>
          <p:sp>
            <p:nvSpPr>
              <p:cNvPr id="869"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0"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1"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2"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3"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4"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5"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6"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7"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8"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9"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0"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1"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2"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3"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4"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5"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6"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7"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8"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89"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890"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1"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2" name="Round Same Side Corner Rectangle 32"/>
          <p:cNvSpPr/>
          <p:nvPr/>
        </p:nvSpPr>
        <p:spPr>
          <a:xfrm>
            <a:off x="7299360" y="444600"/>
            <a:ext cx="1535040" cy="6400800"/>
          </a:xfrm>
          <a:custGeom>
            <a:avLst/>
            <a:gdLst/>
            <a:ahLst/>
            <a:rect l="l" t="t" r="r" b="b"/>
            <a:pathLst>
              <a:path w="1535113" h="6400800">
                <a:moveTo>
                  <a:pt x="767557" y="0"/>
                </a:moveTo>
                <a:lnTo>
                  <a:pt x="767557" y="0"/>
                </a:lnTo>
                <a:cubicBezTo>
                  <a:pt x="1191467" y="0"/>
                  <a:pt x="1535114" y="343647"/>
                  <a:pt x="1535114" y="767557"/>
                </a:cubicBezTo>
                <a:cubicBezTo>
                  <a:pt x="1535114" y="2645305"/>
                  <a:pt x="1535113" y="4523052"/>
                  <a:pt x="1535113" y="6400800"/>
                </a:cubicBezTo>
                <a:lnTo>
                  <a:pt x="1535113" y="6400800"/>
                </a:lnTo>
                <a:lnTo>
                  <a:pt x="0" y="6400800"/>
                </a:lnTo>
                <a:lnTo>
                  <a:pt x="0" y="6400800"/>
                </a:lnTo>
                <a:lnTo>
                  <a:pt x="0" y="767557"/>
                </a:lnTo>
                <a:cubicBezTo>
                  <a:pt x="0" y="343647"/>
                  <a:pt x="343647" y="0"/>
                  <a:pt x="767557"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94"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95"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BFCC-8704-46DA-AFC0-A57497B0B749}"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896"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7"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1310-CB95-420B-A269-DB990C6127AC}"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 name="Picture 32" descr="TitleSlideOverlay.png"/>
          <p:cNvPicPr/>
          <p:nvPr/>
        </p:nvPicPr>
        <p:blipFill>
          <a:blip r:embed="rId3"/>
          <a:stretch/>
        </p:blipFill>
        <p:spPr>
          <a:xfrm>
            <a:off x="0" y="0"/>
            <a:ext cx="9144000" cy="6858000"/>
          </a:xfrm>
          <a:prstGeom prst="rect">
            <a:avLst/>
          </a:prstGeom>
          <a:ln w="0">
            <a:noFill/>
          </a:ln>
        </p:spPr>
      </p:pic>
      <p:grpSp>
        <p:nvGrpSpPr>
          <p:cNvPr id="68" name="Group 33"/>
          <p:cNvGrpSpPr/>
          <p:nvPr/>
        </p:nvGrpSpPr>
        <p:grpSpPr>
          <a:xfrm>
            <a:off x="-360" y="1577880"/>
            <a:ext cx="9472320" cy="4641120"/>
            <a:chOff x="-360" y="1577880"/>
            <a:chExt cx="9472320" cy="4641120"/>
          </a:xfrm>
        </p:grpSpPr>
        <p:sp>
          <p:nvSpPr>
            <p:cNvPr id="69" name="Freeform 34"/>
            <p:cNvSpPr/>
            <p:nvPr/>
          </p:nvSpPr>
          <p:spPr>
            <a:xfrm rot="15669000">
              <a:off x="3702600" y="-842040"/>
              <a:ext cx="2065680" cy="9264600"/>
            </a:xfrm>
            <a:custGeom>
              <a:avLst/>
              <a:gdLst/>
              <a:ahLst/>
              <a:rect l="l" t="t" r="r" b="b"/>
              <a:pathLst>
                <a:path w="2209695" h="9154402">
                  <a:moveTo>
                    <a:pt x="67397" y="8829966"/>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ddf53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0" name="Freeform 35"/>
            <p:cNvSpPr/>
            <p:nvPr/>
          </p:nvSpPr>
          <p:spPr>
            <a:xfrm rot="15660000">
              <a:off x="5178960" y="1578240"/>
              <a:ext cx="10414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b3861">
                <a:alpha val="60000"/>
              </a:srgbClr>
            </a:solidFill>
            <a:ln w="31680">
              <a:solidFill>
                <a:srgbClr val="38abe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1" name="Freeform 36"/>
            <p:cNvSpPr/>
            <p:nvPr/>
          </p:nvSpPr>
          <p:spPr>
            <a:xfrm rot="15660000">
              <a:off x="6127560" y="-70200"/>
              <a:ext cx="931680" cy="5297400"/>
            </a:xfrm>
            <a:custGeom>
              <a:avLst/>
              <a:gdLst/>
              <a:ahLst/>
              <a:rect l="l" t="t" r="r" b="b"/>
              <a:pathLst>
                <a:path w="962833" h="6320186">
                  <a:moveTo>
                    <a:pt x="0" y="6172200"/>
                  </a:moveTo>
                  <a:lnTo>
                    <a:pt x="0" y="6172200"/>
                  </a:lnTo>
                  <a:lnTo>
                    <a:pt x="5534" y="6164375"/>
                  </a:lnTo>
                  <a:cubicBezTo>
                    <a:pt x="3689" y="4261983"/>
                    <a:pt x="1845" y="2359592"/>
                    <a:pt x="0" y="457200"/>
                  </a:cubicBez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b3861">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2" name="Freeform 37"/>
            <p:cNvSpPr/>
            <p:nvPr/>
          </p:nvSpPr>
          <p:spPr>
            <a:xfrm rot="15660000">
              <a:off x="5623560" y="-612360"/>
              <a:ext cx="9637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ddf53d">
                  <a:alpha val="5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3" name="Freeform 38"/>
            <p:cNvSpPr/>
            <p:nvPr/>
          </p:nvSpPr>
          <p:spPr>
            <a:xfrm rot="15660000">
              <a:off x="6394320" y="-279360"/>
              <a:ext cx="552240" cy="51055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c5986">
                <a:alpha val="30000"/>
              </a:srgbClr>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4" name="Freeform 39"/>
            <p:cNvSpPr/>
            <p:nvPr/>
          </p:nvSpPr>
          <p:spPr>
            <a:xfrm rot="15660000">
              <a:off x="7468200" y="1177920"/>
              <a:ext cx="536400" cy="2935080"/>
            </a:xfrm>
            <a:custGeom>
              <a:avLst/>
              <a:gdLst/>
              <a:ahLst/>
              <a:rect l="l" t="t" r="r" b="b"/>
              <a:pathLst>
                <a:path w="536285" h="2938929">
                  <a:moveTo>
                    <a:pt x="6777" y="2849391"/>
                  </a:moveTo>
                  <a:cubicBezTo>
                    <a:pt x="6668" y="1978928"/>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17682" y="905440"/>
                    <a:pt x="536285" y="2938929"/>
                  </a:cubicBezTo>
                </a:path>
              </a:pathLst>
            </a:custGeom>
            <a:solidFill>
              <a:srgbClr val="0c5986"/>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75" name="Freeform 40"/>
          <p:cNvSpPr/>
          <p:nvPr/>
        </p:nvSpPr>
        <p:spPr>
          <a:xfrm rot="15660000">
            <a:off x="5750640" y="-641880"/>
            <a:ext cx="985680" cy="6048360"/>
          </a:xfrm>
          <a:custGeom>
            <a:avLst/>
            <a:gdLst/>
            <a:ahLst/>
            <a:rect l="l" t="t" r="r" b="b"/>
            <a:pathLst>
              <a:path w="981537" h="6338829">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89058" y="4544471"/>
                  <a:pt x="981537" y="6338829"/>
                </a:cubicBezTo>
              </a:path>
            </a:pathLst>
          </a:custGeom>
          <a:solidFill>
            <a:srgbClr val="afddf8">
              <a:alpha val="8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76" name="Group 41"/>
          <p:cNvGrpSpPr/>
          <p:nvPr/>
        </p:nvGrpSpPr>
        <p:grpSpPr>
          <a:xfrm>
            <a:off x="784080" y="-1220760"/>
            <a:ext cx="5811840" cy="2952720"/>
            <a:chOff x="784080" y="-1220760"/>
            <a:chExt cx="5811840" cy="2952720"/>
          </a:xfrm>
        </p:grpSpPr>
        <p:sp>
          <p:nvSpPr>
            <p:cNvPr id="77" name="Oval 42"/>
            <p:cNvSpPr/>
            <p:nvPr/>
          </p:nvSpPr>
          <p:spPr>
            <a:xfrm>
              <a:off x="2382840" y="1122480"/>
              <a:ext cx="609480" cy="6094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8" name="Oval 43"/>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79" name="Oval 44"/>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0" name="Pie 45"/>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1" name="Oval 46"/>
            <p:cNvSpPr/>
            <p:nvPr/>
          </p:nvSpPr>
          <p:spPr>
            <a:xfrm>
              <a:off x="2344680" y="141480"/>
              <a:ext cx="1023840" cy="95256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2" name="Arc 47"/>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3" name="Pie 48"/>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4" name="Arc 49"/>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5" name="Oval 50"/>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6" name="Oval 51"/>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7" name="Arc 52"/>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8" name="Oval 53"/>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89" name="Oval 54"/>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90" name="Rectangle 55"/>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TextSlideOverlay.png"/>
          <p:cNvPicPr/>
          <p:nvPr/>
        </p:nvPicPr>
        <p:blipFill>
          <a:blip r:embed="rId3"/>
          <a:stretch/>
        </p:blipFill>
        <p:spPr>
          <a:xfrm>
            <a:off x="0" y="0"/>
            <a:ext cx="9144000" cy="6858000"/>
          </a:xfrm>
          <a:prstGeom prst="rect">
            <a:avLst/>
          </a:prstGeom>
          <a:ln w="0">
            <a:noFill/>
          </a:ln>
        </p:spPr>
      </p:pic>
      <p:grpSp>
        <p:nvGrpSpPr>
          <p:cNvPr id="130" name="Group 7"/>
          <p:cNvGrpSpPr/>
          <p:nvPr/>
        </p:nvGrpSpPr>
        <p:grpSpPr>
          <a:xfrm>
            <a:off x="-573120" y="-649800"/>
            <a:ext cx="7695360" cy="2026080"/>
            <a:chOff x="-573120" y="-649800"/>
            <a:chExt cx="7695360" cy="2026080"/>
          </a:xfrm>
        </p:grpSpPr>
        <p:grpSp>
          <p:nvGrpSpPr>
            <p:cNvPr id="131" name="Group 32"/>
            <p:cNvGrpSpPr/>
            <p:nvPr/>
          </p:nvGrpSpPr>
          <p:grpSpPr>
            <a:xfrm>
              <a:off x="-263160" y="-649800"/>
              <a:ext cx="7385400" cy="2026080"/>
              <a:chOff x="-263160" y="-649800"/>
              <a:chExt cx="7385400" cy="2026080"/>
            </a:xfrm>
          </p:grpSpPr>
          <p:sp>
            <p:nvSpPr>
              <p:cNvPr id="13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4"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6"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7"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8"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39"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0"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2"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3"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4"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5"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7"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8"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49"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0"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1"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152"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15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4"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5" name="Round Same Side Corner Rectangle 32"/>
          <p:cNvSpPr/>
          <p:nvPr/>
        </p:nvSpPr>
        <p:spPr>
          <a:xfrm rot="16200000">
            <a:off x="3974400" y="-302616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6"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5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9"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50FB-0A17-46DB-862C-BF9E9FA28C72}"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160"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161"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8D8D-BD5C-46D0-8F75-E0EEFBB0BA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Freeform 32"/>
          <p:cNvSpPr/>
          <p:nvPr/>
        </p:nvSpPr>
        <p:spPr>
          <a:xfrm rot="15660000">
            <a:off x="5180040" y="1836720"/>
            <a:ext cx="10396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b3861">
              <a:alpha val="60000"/>
            </a:srgbClr>
          </a:solidFill>
          <a:ln w="31680">
            <a:solidFill>
              <a:srgbClr val="38abe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pic>
        <p:nvPicPr>
          <p:cNvPr id="199" name="Picture 33" descr="TitleSlideOverlay.png"/>
          <p:cNvPicPr/>
          <p:nvPr/>
        </p:nvPicPr>
        <p:blipFill>
          <a:blip r:embed="rId3"/>
          <a:stretch/>
        </p:blipFill>
        <p:spPr>
          <a:xfrm>
            <a:off x="0" y="0"/>
            <a:ext cx="9144000" cy="6858000"/>
          </a:xfrm>
          <a:prstGeom prst="rect">
            <a:avLst/>
          </a:prstGeom>
          <a:ln w="0">
            <a:noFill/>
          </a:ln>
        </p:spPr>
      </p:pic>
      <p:grpSp>
        <p:nvGrpSpPr>
          <p:cNvPr id="200" name="Group 34"/>
          <p:cNvGrpSpPr/>
          <p:nvPr/>
        </p:nvGrpSpPr>
        <p:grpSpPr>
          <a:xfrm>
            <a:off x="784080" y="-1220760"/>
            <a:ext cx="5811840" cy="2952720"/>
            <a:chOff x="784080" y="-1220760"/>
            <a:chExt cx="5811840" cy="2952720"/>
          </a:xfrm>
        </p:grpSpPr>
        <p:sp>
          <p:nvSpPr>
            <p:cNvPr id="201" name="Oval 35"/>
            <p:cNvSpPr/>
            <p:nvPr/>
          </p:nvSpPr>
          <p:spPr>
            <a:xfrm>
              <a:off x="2382840" y="1122480"/>
              <a:ext cx="609480" cy="6094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2" name="Oval 36"/>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3" name="Oval 37"/>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4" name="Pie 38"/>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5" name="Oval 39"/>
            <p:cNvSpPr/>
            <p:nvPr/>
          </p:nvSpPr>
          <p:spPr>
            <a:xfrm>
              <a:off x="2344680" y="141480"/>
              <a:ext cx="1023840" cy="95256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6" name="Arc 40"/>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7" name="Pie 41"/>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8" name="Arc 42"/>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09" name="Oval 43"/>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0" name="Oval 44"/>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1" name="Arc 45"/>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2" name="Oval 46"/>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3" name="Oval 47"/>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14" name="Freeform 48"/>
          <p:cNvSpPr/>
          <p:nvPr/>
        </p:nvSpPr>
        <p:spPr>
          <a:xfrm rot="15660000">
            <a:off x="5752080" y="67320"/>
            <a:ext cx="968400" cy="603108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afddf8">
              <a:alpha val="8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5" name="Freeform 49"/>
          <p:cNvSpPr/>
          <p:nvPr/>
        </p:nvSpPr>
        <p:spPr>
          <a:xfrm rot="15669000">
            <a:off x="4038480" y="-17280"/>
            <a:ext cx="1789200" cy="8821800"/>
          </a:xfrm>
          <a:custGeom>
            <a:avLst/>
            <a:gdLst/>
            <a:ahLst/>
            <a:rect l="l" t="t" r="r" b="b"/>
            <a:pathLst>
              <a:path w="2209695" h="9154402">
                <a:moveTo>
                  <a:pt x="70836" y="8848823"/>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6" name="Freeform 50"/>
          <p:cNvSpPr/>
          <p:nvPr/>
        </p:nvSpPr>
        <p:spPr>
          <a:xfrm rot="15660000">
            <a:off x="6128640" y="621720"/>
            <a:ext cx="931680" cy="5295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b3861">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7" name="Freeform 51"/>
          <p:cNvSpPr/>
          <p:nvPr/>
        </p:nvSpPr>
        <p:spPr>
          <a:xfrm rot="15660000">
            <a:off x="5624280" y="77400"/>
            <a:ext cx="9619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ddf53d">
                <a:alpha val="5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8" name="Freeform 52"/>
          <p:cNvSpPr/>
          <p:nvPr/>
        </p:nvSpPr>
        <p:spPr>
          <a:xfrm rot="15660000">
            <a:off x="6395040" y="411840"/>
            <a:ext cx="552240" cy="51037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c5986">
              <a:alpha val="30000"/>
            </a:srgbClr>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19" name="Freeform 53"/>
          <p:cNvSpPr/>
          <p:nvPr/>
        </p:nvSpPr>
        <p:spPr>
          <a:xfrm rot="15660000">
            <a:off x="7468920" y="1865160"/>
            <a:ext cx="528480" cy="2947680"/>
          </a:xfrm>
          <a:custGeom>
            <a:avLst/>
            <a:gdLst/>
            <a:ahLst/>
            <a:rect l="l" t="t" r="r" b="b"/>
            <a:pathLst>
              <a:path w="528237" h="2951509">
                <a:moveTo>
                  <a:pt x="328" y="2862849"/>
                </a:moveTo>
                <a:cubicBezTo>
                  <a:pt x="219" y="1992386"/>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05702" y="918020"/>
                  <a:pt x="524305" y="2951509"/>
                </a:cubicBezTo>
              </a:path>
            </a:pathLst>
          </a:custGeom>
          <a:solidFill>
            <a:srgbClr val="0c5986"/>
          </a:solidFill>
          <a:ln w="5724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0"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2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9" name="Picture 32" descr="SectionHeaderOverlay.png"/>
          <p:cNvPicPr/>
          <p:nvPr/>
        </p:nvPicPr>
        <p:blipFill>
          <a:blip r:embed="rId3"/>
          <a:stretch/>
        </p:blipFill>
        <p:spPr>
          <a:xfrm>
            <a:off x="0" y="0"/>
            <a:ext cx="9144000" cy="6858000"/>
          </a:xfrm>
          <a:prstGeom prst="rect">
            <a:avLst/>
          </a:prstGeom>
          <a:ln w="0">
            <a:noFill/>
          </a:ln>
        </p:spPr>
      </p:pic>
      <p:sp>
        <p:nvSpPr>
          <p:cNvPr id="260" name="Freeform 33"/>
          <p:cNvSpPr/>
          <p:nvPr/>
        </p:nvSpPr>
        <p:spPr>
          <a:xfrm rot="4810200">
            <a:off x="3407760" y="1817640"/>
            <a:ext cx="1100160" cy="8103960"/>
          </a:xfrm>
          <a:custGeom>
            <a:avLst/>
            <a:gdLst/>
            <a:ahLst/>
            <a:rect l="l" t="t" r="r" b="b"/>
            <a:pathLst>
              <a:path w="1100209" h="8104720">
                <a:moveTo>
                  <a:pt x="533400" y="0"/>
                </a:moveTo>
                <a:lnTo>
                  <a:pt x="533400" y="0"/>
                </a:lnTo>
                <a:cubicBezTo>
                  <a:pt x="674867" y="0"/>
                  <a:pt x="810539" y="56198"/>
                  <a:pt x="910571" y="156230"/>
                </a:cubicBezTo>
                <a:cubicBezTo>
                  <a:pt x="1010603" y="256262"/>
                  <a:pt x="1055019" y="390601"/>
                  <a:pt x="1066800" y="533401"/>
                </a:cubicBezTo>
                <a:cubicBezTo>
                  <a:pt x="1066437" y="2679490"/>
                  <a:pt x="1093715" y="6711917"/>
                  <a:pt x="1100209" y="6755640"/>
                </a:cubicBezTo>
                <a:lnTo>
                  <a:pt x="848624" y="8104720"/>
                </a:lnTo>
                <a:lnTo>
                  <a:pt x="17782" y="7974865"/>
                </a:lnTo>
                <a:cubicBezTo>
                  <a:pt x="11855" y="5494377"/>
                  <a:pt x="5927" y="3013888"/>
                  <a:pt x="0" y="533400"/>
                </a:cubicBezTo>
                <a:cubicBezTo>
                  <a:pt x="0" y="391933"/>
                  <a:pt x="56198" y="256261"/>
                  <a:pt x="156230" y="156229"/>
                </a:cubicBezTo>
                <a:cubicBezTo>
                  <a:pt x="256262" y="56197"/>
                  <a:pt x="391935" y="0"/>
                  <a:pt x="533401" y="0"/>
                </a:cubicBezTo>
                <a:lnTo>
                  <a:pt x="533400" y="0"/>
                </a:lnTo>
                <a:close/>
              </a:path>
            </a:pathLst>
          </a:custGeom>
          <a:solidFill>
            <a:srgbClr val="0c5986">
              <a:alpha val="30000"/>
            </a:srgbClr>
          </a:solidFill>
          <a:ln w="3168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1" name="Freeform 34"/>
          <p:cNvSpPr/>
          <p:nvPr/>
        </p:nvSpPr>
        <p:spPr>
          <a:xfrm flipH="1" flipV="1" rot="15600000">
            <a:off x="3393000" y="-446400"/>
            <a:ext cx="2008440" cy="9264960"/>
          </a:xfrm>
          <a:custGeom>
            <a:avLst/>
            <a:gdLst/>
            <a:ahLst/>
            <a:rect l="l" t="t" r="r" b="b"/>
            <a:pathLst>
              <a:path w="2209695" h="9154402">
                <a:moveTo>
                  <a:pt x="93577" y="8811781"/>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ddf53d">
                <a:alpha val="6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262" name="Group 35"/>
          <p:cNvGrpSpPr/>
          <p:nvPr/>
        </p:nvGrpSpPr>
        <p:grpSpPr>
          <a:xfrm>
            <a:off x="2741400" y="-1206000"/>
            <a:ext cx="4668840" cy="2958480"/>
            <a:chOff x="2741400" y="-1206000"/>
            <a:chExt cx="4668840" cy="2958480"/>
          </a:xfrm>
        </p:grpSpPr>
        <p:sp>
          <p:nvSpPr>
            <p:cNvPr id="263" name="Oval 36"/>
            <p:cNvSpPr/>
            <p:nvPr/>
          </p:nvSpPr>
          <p:spPr>
            <a:xfrm>
              <a:off x="4495680" y="1143000"/>
              <a:ext cx="609480" cy="6094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nvGrpSpPr>
            <p:cNvPr id="264" name="Group 37"/>
            <p:cNvGrpSpPr/>
            <p:nvPr/>
          </p:nvGrpSpPr>
          <p:grpSpPr>
            <a:xfrm>
              <a:off x="2741400" y="-932040"/>
              <a:ext cx="2014560" cy="1892160"/>
              <a:chOff x="2741400" y="-932040"/>
              <a:chExt cx="2014560" cy="1892160"/>
            </a:xfrm>
          </p:grpSpPr>
          <p:sp>
            <p:nvSpPr>
              <p:cNvPr id="265" name="Arc 45"/>
              <p:cNvSpPr/>
              <p:nvPr/>
            </p:nvSpPr>
            <p:spPr>
              <a:xfrm flipH="1" rot="15213000">
                <a:off x="3022560" y="-834840"/>
                <a:ext cx="1452240" cy="1671840"/>
              </a:xfrm>
              <a:custGeom>
                <a:avLst/>
                <a:gdLst/>
                <a:ahLst/>
                <a:rect l="l" t="t" r="r" b="b"/>
                <a:pathLst>
                  <a:path stroke="0"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lnTo>
                      <a:pt x="726430" y="835541"/>
                    </a:lnTo>
                    <a:lnTo>
                      <a:pt x="485387" y="47339"/>
                    </a:lnTo>
                    <a:close/>
                  </a:path>
                  <a:path fill="none"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6" name="Oval 46"/>
              <p:cNvSpPr/>
              <p:nvPr/>
            </p:nvSpPr>
            <p:spPr>
              <a:xfrm flipH="1">
                <a:off x="3217680" y="317520"/>
                <a:ext cx="757440" cy="642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67" name="Oval 47"/>
              <p:cNvSpPr/>
              <p:nvPr/>
            </p:nvSpPr>
            <p:spPr>
              <a:xfrm flipH="1">
                <a:off x="3781080" y="156960"/>
                <a:ext cx="7556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grpSp>
          <p:nvGrpSpPr>
            <p:cNvPr id="268" name="Group 38"/>
            <p:cNvGrpSpPr/>
            <p:nvPr/>
          </p:nvGrpSpPr>
          <p:grpSpPr>
            <a:xfrm>
              <a:off x="3217680" y="-1206000"/>
              <a:ext cx="4192560" cy="2355840"/>
              <a:chOff x="3217680" y="-1206000"/>
              <a:chExt cx="4192560" cy="2355840"/>
            </a:xfrm>
          </p:grpSpPr>
          <p:sp>
            <p:nvSpPr>
              <p:cNvPr id="269" name="Pie 41"/>
              <p:cNvSpPr/>
              <p:nvPr/>
            </p:nvSpPr>
            <p:spPr>
              <a:xfrm>
                <a:off x="3388320" y="-776160"/>
                <a:ext cx="3198240" cy="1521000"/>
              </a:xfrm>
              <a:custGeom>
                <a:avLst/>
                <a:gdLst/>
                <a:ahLst/>
                <a:rect l="l" t="t" r="r" b="b"/>
                <a:pathLst>
                  <a:path w="3504392" h="1521138">
                    <a:moveTo>
                      <a:pt x="3504186" y="772227"/>
                    </a:moveTo>
                    <a:cubicBezTo>
                      <a:pt x="3489508" y="1187854"/>
                      <a:pt x="2708818" y="1521378"/>
                      <a:pt x="1751186" y="1521138"/>
                    </a:cubicBezTo>
                    <a:cubicBezTo>
                      <a:pt x="790164" y="1520898"/>
                      <a:pt x="8924" y="1184702"/>
                      <a:pt x="74" y="767573"/>
                    </a:cubicBezTo>
                    <a:lnTo>
                      <a:pt x="1752196" y="760569"/>
                    </a:lnTo>
                    <a:lnTo>
                      <a:pt x="3504186" y="772227"/>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0" name="Oval 42"/>
              <p:cNvSpPr/>
              <p:nvPr/>
            </p:nvSpPr>
            <p:spPr>
              <a:xfrm>
                <a:off x="4415760" y="130320"/>
                <a:ext cx="933480" cy="95256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1" name="Arc 43"/>
              <p:cNvSpPr/>
              <p:nvPr/>
            </p:nvSpPr>
            <p:spPr>
              <a:xfrm rot="12470400">
                <a:off x="3351600" y="-188280"/>
                <a:ext cx="1033560" cy="830160"/>
              </a:xfrm>
              <a:custGeom>
                <a:avLst/>
                <a:gdLst/>
                <a:ahLst/>
                <a:rect l="l" t="t" r="r" b="b"/>
                <a:pathLst>
                  <a:path stroke="0" w="1132751" h="830433">
                    <a:moveTo>
                      <a:pt x="4023" y="365817"/>
                    </a:moveTo>
                    <a:cubicBezTo>
                      <a:pt x="37949" y="158249"/>
                      <a:pt x="277083" y="1540"/>
                      <a:pt x="562234" y="11"/>
                    </a:cubicBezTo>
                    <a:cubicBezTo>
                      <a:pt x="844720" y="-1504"/>
                      <a:pt x="1085538" y="149818"/>
                      <a:pt x="1126706" y="354707"/>
                    </a:cubicBezTo>
                    <a:lnTo>
                      <a:pt x="566376" y="415217"/>
                    </a:lnTo>
                    <a:lnTo>
                      <a:pt x="4023" y="365817"/>
                    </a:lnTo>
                    <a:close/>
                  </a:path>
                  <a:path fill="none" w="1132751" h="830433">
                    <a:moveTo>
                      <a:pt x="4023" y="365817"/>
                    </a:moveTo>
                    <a:cubicBezTo>
                      <a:pt x="37949" y="158249"/>
                      <a:pt x="277083" y="1540"/>
                      <a:pt x="562234" y="11"/>
                    </a:cubicBezTo>
                    <a:cubicBezTo>
                      <a:pt x="844720" y="-1504"/>
                      <a:pt x="1085538" y="149818"/>
                      <a:pt x="1126706" y="354707"/>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2" name="Arc 44"/>
              <p:cNvSpPr/>
              <p:nvPr/>
            </p:nvSpPr>
            <p:spPr>
              <a:xfrm rot="6387000">
                <a:off x="5292360" y="-961560"/>
                <a:ext cx="1905120" cy="1867320"/>
              </a:xfrm>
              <a:custGeom>
                <a:avLst/>
                <a:gdLst/>
                <a:ahLst/>
                <a:rect l="l" t="t" r="r" b="b"/>
                <a:pathLst>
                  <a:path stroke="0" w="1905390" h="2046259">
                    <a:moveTo>
                      <a:pt x="673195" y="45021"/>
                    </a:moveTo>
                    <a:cubicBezTo>
                      <a:pt x="1186031" y="-123994"/>
                      <a:pt x="1727633" y="194831"/>
                      <a:pt x="1870823" y="750030"/>
                    </a:cubicBezTo>
                    <a:cubicBezTo>
                      <a:pt x="2006286" y="1275270"/>
                      <a:pt x="1734579" y="1822350"/>
                      <a:pt x="1252948" y="1994118"/>
                    </a:cubicBezTo>
                    <a:lnTo>
                      <a:pt x="952695" y="1023130"/>
                    </a:lnTo>
                    <a:lnTo>
                      <a:pt x="673195" y="45021"/>
                    </a:lnTo>
                    <a:close/>
                  </a:path>
                  <a:path fill="none" w="1905390" h="2046259">
                    <a:moveTo>
                      <a:pt x="673195" y="45021"/>
                    </a:moveTo>
                    <a:cubicBezTo>
                      <a:pt x="1186031" y="-123994"/>
                      <a:pt x="1727633" y="194831"/>
                      <a:pt x="1870823" y="750030"/>
                    </a:cubicBezTo>
                    <a:cubicBezTo>
                      <a:pt x="2006286" y="1275270"/>
                      <a:pt x="1734579" y="1822350"/>
                      <a:pt x="1252948" y="1994118"/>
                    </a:cubicBezTo>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73" name="Oval 39"/>
            <p:cNvSpPr/>
            <p:nvPr/>
          </p:nvSpPr>
          <p:spPr>
            <a:xfrm>
              <a:off x="3062160" y="90360"/>
              <a:ext cx="268200" cy="2664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4" name="Chord 40"/>
            <p:cNvSpPr/>
            <p:nvPr/>
          </p:nvSpPr>
          <p:spPr>
            <a:xfrm rot="17618400">
              <a:off x="2809080" y="-84600"/>
              <a:ext cx="182520" cy="228600"/>
            </a:xfrm>
            <a:custGeom>
              <a:avLst/>
              <a:gdLst/>
              <a:ahLst/>
              <a:rect l="l" t="t" r="r" b="b"/>
              <a:pathLst>
                <a:path w="182600" h="228524">
                  <a:moveTo>
                    <a:pt x="162627" y="185589"/>
                  </a:moveTo>
                  <a:cubicBezTo>
                    <a:pt x="132224" y="233208"/>
                    <a:pt x="77306" y="242576"/>
                    <a:pt x="37829" y="206878"/>
                  </a:cubicBezTo>
                  <a:cubicBezTo>
                    <a:pt x="8491" y="180349"/>
                    <a:pt x="-5554" y="134635"/>
                    <a:pt x="2024" y="90341"/>
                  </a:cubicBezTo>
                  <a:cubicBezTo>
                    <a:pt x="11038" y="37649"/>
                    <a:pt x="48243" y="1"/>
                    <a:pt x="91301" y="1"/>
                  </a:cubicBezTo>
                  <a:lnTo>
                    <a:pt x="162627" y="185589"/>
                  </a:lnTo>
                  <a:close/>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275" name="Round Same Side Corner Rectangle 48"/>
          <p:cNvSpPr/>
          <p:nvPr/>
        </p:nvSpPr>
        <p:spPr>
          <a:xfrm rot="4733400">
            <a:off x="1459080" y="2141640"/>
            <a:ext cx="809640" cy="2606400"/>
          </a:xfrm>
          <a:custGeom>
            <a:avLst/>
            <a:gdLst/>
            <a:ahLst/>
            <a:rect l="l" t="t" r="r" b="b"/>
            <a:pathLst>
              <a:path w="809625" h="2606675">
                <a:moveTo>
                  <a:pt x="404813" y="0"/>
                </a:moveTo>
                <a:lnTo>
                  <a:pt x="404813" y="0"/>
                </a:lnTo>
                <a:cubicBezTo>
                  <a:pt x="628385" y="0"/>
                  <a:pt x="809626" y="181241"/>
                  <a:pt x="809626" y="404813"/>
                </a:cubicBezTo>
                <a:cubicBezTo>
                  <a:pt x="809626" y="1138767"/>
                  <a:pt x="809625" y="1872721"/>
                  <a:pt x="809625" y="2606675"/>
                </a:cubicBezTo>
                <a:lnTo>
                  <a:pt x="809625" y="2606675"/>
                </a:lnTo>
                <a:lnTo>
                  <a:pt x="0" y="2606675"/>
                </a:lnTo>
                <a:lnTo>
                  <a:pt x="0" y="2606675"/>
                </a:lnTo>
                <a:lnTo>
                  <a:pt x="0" y="404813"/>
                </a:lnTo>
                <a:cubicBezTo>
                  <a:pt x="0" y="181241"/>
                  <a:pt x="181241" y="0"/>
                  <a:pt x="404813" y="0"/>
                </a:cubicBezTo>
                <a:close/>
              </a:path>
            </a:pathLst>
          </a:custGeom>
          <a:solidFill>
            <a:srgbClr val="0c5986">
              <a:alpha val="65000"/>
            </a:srgbClr>
          </a:solidFill>
          <a:ln w="25560">
            <a:solidFill>
              <a:srgbClr val="ddf53d">
                <a:alpha val="65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6" name="Freeform 49"/>
          <p:cNvSpPr/>
          <p:nvPr/>
        </p:nvSpPr>
        <p:spPr>
          <a:xfrm rot="4733400">
            <a:off x="813600" y="2201760"/>
            <a:ext cx="700200" cy="2513160"/>
          </a:xfrm>
          <a:custGeom>
            <a:avLst/>
            <a:gdLst/>
            <a:ahLst/>
            <a:rect l="l" t="t" r="r" b="b"/>
            <a:pathLst>
              <a:path w="778667" h="2512599">
                <a:moveTo>
                  <a:pt x="0" y="2357093"/>
                </a:moveTo>
                <a:lnTo>
                  <a:pt x="19377" y="370199"/>
                </a:lnTo>
                <a:cubicBezTo>
                  <a:pt x="19377" y="272016"/>
                  <a:pt x="58380" y="177855"/>
                  <a:pt x="127806" y="108429"/>
                </a:cubicBezTo>
                <a:cubicBezTo>
                  <a:pt x="197232" y="39003"/>
                  <a:pt x="291394" y="0"/>
                  <a:pt x="389576" y="1"/>
                </a:cubicBezTo>
                <a:lnTo>
                  <a:pt x="389576" y="0"/>
                </a:lnTo>
                <a:lnTo>
                  <a:pt x="389576" y="0"/>
                </a:lnTo>
                <a:cubicBezTo>
                  <a:pt x="487759" y="0"/>
                  <a:pt x="581920" y="39003"/>
                  <a:pt x="651346" y="108429"/>
                </a:cubicBezTo>
                <a:cubicBezTo>
                  <a:pt x="720772" y="177855"/>
                  <a:pt x="759775" y="272017"/>
                  <a:pt x="759774" y="370199"/>
                </a:cubicBezTo>
                <a:cubicBezTo>
                  <a:pt x="778667" y="770894"/>
                  <a:pt x="763675" y="2066266"/>
                  <a:pt x="764702" y="2512599"/>
                </a:cubicBezTo>
              </a:path>
            </a:pathLst>
          </a:custGeom>
          <a:solidFill>
            <a:srgbClr val="0c5986"/>
          </a:solidFill>
          <a:ln w="12708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7" name="Freeform 50"/>
          <p:cNvSpPr/>
          <p:nvPr/>
        </p:nvSpPr>
        <p:spPr>
          <a:xfrm rot="4733400">
            <a:off x="390600" y="3357360"/>
            <a:ext cx="379080" cy="1208160"/>
          </a:xfrm>
          <a:custGeom>
            <a:avLst/>
            <a:gdLst/>
            <a:ahLst/>
            <a:rect l="l" t="t" r="r" b="b"/>
            <a:pathLst>
              <a:path w="459179" h="1462129">
                <a:moveTo>
                  <a:pt x="0" y="1379079"/>
                </a:moveTo>
                <a:lnTo>
                  <a:pt x="597" y="229291"/>
                </a:lnTo>
                <a:cubicBezTo>
                  <a:pt x="597" y="168479"/>
                  <a:pt x="24755" y="110158"/>
                  <a:pt x="67755" y="67158"/>
                </a:cubicBezTo>
                <a:cubicBezTo>
                  <a:pt x="110755" y="24158"/>
                  <a:pt x="169077" y="0"/>
                  <a:pt x="229888" y="0"/>
                </a:cubicBezTo>
                <a:lnTo>
                  <a:pt x="229888" y="0"/>
                </a:lnTo>
                <a:cubicBezTo>
                  <a:pt x="290700" y="0"/>
                  <a:pt x="349021" y="24158"/>
                  <a:pt x="392021" y="67158"/>
                </a:cubicBezTo>
                <a:cubicBezTo>
                  <a:pt x="435021" y="110158"/>
                  <a:pt x="459179" y="168480"/>
                  <a:pt x="459179" y="229291"/>
                </a:cubicBezTo>
                <a:lnTo>
                  <a:pt x="448070" y="1462129"/>
                </a:lnTo>
              </a:path>
            </a:pathLst>
          </a:custGeom>
          <a:solidFill>
            <a:srgbClr val="0c5986"/>
          </a:solidFill>
          <a:ln w="63360">
            <a:solidFill>
              <a:srgbClr val="ddf53d"/>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8" name="Rectangle 51"/>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2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8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7" name="Picture 6" descr="TextSlideOverlay.png"/>
          <p:cNvPicPr/>
          <p:nvPr/>
        </p:nvPicPr>
        <p:blipFill>
          <a:blip r:embed="rId3"/>
          <a:stretch/>
        </p:blipFill>
        <p:spPr>
          <a:xfrm>
            <a:off x="0" y="0"/>
            <a:ext cx="9144000" cy="6858000"/>
          </a:xfrm>
          <a:prstGeom prst="rect">
            <a:avLst/>
          </a:prstGeom>
          <a:ln w="0">
            <a:noFill/>
          </a:ln>
        </p:spPr>
      </p:pic>
      <p:grpSp>
        <p:nvGrpSpPr>
          <p:cNvPr id="318" name="Group 7"/>
          <p:cNvGrpSpPr/>
          <p:nvPr/>
        </p:nvGrpSpPr>
        <p:grpSpPr>
          <a:xfrm>
            <a:off x="-573120" y="-649800"/>
            <a:ext cx="7695360" cy="2026080"/>
            <a:chOff x="-573120" y="-649800"/>
            <a:chExt cx="7695360" cy="2026080"/>
          </a:xfrm>
        </p:grpSpPr>
        <p:grpSp>
          <p:nvGrpSpPr>
            <p:cNvPr id="319" name="Group 32"/>
            <p:cNvGrpSpPr/>
            <p:nvPr/>
          </p:nvGrpSpPr>
          <p:grpSpPr>
            <a:xfrm>
              <a:off x="-263160" y="-649800"/>
              <a:ext cx="7385400" cy="2026080"/>
              <a:chOff x="-263160" y="-649800"/>
              <a:chExt cx="7385400" cy="2026080"/>
            </a:xfrm>
          </p:grpSpPr>
          <p:sp>
            <p:nvSpPr>
              <p:cNvPr id="320"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1"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2"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3"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4"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5"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6"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7"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8"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29"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0"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1"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2"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3"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4"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5"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6"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7"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8"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39"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340"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341"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2"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3" name="Round Same Side Corner Rectangle 32"/>
          <p:cNvSpPr/>
          <p:nvPr/>
        </p:nvSpPr>
        <p:spPr>
          <a:xfrm rot="16200000">
            <a:off x="3974040" y="-2953800"/>
            <a:ext cx="145116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6"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0CD6-9EFA-4CA5-AFE7-37D826457F8E}"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347"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48"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8C0E-2A66-40A7-B42A-1AFB1517FD30}"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5" name="Picture 6" descr="TextSlideOverlay.png"/>
          <p:cNvPicPr/>
          <p:nvPr/>
        </p:nvPicPr>
        <p:blipFill>
          <a:blip r:embed="rId3"/>
          <a:stretch/>
        </p:blipFill>
        <p:spPr>
          <a:xfrm>
            <a:off x="0" y="0"/>
            <a:ext cx="9144000" cy="6858000"/>
          </a:xfrm>
          <a:prstGeom prst="rect">
            <a:avLst/>
          </a:prstGeom>
          <a:ln w="0">
            <a:noFill/>
          </a:ln>
        </p:spPr>
      </p:pic>
      <p:grpSp>
        <p:nvGrpSpPr>
          <p:cNvPr id="386" name="Group 7"/>
          <p:cNvGrpSpPr/>
          <p:nvPr/>
        </p:nvGrpSpPr>
        <p:grpSpPr>
          <a:xfrm>
            <a:off x="-573120" y="-649800"/>
            <a:ext cx="7695360" cy="2026080"/>
            <a:chOff x="-573120" y="-649800"/>
            <a:chExt cx="7695360" cy="2026080"/>
          </a:xfrm>
        </p:grpSpPr>
        <p:grpSp>
          <p:nvGrpSpPr>
            <p:cNvPr id="387" name="Group 32"/>
            <p:cNvGrpSpPr/>
            <p:nvPr/>
          </p:nvGrpSpPr>
          <p:grpSpPr>
            <a:xfrm>
              <a:off x="-263160" y="-649800"/>
              <a:ext cx="7385400" cy="2026080"/>
              <a:chOff x="-263160" y="-649800"/>
              <a:chExt cx="7385400" cy="2026080"/>
            </a:xfrm>
          </p:grpSpPr>
          <p:sp>
            <p:nvSpPr>
              <p:cNvPr id="38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8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0"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2"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3"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4"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5"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6"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8"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399"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0"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1"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3"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4"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5"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6"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07"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08"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0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0"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1" name="Round Same Side Corner Rectangle 32"/>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13"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14"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90C9-9524-4B52-B709-46560909716E}"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415"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16"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E576-E837-4895-897D-0380D1F5268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3" name="Picture 6" descr="TextSlideOverlay.png"/>
          <p:cNvPicPr/>
          <p:nvPr/>
        </p:nvPicPr>
        <p:blipFill>
          <a:blip r:embed="rId3"/>
          <a:stretch/>
        </p:blipFill>
        <p:spPr>
          <a:xfrm>
            <a:off x="0" y="0"/>
            <a:ext cx="9144000" cy="6858000"/>
          </a:xfrm>
          <a:prstGeom prst="rect">
            <a:avLst/>
          </a:prstGeom>
          <a:ln w="0">
            <a:noFill/>
          </a:ln>
        </p:spPr>
      </p:pic>
      <p:grpSp>
        <p:nvGrpSpPr>
          <p:cNvPr id="454" name="Group 7"/>
          <p:cNvGrpSpPr/>
          <p:nvPr/>
        </p:nvGrpSpPr>
        <p:grpSpPr>
          <a:xfrm>
            <a:off x="-573120" y="-649800"/>
            <a:ext cx="7695360" cy="2026080"/>
            <a:chOff x="-573120" y="-649800"/>
            <a:chExt cx="7695360" cy="2026080"/>
          </a:xfrm>
        </p:grpSpPr>
        <p:grpSp>
          <p:nvGrpSpPr>
            <p:cNvPr id="455" name="Group 32"/>
            <p:cNvGrpSpPr/>
            <p:nvPr/>
          </p:nvGrpSpPr>
          <p:grpSpPr>
            <a:xfrm>
              <a:off x="-263160" y="-649800"/>
              <a:ext cx="7385400" cy="2026080"/>
              <a:chOff x="-263160" y="-649800"/>
              <a:chExt cx="7385400" cy="2026080"/>
            </a:xfrm>
          </p:grpSpPr>
          <p:sp>
            <p:nvSpPr>
              <p:cNvPr id="456"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7"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8"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59"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0"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1"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2"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3"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4"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5"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6"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7"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8"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69"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0"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1"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2"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3"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4"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5"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76"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477"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8"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79" name="Round Same Side Corner Rectangle 32"/>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ddf53d">
                <a:alpha val="30000"/>
              </a:srgbClr>
            </a:solidFill>
            <a:round/>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8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82"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5056-1AD5-47F6-B0F5-16AD06DA89FD}"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483"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484"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5D72-7645-4677-9A53-E74FF4BC1C4A}"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6" descr="TextSlideOverlay.png"/>
          <p:cNvPicPr/>
          <p:nvPr/>
        </p:nvPicPr>
        <p:blipFill>
          <a:blip r:embed="rId3"/>
          <a:stretch/>
        </p:blipFill>
        <p:spPr>
          <a:xfrm>
            <a:off x="0" y="0"/>
            <a:ext cx="9144000" cy="6858000"/>
          </a:xfrm>
          <a:prstGeom prst="rect">
            <a:avLst/>
          </a:prstGeom>
          <a:ln w="0">
            <a:noFill/>
          </a:ln>
        </p:spPr>
      </p:pic>
      <p:grpSp>
        <p:nvGrpSpPr>
          <p:cNvPr id="522" name="Group 7"/>
          <p:cNvGrpSpPr/>
          <p:nvPr/>
        </p:nvGrpSpPr>
        <p:grpSpPr>
          <a:xfrm>
            <a:off x="-573120" y="-649800"/>
            <a:ext cx="7695360" cy="2026080"/>
            <a:chOff x="-573120" y="-649800"/>
            <a:chExt cx="7695360" cy="2026080"/>
          </a:xfrm>
        </p:grpSpPr>
        <p:grpSp>
          <p:nvGrpSpPr>
            <p:cNvPr id="523" name="Group 32"/>
            <p:cNvGrpSpPr/>
            <p:nvPr/>
          </p:nvGrpSpPr>
          <p:grpSpPr>
            <a:xfrm>
              <a:off x="-263160" y="-649800"/>
              <a:ext cx="7385400" cy="2026080"/>
              <a:chOff x="-263160" y="-649800"/>
              <a:chExt cx="7385400" cy="2026080"/>
            </a:xfrm>
          </p:grpSpPr>
          <p:sp>
            <p:nvSpPr>
              <p:cNvPr id="524"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5"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6"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7"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8"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29"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0" name="Oval 16"/>
              <p:cNvSpPr/>
              <p:nvPr/>
            </p:nvSpPr>
            <p:spPr>
              <a:xfrm>
                <a:off x="2630880" y="762120"/>
                <a:ext cx="417240" cy="41760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1" name="Oval 17"/>
              <p:cNvSpPr/>
              <p:nvPr/>
            </p:nvSpPr>
            <p:spPr>
              <a:xfrm rot="2510400">
                <a:off x="169560" y="163440"/>
                <a:ext cx="779400" cy="982800"/>
              </a:xfrm>
              <a:prstGeom prst="ellipse">
                <a:avLst/>
              </a:prstGeom>
              <a:solidFill>
                <a:srgbClr val="38abed">
                  <a:alpha val="5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2"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3"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4"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5"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6" name="Oval 22"/>
              <p:cNvSpPr/>
              <p:nvPr/>
            </p:nvSpPr>
            <p:spPr>
              <a:xfrm>
                <a:off x="5728320" y="63360"/>
                <a:ext cx="685800" cy="53352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7"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8"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39"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ddf53d">
                  <a:alpha val="50000"/>
                </a:srgbClr>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0"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1"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2" name="Oval 28"/>
              <p:cNvSpPr/>
              <p:nvPr/>
            </p:nvSpPr>
            <p:spPr>
              <a:xfrm>
                <a:off x="2403720" y="0"/>
                <a:ext cx="664920" cy="665280"/>
              </a:xfrm>
              <a:prstGeom prst="ellipse">
                <a:avLst/>
              </a:prstGeom>
              <a:solidFill>
                <a:srgbClr val="38abed"/>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3"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544"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38abed"/>
            </a:solidFill>
            <a:ln w="0">
              <a:noFill/>
            </a:ln>
          </p:spPr>
          <p:style>
            <a:lnRef idx="0"/>
            <a:fillRef idx="0"/>
            <a:effectRef idx="0"/>
            <a:fontRef idx="minor"/>
          </p:style>
          <p:txBody>
            <a:bodyPr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grpSp>
      <p:sp>
        <p:nvSpPr>
          <p:cNvPr id="54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6" name="Rectangle 9"/>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7" name="Rounded Rectangle 32"/>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c5986">
              <a:alpha val="60000"/>
            </a:srgbClr>
          </a:solidFill>
          <a:ln w="63360">
            <a:solidFill>
              <a:srgbClr val="ddf53d">
                <a:alpha val="60000"/>
              </a:srgbClr>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50"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CFE1-DF89-4541-AC2A-0849F57F41D4}" type="datetime3">
              <a:rPr b="0" lang="en-US" sz="1000" spc="-1" strike="noStrike">
                <a:solidFill>
                  <a:srgbClr val="ffffff"/>
                </a:solidFill>
                <a:latin typeface="Times New Roman"/>
              </a:rPr>
              <a:t>July 29, 2026</a:t>
            </a:fld>
            <a:endParaRPr b="0" lang="en-US" sz="1000" spc="-1" strike="noStrike">
              <a:solidFill>
                <a:srgbClr val="000000"/>
              </a:solidFill>
              <a:latin typeface="Times New Roman"/>
            </a:endParaRPr>
          </a:p>
        </p:txBody>
      </p:sp>
      <p:sp>
        <p:nvSpPr>
          <p:cNvPr id="551"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
        <p:nvSpPr>
          <p:cNvPr id="552"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3852-ACCF-4C04-868B-48E5871AD58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gn="ctr">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Rounded MT Bold"/>
              </a:rPr>
              <a:t>Crime &amp; Punishment</a:t>
            </a:r>
            <a:endParaRPr b="0" lang="en-US" sz="5400" spc="-1" strike="noStrike">
              <a:solidFill>
                <a:srgbClr val="ffffff"/>
              </a:solidFill>
              <a:latin typeface="Arial Rounded MT Bold"/>
            </a:endParaRPr>
          </a:p>
        </p:txBody>
      </p:sp>
      <p:sp>
        <p:nvSpPr>
          <p:cNvPr id="935" name="PlaceHolder 2"/>
          <p:cNvSpPr>
            <a:spLocks noGrp="1"/>
          </p:cNvSpPr>
          <p:nvPr>
            <p:ph type="subTitle"/>
          </p:nvPr>
        </p:nvSpPr>
        <p:spPr>
          <a:xfrm>
            <a:off x="324000" y="764640"/>
            <a:ext cx="8632800" cy="103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7, XXXX Primary School</a:t>
            </a:r>
            <a:endParaRPr b="0" lang="en-US" sz="2400" spc="-1" strike="noStrike">
              <a:solidFill>
                <a:srgbClr val="ffffff"/>
              </a:solidFill>
              <a:latin typeface="Arial Rounded MT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21</a:t>
            </a:r>
            <a:r>
              <a:rPr b="0" lang="en-US" sz="2400" spc="-1" strike="noStrike" baseline="30000">
                <a:solidFill>
                  <a:srgbClr val="ffffff"/>
                </a:solidFill>
                <a:latin typeface="Arial Rounded MT Bold"/>
              </a:rPr>
              <a:t>st</a:t>
            </a:r>
            <a:r>
              <a:rPr b="0" lang="en-US" sz="2400" spc="-1" strike="noStrike">
                <a:solidFill>
                  <a:srgbClr val="ffffff"/>
                </a:solidFill>
                <a:latin typeface="Arial Rounded MT Bold"/>
              </a:rPr>
              <a:t> January 2014</a:t>
            </a:r>
            <a:endParaRPr b="0" lang="en-US" sz="2400" spc="-1" strike="noStrike">
              <a:solidFill>
                <a:srgbClr val="ffffff"/>
              </a:solidFill>
              <a:latin typeface="Arial Rounded MT Bold"/>
            </a:endParaRPr>
          </a:p>
        </p:txBody>
      </p:sp>
      <p:sp>
        <p:nvSpPr>
          <p:cNvPr id="936" name="TextBox 5"/>
          <p:cNvSpPr/>
          <p:nvPr/>
        </p:nvSpPr>
        <p:spPr>
          <a:xfrm>
            <a:off x="6510240" y="4883040"/>
            <a:ext cx="184320" cy="40032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AutoShape 2"/>
          <p:cNvSpPr/>
          <p:nvPr/>
        </p:nvSpPr>
        <p:spPr>
          <a:xfrm>
            <a:off x="8864640" y="-447840"/>
            <a:ext cx="1542960" cy="11527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pic>
        <p:nvPicPr>
          <p:cNvPr id="959" name="Picture 4" descr="http://newsimg.bbc.co.uk/media/images/44464000/jpg/_44464459_barlinnie_withpa203.jpg"/>
          <p:cNvPicPr/>
          <p:nvPr/>
        </p:nvPicPr>
        <p:blipFill>
          <a:blip r:embed="rId1"/>
          <a:stretch/>
        </p:blipFill>
        <p:spPr>
          <a:xfrm>
            <a:off x="468360" y="1125360"/>
            <a:ext cx="3941640" cy="2951280"/>
          </a:xfrm>
          <a:prstGeom prst="rect">
            <a:avLst/>
          </a:prstGeom>
          <a:ln w="0">
            <a:noFill/>
          </a:ln>
        </p:spPr>
      </p:pic>
      <p:pic>
        <p:nvPicPr>
          <p:cNvPr id="960" name="Picture 6" descr="http://www.theglasgowstory.com/images/TGSG00016_m.jpg"/>
          <p:cNvPicPr/>
          <p:nvPr/>
        </p:nvPicPr>
        <p:blipFill>
          <a:blip r:embed="rId2"/>
          <a:stretch/>
        </p:blipFill>
        <p:spPr>
          <a:xfrm>
            <a:off x="4859280" y="1125360"/>
            <a:ext cx="3809880" cy="2876760"/>
          </a:xfrm>
          <a:prstGeom prst="rect">
            <a:avLst/>
          </a:prstGeom>
          <a:ln w="0">
            <a:noFill/>
          </a:ln>
        </p:spPr>
      </p:pic>
      <p:pic>
        <p:nvPicPr>
          <p:cNvPr id="961" name="Picture 8" descr="http://3.bp.blogspot.com/-5T1nObTeqOg/Te6qyGw684I/AAAAAAAAEiY/n6en8Kofu_0/s1600/chain-gang1.jpg"/>
          <p:cNvPicPr/>
          <p:nvPr/>
        </p:nvPicPr>
        <p:blipFill>
          <a:blip r:embed="rId3"/>
          <a:stretch/>
        </p:blipFill>
        <p:spPr>
          <a:xfrm>
            <a:off x="468360" y="4221000"/>
            <a:ext cx="3216240" cy="2492640"/>
          </a:xfrm>
          <a:prstGeom prst="rect">
            <a:avLst/>
          </a:prstGeom>
          <a:ln w="0">
            <a:noFill/>
          </a:ln>
        </p:spPr>
      </p:pic>
      <p:pic>
        <p:nvPicPr>
          <p:cNvPr id="962" name="Picture 10" descr="http://t2.gstatic.com/images?q=tbn:ANd9GcQKmSyE8aKzoVeh-J--JyM-0Wt8BiXvmZU6H8-DBxcHpEOGGzO2Ag"/>
          <p:cNvPicPr/>
          <p:nvPr/>
        </p:nvPicPr>
        <p:blipFill>
          <a:blip r:embed="rId4"/>
          <a:stretch/>
        </p:blipFill>
        <p:spPr>
          <a:xfrm>
            <a:off x="5364000" y="4221000"/>
            <a:ext cx="3311640" cy="2449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Picture 2" descr="http://images.mirror.co.uk/upl/m4/dec2008/0/3/F4E4095A-ED0D-412B-8B552258FBD33F08.jpg"/>
          <p:cNvPicPr/>
          <p:nvPr/>
        </p:nvPicPr>
        <p:blipFill>
          <a:blip r:embed="rId1"/>
          <a:stretch/>
        </p:blipFill>
        <p:spPr>
          <a:xfrm>
            <a:off x="395280" y="1413000"/>
            <a:ext cx="4286160" cy="2590560"/>
          </a:xfrm>
          <a:prstGeom prst="rect">
            <a:avLst/>
          </a:prstGeom>
          <a:ln w="0">
            <a:noFill/>
          </a:ln>
        </p:spPr>
      </p:pic>
      <p:pic>
        <p:nvPicPr>
          <p:cNvPr id="964" name="Picture 4" descr="http://t3.gstatic.com/images?q=tbn:ANd9GcQHrWC2LvTJjAFhz6cHmmahr_3w6PLZ_2ILOOhfx7AMw9N-RPOe"/>
          <p:cNvPicPr/>
          <p:nvPr/>
        </p:nvPicPr>
        <p:blipFill>
          <a:blip r:embed="rId2"/>
          <a:stretch/>
        </p:blipFill>
        <p:spPr>
          <a:xfrm>
            <a:off x="4932360" y="1413000"/>
            <a:ext cx="3430440" cy="2592360"/>
          </a:xfrm>
          <a:prstGeom prst="rect">
            <a:avLst/>
          </a:prstGeom>
          <a:ln w="0">
            <a:noFill/>
          </a:ln>
        </p:spPr>
      </p:pic>
      <p:pic>
        <p:nvPicPr>
          <p:cNvPr id="965" name="Picture 6" descr="http://i.dailymail.co.uk/i/pix/2009/02/23/article-0-02079BD200000578-256_468x390.jpg"/>
          <p:cNvPicPr/>
          <p:nvPr/>
        </p:nvPicPr>
        <p:blipFill>
          <a:blip r:embed="rId3"/>
          <a:stretch/>
        </p:blipFill>
        <p:spPr>
          <a:xfrm>
            <a:off x="1908000" y="4076640"/>
            <a:ext cx="2945160" cy="24544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Ordering punishments</a:t>
            </a:r>
            <a:endParaRPr b="0" lang="en-US" sz="4600" spc="-1" strike="noStrike">
              <a:solidFill>
                <a:srgbClr val="ffffff"/>
              </a:solidFill>
              <a:latin typeface="Arial Rounded MT Bold"/>
            </a:endParaRPr>
          </a:p>
        </p:txBody>
      </p:sp>
      <p:sp>
        <p:nvSpPr>
          <p:cNvPr id="967" name=""/>
          <p:cNvSpPr txBox="1"/>
          <p:nvPr/>
        </p:nvSpPr>
        <p:spPr>
          <a:xfrm>
            <a:off x="712800" y="2276640"/>
            <a:ext cx="7716960" cy="4124160"/>
          </a:xfrm>
          <a:prstGeom prst="rect">
            <a:avLst/>
          </a:prstGeom>
          <a:noFill/>
          <a:ln w="0">
            <a:noFill/>
          </a:ln>
        </p:spPr>
        <p:txBody>
          <a:bodyPr anchor="t">
            <a:normAutofit/>
          </a:bodyPr>
          <a:p>
            <a:pPr marL="343080" indent="-343080">
              <a:lnSpc>
                <a:spcPct val="90000"/>
              </a:lnSpc>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nes</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logging/Whipping</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Unpaid work </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xecution</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upervision</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mprisonment</a:t>
            </a:r>
            <a:endParaRPr b="0" lang="en-US" sz="2400" spc="-1" strike="noStrike">
              <a:solidFill>
                <a:srgbClr val="ffffff"/>
              </a:solidFill>
              <a:latin typeface="Arial Rounded MT Bold"/>
            </a:endParaRPr>
          </a:p>
          <a:p>
            <a:pPr marL="343080" indent="-343080">
              <a:lnSpc>
                <a:spcPct val="90000"/>
              </a:lnSpc>
              <a:spcAft>
                <a:spcPts val="200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rnings</a:t>
            </a:r>
            <a:endParaRPr b="0" lang="en-US" sz="2400" spc="-1" strike="noStrike">
              <a:solidFill>
                <a:srgbClr val="ffffff"/>
              </a:solidFill>
              <a:latin typeface="Arial Rounded MT Bold"/>
            </a:endParaRPr>
          </a:p>
        </p:txBody>
      </p:sp>
      <p:sp>
        <p:nvSpPr>
          <p:cNvPr id="968" name="Slide Number Placeholder 3"/>
          <p:cNvSpPr/>
          <p:nvPr/>
        </p:nvSpPr>
        <p:spPr>
          <a:xfrm>
            <a:off x="76320" y="604800"/>
            <a:ext cx="1385640" cy="2332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7924-51B7-4A35-B025-8CA213BF4B1A}" type="slidenum">
              <a:rPr b="0" lang="en-US" sz="1200" spc="-1" strike="noStrike">
                <a:solidFill>
                  <a:srgbClr val="fffff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Kinds of sentences</a:t>
            </a:r>
            <a:endParaRPr b="0" lang="en-US" sz="4600" spc="-1" strike="noStrike">
              <a:solidFill>
                <a:srgbClr val="ffffff"/>
              </a:solidFill>
              <a:latin typeface="Arial Rounded MT Bold"/>
            </a:endParaRPr>
          </a:p>
        </p:txBody>
      </p:sp>
      <p:pic>
        <p:nvPicPr>
          <p:cNvPr id="970" name="Content Placeholder 3" descr=""/>
          <p:cNvPicPr/>
          <p:nvPr/>
        </p:nvPicPr>
        <p:blipFill>
          <a:blip r:embed="rId1"/>
          <a:stretch/>
        </p:blipFill>
        <p:spPr>
          <a:xfrm>
            <a:off x="407880" y="1047600"/>
            <a:ext cx="8467920" cy="56278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You be the judge</a:t>
            </a:r>
            <a:endParaRPr b="0" lang="en-US" sz="4600" spc="-1" strike="noStrike">
              <a:solidFill>
                <a:srgbClr val="ffffff"/>
              </a:solidFill>
              <a:latin typeface="Arial Rounded MT Bold"/>
            </a:endParaRPr>
          </a:p>
        </p:txBody>
      </p:sp>
      <p:sp>
        <p:nvSpPr>
          <p:cNvPr id="972"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obert Johnson breaks into a house in the night. He breaks a window to get in. No one is at home. He steals a TV and an iPad; goods worth about £1,000. The cost of repairing the window is £250.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obert has been in trouble before; he has two convictions for stealing from shop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sentence would you pass?</a:t>
            </a:r>
            <a:endParaRPr b="0" lang="en-US" sz="2400" spc="-1" strike="noStrike">
              <a:solidFill>
                <a:srgbClr val="ffffff"/>
              </a:solidFill>
              <a:latin typeface="Arial Rounded MT Bold"/>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55640" y="836280"/>
            <a:ext cx="7716960" cy="112068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little more information</a:t>
            </a:r>
            <a:endParaRPr b="0" lang="en-US" sz="4600" spc="-1" strike="noStrike">
              <a:solidFill>
                <a:srgbClr val="ffffff"/>
              </a:solidFill>
              <a:latin typeface="Arial Rounded MT Bold"/>
            </a:endParaRPr>
          </a:p>
        </p:txBody>
      </p:sp>
      <p:sp>
        <p:nvSpPr>
          <p:cNvPr id="974" name=""/>
          <p:cNvSpPr txBox="1"/>
          <p:nvPr/>
        </p:nvSpPr>
        <p:spPr>
          <a:xfrm>
            <a:off x="468360" y="2060640"/>
            <a:ext cx="8229600" cy="4525920"/>
          </a:xfrm>
          <a:prstGeom prst="rect">
            <a:avLst/>
          </a:prstGeom>
          <a:noFill/>
          <a:ln w="0">
            <a:noFill/>
          </a:ln>
        </p:spPr>
        <p:txBody>
          <a:bodyPr anchor="t">
            <a:normAutofit/>
          </a:bodyPr>
          <a:p>
            <a:pPr marL="343080" indent="-343080">
              <a:lnSpc>
                <a:spcPct val="90000"/>
              </a:lnSpc>
              <a:spcAft>
                <a:spcPts val="2001"/>
              </a:spcAft>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Rounded MT Bold"/>
              </a:rPr>
              <a:t>The owner of the house is an old lady called Mrs Beech. She is a widow and lives alone. She has been in hospital at the time of the break-in. She doesn’t get out much anymore and relies on the TV for news and entertainment. Her iPad held all the photos of her grandchildren who live in Australia and she used it to Skype them regularly. She has house insurance and can get the TV and iPad replaced (and maybe the photos too), but she has been left scared about living on her own. She fears the thief might come back.</a:t>
            </a:r>
            <a:endParaRPr b="0" lang="en-US" sz="2300" spc="-1" strike="noStrike">
              <a:solidFill>
                <a:srgbClr val="ffffff"/>
              </a:solidFill>
              <a:latin typeface="Arial Rounded MT Bold"/>
            </a:endParaRPr>
          </a:p>
          <a:p>
            <a:pPr marL="343080" indent="-343080">
              <a:lnSpc>
                <a:spcPct val="90000"/>
              </a:lnSpc>
              <a:spcAft>
                <a:spcPts val="2001"/>
              </a:spcAft>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Rounded MT Bold"/>
              </a:rPr>
              <a:t>Does this information make you want to reconsider the sentence you gave Robert?</a:t>
            </a:r>
            <a:endParaRPr b="0" lang="en-US" sz="2300" spc="-1" strike="noStrike">
              <a:solidFill>
                <a:srgbClr val="ffffff"/>
              </a:solidFill>
              <a:latin typeface="Arial Rounded MT Bold"/>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610920" y="764640"/>
            <a:ext cx="8437320" cy="129564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nd some more information</a:t>
            </a:r>
            <a:endParaRPr b="0" lang="en-US" sz="4600" spc="-1" strike="noStrike">
              <a:solidFill>
                <a:srgbClr val="ffffff"/>
              </a:solidFill>
              <a:latin typeface="Arial Rounded MT Bold"/>
            </a:endParaRPr>
          </a:p>
        </p:txBody>
      </p:sp>
      <p:sp>
        <p:nvSpPr>
          <p:cNvPr id="976" name=""/>
          <p:cNvSpPr txBox="1"/>
          <p:nvPr/>
        </p:nvSpPr>
        <p:spPr>
          <a:xfrm>
            <a:off x="457200" y="2133360"/>
            <a:ext cx="8229600" cy="4608360"/>
          </a:xfrm>
          <a:prstGeom prst="rect">
            <a:avLst/>
          </a:prstGeom>
          <a:noFill/>
          <a:ln w="0">
            <a:noFill/>
          </a:ln>
        </p:spPr>
        <p:txBody>
          <a:bodyPr anchor="t">
            <a:normAutofit/>
          </a:bodyPr>
          <a:p>
            <a:pPr marL="343080" indent="-343080">
              <a:lnSpc>
                <a:spcPct val="80000"/>
              </a:lnSpc>
              <a:spcAft>
                <a:spcPts val="2001"/>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obert is 21. He is a drug addict and is homeless. He has been living on the streets since he was 15, when we ran away from a children’s home. He was in the home because his mum couldn’t look after him properly because of her drug problem. He doesn’t know his dad.</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e says he broke into the house because he was desperate for money. He has a son (aged 3) who lives with his ex-girlfriend. He wanted to be able to buy his son something nice for Christmas. He didn’t have any money because (a) he can</a:t>
            </a:r>
            <a:r>
              <a:rPr b="0" lang="fr-FR" sz="2200" spc="-1" strike="noStrike">
                <a:solidFill>
                  <a:srgbClr val="ffffff"/>
                </a:solidFill>
                <a:latin typeface="Arial Rounded MT Bold"/>
              </a:rPr>
              <a:t>’</a:t>
            </a:r>
            <a:r>
              <a:rPr b="0" lang="en-US" sz="2200" spc="-1" strike="noStrike">
                <a:solidFill>
                  <a:srgbClr val="ffffff"/>
                </a:solidFill>
                <a:latin typeface="Arial Rounded MT Bold"/>
              </a:rPr>
              <a:t>t work because of his drug problem and (b) his benefits had been stopped when he missed appointments (also because of his drug problems). </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Does any of this information change the way you would sentence Robert?</a:t>
            </a:r>
            <a:endParaRPr b="0" lang="en-US" sz="2200" spc="-1" strike="noStrike">
              <a:solidFill>
                <a:srgbClr val="ffffff"/>
              </a:solidFill>
              <a:latin typeface="Arial Rounded MT Bold"/>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nd some more…</a:t>
            </a:r>
            <a:endParaRPr b="0" lang="en-US" sz="4600" spc="-1" strike="noStrike">
              <a:solidFill>
                <a:srgbClr val="ffffff"/>
              </a:solidFill>
              <a:latin typeface="Arial Rounded MT Bold"/>
            </a:endParaRPr>
          </a:p>
        </p:txBody>
      </p:sp>
      <p:sp>
        <p:nvSpPr>
          <p:cNvPr id="978"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ou delayed sentence on Robert because he had made plans to go into drug rehab and sort himself out. You wanted to see if he was serious about that. He was. He completed the programme and has been drug free for 6 months; he’s back in regular contact with his ex-girlfriend and son and has just started a college course. He’s also now a volunteer helper in the drug rehab.</a:t>
            </a:r>
            <a:endParaRPr b="0" lang="en-US" sz="2400" spc="-1" strike="noStrike">
              <a:solidFill>
                <a:srgbClr val="ffffff"/>
              </a:solidFill>
              <a:latin typeface="Arial Rounded MT Bold"/>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nd finally…</a:t>
            </a:r>
            <a:endParaRPr b="0" lang="en-US" sz="4600" spc="-1" strike="noStrike">
              <a:solidFill>
                <a:srgbClr val="ffffff"/>
              </a:solidFill>
              <a:latin typeface="Arial Rounded MT Bold"/>
            </a:endParaRPr>
          </a:p>
        </p:txBody>
      </p:sp>
      <p:sp>
        <p:nvSpPr>
          <p:cNvPr id="980" name=""/>
          <p:cNvSpPr txBox="1"/>
          <p:nvPr/>
        </p:nvSpPr>
        <p:spPr>
          <a:xfrm>
            <a:off x="468360" y="2205000"/>
            <a:ext cx="8229600" cy="4392720"/>
          </a:xfrm>
          <a:prstGeom prst="rect">
            <a:avLst/>
          </a:prstGeom>
          <a:noFill/>
          <a:ln w="0">
            <a:noFill/>
          </a:ln>
        </p:spPr>
        <p:txBody>
          <a:bodyPr anchor="t">
            <a:normAutofit/>
          </a:bodyPr>
          <a:p>
            <a:pPr marL="343080" indent="-343080">
              <a:lnSpc>
                <a:spcPct val="80000"/>
              </a:lnSpc>
              <a:spcAft>
                <a:spcPts val="2001"/>
              </a:spcAft>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During his time in the rehab, Robert wrote a letter to Mrs Beech and, after some careful planning, they met up. He apologised and explained why he had done what he had done. Mrs Beech was relieved to find that he hadn’t targeted her house for any particular reason. She was also very glad to know that he was sorting his life out. She and Robert agreed that he would spend the next 2 or 3 weekends tidying up her garden as a way of saying sorry.</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The time has come to pass final sentence on Robert. What will you do?</a:t>
            </a:r>
            <a:endParaRPr b="0" lang="en-US" sz="2600" spc="-1" strike="noStrike">
              <a:solidFill>
                <a:srgbClr val="ffffff"/>
              </a:solidFill>
              <a:latin typeface="Arial Rounded MT Bold"/>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topping Offending</a:t>
            </a:r>
            <a:endParaRPr b="0" lang="en-US" sz="4600" spc="-1" strike="noStrike">
              <a:solidFill>
                <a:srgbClr val="ffffff"/>
              </a:solidFill>
              <a:latin typeface="Arial Rounded MT Bold"/>
            </a:endParaRPr>
          </a:p>
        </p:txBody>
      </p:sp>
      <p:sp>
        <p:nvSpPr>
          <p:cNvPr id="982"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might help keep Robert out of trouble and off drugs in future?</a:t>
            </a:r>
            <a:endParaRPr b="0" lang="en-US" sz="2400" spc="-1" strike="noStrike">
              <a:solidFill>
                <a:srgbClr val="ffffff"/>
              </a:solidFill>
              <a:latin typeface="Arial Rounded MT Bold"/>
            </a:endParaRPr>
          </a:p>
          <a:p>
            <a:pPr lvl="1" marL="631800" indent="-282600">
              <a:spcAft>
                <a:spcPts val="1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Getting older and becoming more mature; learning to think things through before acting</a:t>
            </a:r>
            <a:endParaRPr b="0" lang="en-US" sz="22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Getting an education, a job and a house; being able to be a good dad</a:t>
            </a:r>
            <a:endParaRPr b="0" lang="en-US" sz="22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Thinking differently about himself; realising he can be a good person and lead a good life.</a:t>
            </a:r>
            <a:endParaRPr b="0" lang="en-US" sz="2200" spc="-1" strike="noStrike">
              <a:solidFill>
                <a:srgbClr val="ffffff"/>
              </a:solidFill>
              <a:latin typeface="Arial Rounded MT Bold"/>
            </a:endParaRPr>
          </a:p>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Punishment</a:t>
            </a:r>
            <a:endParaRPr b="0" lang="en-US" sz="4600" spc="-1" strike="noStrike">
              <a:solidFill>
                <a:srgbClr val="ffffff"/>
              </a:solidFill>
              <a:latin typeface="Arial Rounded MT Bold"/>
            </a:endParaRPr>
          </a:p>
        </p:txBody>
      </p:sp>
      <p:sp>
        <p:nvSpPr>
          <p:cNvPr id="938"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nk of as many examples of different forms of punishment as you can… This could be:</a:t>
            </a:r>
            <a:endParaRPr b="0" lang="en-US" sz="2400" spc="-1" strike="noStrike">
              <a:solidFill>
                <a:srgbClr val="ffffff"/>
              </a:solidFill>
              <a:latin typeface="Arial Rounded MT Bold"/>
            </a:endParaRPr>
          </a:p>
          <a:p>
            <a:pPr lvl="1" marL="631800" indent="-282600">
              <a:spcAft>
                <a:spcPts val="1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 home</a:t>
            </a:r>
            <a:endParaRPr b="0" lang="en-US" sz="3200" spc="-1" strike="noStrike">
              <a:solidFill>
                <a:srgbClr val="ffffff"/>
              </a:solidFill>
              <a:latin typeface="Arial Rounded MT Bold"/>
            </a:endParaRPr>
          </a:p>
          <a:p>
            <a:pPr lvl="1" marL="631800" indent="-282600">
              <a:spcAft>
                <a:spcPts val="1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 school</a:t>
            </a:r>
            <a:endParaRPr b="0" lang="en-US" sz="3200" spc="-1" strike="noStrike">
              <a:solidFill>
                <a:srgbClr val="ffffff"/>
              </a:solidFill>
              <a:latin typeface="Arial Rounded MT Bold"/>
            </a:endParaRPr>
          </a:p>
          <a:p>
            <a:pPr lvl="1" marL="631800" indent="-282600">
              <a:spcAft>
                <a:spcPts val="1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In court</a:t>
            </a:r>
            <a:endParaRPr b="0" lang="en-US" sz="32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y do people get punished? What is punishment supposed to achieve?</a:t>
            </a:r>
            <a:endParaRPr b="0" lang="en-US" sz="2400" spc="-1" strike="noStrike">
              <a:solidFill>
                <a:srgbClr val="ffffff"/>
              </a:solidFill>
              <a:latin typeface="Arial Rounded MT Bold"/>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upervising Robert</a:t>
            </a:r>
            <a:endParaRPr b="0" lang="en-US" sz="4600" spc="-1" strike="noStrike">
              <a:solidFill>
                <a:srgbClr val="ffffff"/>
              </a:solidFill>
              <a:latin typeface="Arial Rounded MT Bold"/>
            </a:endParaRPr>
          </a:p>
        </p:txBody>
      </p:sp>
      <p:sp>
        <p:nvSpPr>
          <p:cNvPr id="984" name=""/>
          <p:cNvSpPr txBox="1"/>
          <p:nvPr/>
        </p:nvSpPr>
        <p:spPr>
          <a:xfrm>
            <a:off x="457200" y="2133720"/>
            <a:ext cx="8229600" cy="3992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f you were Robert’s social worker and had to supervise him for a year or two, what sorts of things might you do with him or for him to help him keep out of trouble?</a:t>
            </a:r>
            <a:endParaRPr b="0" lang="en-US" sz="2400" spc="-1" strike="noStrike">
              <a:solidFill>
                <a:srgbClr val="ffffff"/>
              </a:solidFill>
              <a:latin typeface="Arial Rounded MT Bold"/>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Any questions?</a:t>
            </a:r>
            <a:endParaRPr b="0" lang="en-US" sz="3600" spc="-1" strike="noStrike">
              <a:solidFill>
                <a:srgbClr val="ffffff"/>
              </a:solidFill>
              <a:latin typeface="Arial Rounded MT Bold"/>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258920" y="692280"/>
            <a:ext cx="7716960" cy="12967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Fair and unfair punishments</a:t>
            </a:r>
            <a:endParaRPr b="0" lang="en-US" sz="4600" spc="-1" strike="noStrike">
              <a:solidFill>
                <a:srgbClr val="ffffff"/>
              </a:solidFill>
              <a:latin typeface="Arial Rounded MT Bold"/>
            </a:endParaRPr>
          </a:p>
        </p:txBody>
      </p:sp>
      <p:sp>
        <p:nvSpPr>
          <p:cNvPr id="940" name=""/>
          <p:cNvSpPr txBox="1"/>
          <p:nvPr/>
        </p:nvSpPr>
        <p:spPr>
          <a:xfrm>
            <a:off x="712800" y="2276640"/>
            <a:ext cx="7716960" cy="412416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nk of an example of unfair punishment. It might be from home or school, or something you have seen on the TV or at the movies.</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made it unfair?</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as it something to do with the way the punishment was decided?</a:t>
            </a:r>
            <a:endParaRPr b="0" lang="en-US" sz="22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as it something to do with the specific punishment that was chosen?</a:t>
            </a:r>
            <a:endParaRPr b="0" lang="en-US" sz="2200" spc="-1" strike="noStrike">
              <a:solidFill>
                <a:srgbClr val="ffffff"/>
              </a:solidFill>
              <a:latin typeface="Arial Rounded MT Bold"/>
            </a:endParaRPr>
          </a:p>
        </p:txBody>
      </p:sp>
      <p:sp>
        <p:nvSpPr>
          <p:cNvPr id="941" name="Slide Number Placeholder 3"/>
          <p:cNvSpPr/>
          <p:nvPr/>
        </p:nvSpPr>
        <p:spPr>
          <a:xfrm>
            <a:off x="76320" y="604800"/>
            <a:ext cx="1385640" cy="2332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4137-5FD3-4728-9608-8EA6547896DF}" type="slidenum">
              <a:rPr b="0" lang="en-US" sz="1200" spc="-1" strike="noStrike">
                <a:solidFill>
                  <a:srgbClr val="fffff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Ordering crimes</a:t>
            </a:r>
            <a:endParaRPr b="0" lang="en-US" sz="4600" spc="-1" strike="noStrike">
              <a:solidFill>
                <a:srgbClr val="ffffff"/>
              </a:solidFill>
              <a:latin typeface="Arial Rounded MT Bold"/>
            </a:endParaRPr>
          </a:p>
        </p:txBody>
      </p:sp>
      <p:sp>
        <p:nvSpPr>
          <p:cNvPr id="943" name=""/>
          <p:cNvSpPr txBox="1"/>
          <p:nvPr/>
        </p:nvSpPr>
        <p:spPr>
          <a:xfrm>
            <a:off x="712800" y="2276640"/>
            <a:ext cx="7716960" cy="4124160"/>
          </a:xfrm>
          <a:prstGeom prst="rect">
            <a:avLst/>
          </a:prstGeom>
          <a:noFill/>
          <a:ln w="0">
            <a:noFill/>
          </a:ln>
        </p:spPr>
        <p:txBody>
          <a:bodyPr anchor="t">
            <a:normAutofit/>
          </a:bodyPr>
          <a:p>
            <a:pPr marL="343080" indent="-343080">
              <a:lnSpc>
                <a:spcPct val="80000"/>
              </a:lnSpc>
              <a:spcAft>
                <a:spcPts val="200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tealing from a shop</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tabbing someone with a knif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houting and swearing at someon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unching someone in the fac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elling lies in court</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Murdering someone</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Dangerous driving</a:t>
            </a: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lling illegal drugs</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p:txBody>
      </p:sp>
      <p:sp>
        <p:nvSpPr>
          <p:cNvPr id="944" name="Slide Number Placeholder 3"/>
          <p:cNvSpPr/>
          <p:nvPr/>
        </p:nvSpPr>
        <p:spPr>
          <a:xfrm>
            <a:off x="76320" y="604800"/>
            <a:ext cx="1385640" cy="2332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5D18-7023-44F3-99DB-3800159B3DC5}" type="slidenum">
              <a:rPr b="0" lang="en-US" sz="1200" spc="-1" strike="noStrike">
                <a:solidFill>
                  <a:srgbClr val="ffffff"/>
                </a:solidFill>
                <a:latin typeface="Calibri"/>
              </a:rPr>
              <a:t>&lt;number&gt;</a:t>
            </a:fld>
            <a:endParaRPr b="0" lang="en-US" sz="1200" spc="-1" strike="noStrike">
              <a:solidFill>
                <a:srgbClr val="003399"/>
              </a:solidFill>
              <a:latin typeface="Calibri"/>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1331640" y="765000"/>
            <a:ext cx="771660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Purposes of punishment</a:t>
            </a:r>
            <a:endParaRPr b="0" lang="en-US" sz="4600" spc="-1" strike="noStrike">
              <a:solidFill>
                <a:srgbClr val="ffffff"/>
              </a:solidFill>
              <a:latin typeface="Arial Rounded MT Bold"/>
            </a:endParaRPr>
          </a:p>
        </p:txBody>
      </p:sp>
      <p:pic>
        <p:nvPicPr>
          <p:cNvPr id="946" name="Content Placeholder 4" descr=""/>
          <p:cNvPicPr/>
          <p:nvPr/>
        </p:nvPicPr>
        <p:blipFill>
          <a:blip r:embed="rId1"/>
          <a:stretch/>
        </p:blipFill>
        <p:spPr>
          <a:xfrm>
            <a:off x="658800" y="2992320"/>
            <a:ext cx="7905600" cy="340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5" descr="guillotine.jpg"/>
          <p:cNvPicPr/>
          <p:nvPr/>
        </p:nvPicPr>
        <p:blipFill>
          <a:blip r:embed="rId1"/>
          <a:stretch/>
        </p:blipFill>
        <p:spPr>
          <a:xfrm>
            <a:off x="3059280" y="2205000"/>
            <a:ext cx="2336760" cy="3492360"/>
          </a:xfrm>
          <a:prstGeom prst="rect">
            <a:avLst/>
          </a:prstGeom>
          <a:ln w="0">
            <a:noFill/>
          </a:ln>
        </p:spPr>
      </p:pic>
      <p:pic>
        <p:nvPicPr>
          <p:cNvPr id="948" name="Picture 6" descr="lethal injection.jpg"/>
          <p:cNvPicPr/>
          <p:nvPr/>
        </p:nvPicPr>
        <p:blipFill>
          <a:blip r:embed="rId2"/>
          <a:stretch/>
        </p:blipFill>
        <p:spPr>
          <a:xfrm>
            <a:off x="5651640" y="4076640"/>
            <a:ext cx="3289320" cy="2463840"/>
          </a:xfrm>
          <a:prstGeom prst="rect">
            <a:avLst/>
          </a:prstGeom>
          <a:ln w="0">
            <a:noFill/>
          </a:ln>
        </p:spPr>
      </p:pic>
      <p:pic>
        <p:nvPicPr>
          <p:cNvPr id="949" name="Picture 7" descr="Electric chair.jpg"/>
          <p:cNvPicPr/>
          <p:nvPr/>
        </p:nvPicPr>
        <p:blipFill>
          <a:blip r:embed="rId3"/>
          <a:stretch/>
        </p:blipFill>
        <p:spPr>
          <a:xfrm>
            <a:off x="250920" y="1125360"/>
            <a:ext cx="2736720" cy="4086360"/>
          </a:xfrm>
          <a:prstGeom prst="rect">
            <a:avLst/>
          </a:prstGeom>
          <a:ln w="0">
            <a:noFill/>
          </a:ln>
        </p:spPr>
      </p:pic>
      <p:pic>
        <p:nvPicPr>
          <p:cNvPr id="950" name="Picture 8" descr="Gallows.jpg"/>
          <p:cNvPicPr/>
          <p:nvPr/>
        </p:nvPicPr>
        <p:blipFill>
          <a:blip r:embed="rId4"/>
          <a:stretch/>
        </p:blipFill>
        <p:spPr>
          <a:xfrm>
            <a:off x="5580000" y="333360"/>
            <a:ext cx="3321000" cy="34560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4" descr="Unknown.jpg"/>
          <p:cNvPicPr/>
          <p:nvPr/>
        </p:nvPicPr>
        <p:blipFill>
          <a:blip r:embed="rId1"/>
          <a:stretch/>
        </p:blipFill>
        <p:spPr>
          <a:xfrm>
            <a:off x="395280" y="2414520"/>
            <a:ext cx="4681440" cy="3940200"/>
          </a:xfrm>
          <a:prstGeom prst="rect">
            <a:avLst/>
          </a:prstGeom>
          <a:ln w="0">
            <a:noFill/>
          </a:ln>
        </p:spPr>
      </p:pic>
      <p:pic>
        <p:nvPicPr>
          <p:cNvPr id="952" name="Picture 3" descr="images.jpeg"/>
          <p:cNvPicPr/>
          <p:nvPr/>
        </p:nvPicPr>
        <p:blipFill>
          <a:blip r:embed="rId2"/>
          <a:stretch/>
        </p:blipFill>
        <p:spPr>
          <a:xfrm>
            <a:off x="3851280" y="260280"/>
            <a:ext cx="5089680" cy="34178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Picture 2" descr="http://www.stronghold-knights.com/site/album/aubergine/pillory_stocks.jpg"/>
          <p:cNvPicPr/>
          <p:nvPr/>
        </p:nvPicPr>
        <p:blipFill>
          <a:blip r:embed="rId1"/>
          <a:stretch/>
        </p:blipFill>
        <p:spPr>
          <a:xfrm>
            <a:off x="5867280" y="1628640"/>
            <a:ext cx="2934000" cy="4152960"/>
          </a:xfrm>
          <a:prstGeom prst="rect">
            <a:avLst/>
          </a:prstGeom>
          <a:ln w="0">
            <a:noFill/>
          </a:ln>
        </p:spPr>
      </p:pic>
      <p:sp>
        <p:nvSpPr>
          <p:cNvPr id="954" name="AutoShape 6"/>
          <p:cNvSpPr/>
          <p:nvPr/>
        </p:nvSpPr>
        <p:spPr>
          <a:xfrm>
            <a:off x="8740800" y="-709560"/>
            <a:ext cx="2495520" cy="18381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Calibri"/>
            </a:endParaRPr>
          </a:p>
        </p:txBody>
      </p:sp>
      <p:pic>
        <p:nvPicPr>
          <p:cNvPr id="955" name="Picture 8" descr="&quot;Witch-bridle&quot;. Illustration. XIX."/>
          <p:cNvPicPr/>
          <p:nvPr/>
        </p:nvPicPr>
        <p:blipFill>
          <a:blip r:embed="rId2"/>
          <a:stretch/>
        </p:blipFill>
        <p:spPr>
          <a:xfrm>
            <a:off x="250920" y="1916280"/>
            <a:ext cx="5400720" cy="39812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4" descr="http://t1.gstatic.com/images?q=tbn:ANd9GcQ5PZkVPvpglkEZMf7y46e_YtLeERjh-IFo3YImdSLp1qA0li9Jag"/>
          <p:cNvPicPr/>
          <p:nvPr/>
        </p:nvPicPr>
        <p:blipFill>
          <a:blip r:embed="rId1"/>
          <a:stretch/>
        </p:blipFill>
        <p:spPr>
          <a:xfrm>
            <a:off x="900000" y="1125360"/>
            <a:ext cx="7580520" cy="5243760"/>
          </a:xfrm>
          <a:prstGeom prst="rect">
            <a:avLst/>
          </a:prstGeom>
          <a:ln w="0">
            <a:noFill/>
          </a:ln>
        </p:spPr>
      </p:pic>
      <p:sp>
        <p:nvSpPr>
          <p:cNvPr id="957" name="PlaceHolder 1"/>
          <p:cNvSpPr>
            <a:spLocks noGrp="1"/>
          </p:cNvSpPr>
          <p:nvPr>
            <p:ph type="title"/>
          </p:nvPr>
        </p:nvSpPr>
        <p:spPr>
          <a:xfrm>
            <a:off x="1331640" y="765000"/>
            <a:ext cx="771660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9:08:27Z</dcterms:created>
  <dc:creator>Fergus McNeil</dc:creator>
  <dc:description/>
  <dc:language>en-US</dc:language>
  <cp:lastModifiedBy>Fergus McNeill</cp:lastModifiedBy>
  <dcterms:modified xsi:type="dcterms:W3CDTF">2014-01-24T16:31:52Z</dcterms:modified>
  <cp:revision>197</cp:revision>
  <dc:subject/>
  <dc:title>Veterans and Villains: Oral History and  Penological Research</dc:title>
</cp:coreProperties>
</file>