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93240" y="729720"/>
            <a:ext cx="486900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5375-8891-42E0-BEE7-0A05320A11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74880" y="7286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E24-9EE2-4748-855E-60E6CF2DD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1920" y="4640400"/>
            <a:ext cx="557532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D81-07A0-4D68-B84F-FD5FCDBC3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C5B7-510C-400E-8C78-FDA8080D8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1878-4AFD-48E6-9C22-81527B753F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0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DC9-AAE0-44F4-8656-171EB9CFB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Notes Placeholder 4"/>
          <p:cNvSpPr/>
          <p:nvPr/>
        </p:nvSpPr>
        <p:spPr>
          <a:xfrm>
            <a:off x="685800" y="4626000"/>
            <a:ext cx="54849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F4D-08A4-4DA1-B622-CC0A95C235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060-B7D5-49D4-B719-29EED55A5B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FCA-82E3-47A0-B76D-AC5828250F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64E3-856E-4D56-85C1-3127F321AF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DE0-CCA3-4674-9E94-7C262AE1F5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5E2-4FF4-4D1E-B7C5-A8875517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95B-41E5-4130-9DA6-F4767E7D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CB0-0F77-4629-A993-08F7D292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5C4-F60A-4C3D-B7E1-8E63D28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5B9-DE18-4DB1-98DF-C0C7BA76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867-99B3-45E4-9342-587D21A6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FC7-91D8-4566-BCA2-FD3D014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A209-C545-4EBB-AB07-0AA14140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70E-6751-486E-A90D-3EEAF98C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7F6-BF01-4467-BB93-02FDA267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DF4F-32D6-4536-B9B7-4F89077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F7F-612C-4B94-AB21-94FD2952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60A5-FB9F-49DC-A453-96D1349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5377-C4ED-4ADF-B13E-04DFAD4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00A3-A085-4810-8D07-7086A3B6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C9D-1222-4F27-9117-4E738ADF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3F4-8783-4DB6-BA1B-0E1EED34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14BFC-117D-4BA3-9C06-390EF82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354E4-7053-48AD-B2E9-E92C1A9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AE7A6-6155-445F-ACA2-A397ABB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3430C-291F-42B0-9CC2-506E676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3CEBD-943E-482F-9A7D-0B70F95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694-FBC8-47A8-8D94-CB56ACFF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F1C64-71AE-4443-B0A4-B57C86E5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0A354-7400-4E95-8158-18E1C49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76479-346B-4D40-9C86-7BF816D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9D889-D763-499A-AC0A-E890D3A2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7F55B-5B25-4951-B798-CF39DD6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5AAF7-0E13-4132-99C4-68C5F686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13957-59BB-45A6-9AA1-C3D4BFE8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5629E-748A-499B-A0A8-37DA1BA5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2614F-8EED-4598-A790-C07F047C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C289E-B8BB-4B09-9275-416E9377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E61-1FAC-479C-A38C-D09F9ABB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583A3-D0FE-45DD-9F19-F547EF3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2EF0D-4A31-4FD1-9EA6-205A373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DAF76-F24D-47A8-A0E4-432A3D09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22BD2-FE7F-4645-88A9-7CA458D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CBC54-77E4-4A0B-A1BF-621904B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42991-B219-4E89-93F8-B04670A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CB7F0-7738-40F7-8BEC-F2D9A92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FD2E1-9F15-4CD6-8C34-CA0B333B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5B2CB-3EF7-478D-9F10-3A6548A4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23747-1294-4B9F-BCCC-AD0AB97B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2DD-D0F6-47A9-AA30-17AEEDF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9C92D-AA99-41C6-9E5D-AC4DA31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2AAE1-ABB3-499A-B124-F7CBF2E9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2EE11-1582-4CFF-98B3-12AFC8B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B7B1E-F367-406F-BCD8-E9D413B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7B6B6-F226-4194-8963-2F936831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292EF-5EE3-4194-92FA-467736B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BE6D6-8073-4C76-9568-C70DAD1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85DA7-B4CE-4983-8929-3727194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4A6C7-173A-4258-B15C-2B9E31CC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F2DED-487C-47ED-9B18-0AC73C14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827-4257-4431-9DE3-C3340180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A395F-CDBD-4F86-B94A-582622DB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54BF-4906-4DFF-B782-CF1F65A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320AB-A84D-4578-AE5F-C33FEC9A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1A36-116F-49A8-8999-560DE23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5727B-666A-4EE7-97E7-6B5E798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B1A8-2B77-4F76-B662-0ADFD2A1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00A4-34A5-4F8F-B358-F71EE94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37A51-CD6E-4C48-B281-E172F2BA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71E4-8B1F-4F5A-ABE2-D5A8535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93B2-B7BD-464B-86E3-3654F681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967-E0D5-4338-9848-4913179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3D1B-053C-42C8-B1CA-01F949E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CD64-F257-42B5-A6FE-768C4053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54D7-B6BB-4F2C-908B-79233C77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C8A82-293F-437E-9C60-5D7A8D1E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02BC3-408D-4830-84D9-DB7784B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69F14-9345-4226-8BA8-18631A99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37A8F-BFED-47A3-AD18-7014CE8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F62D2-103D-448D-B444-48CD0DF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AA1FD-9079-4398-966B-C63AC91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1775A-C2FA-4898-B9C3-17347A4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EEE-DB28-4ACE-9550-0660F21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9DB63-48B8-489C-8E66-49C4938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7CD29-0D3C-46F5-924A-B5E01EB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EC83E-DA65-415B-975E-2F5945F2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84EDF-BE0A-4433-A4FB-A525714E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65DF0-3987-459C-8DC7-3ECF3C8B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0CF69-B18E-4B40-9E73-841DDD68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BF12-B445-44B5-8F76-6CAB00E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33CB-54AF-4BE2-84D7-252BF2E4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63A9-E87A-492A-8D35-2C9941F5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70B9E-B021-41D6-92C7-AF9BEA02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297-1375-4456-82C8-231A3EA2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01A4-DB0D-4A53-8FA1-3B69362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9EE3-95BA-41B0-B63B-3EC6839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E6B7B-7278-48B5-8B53-E21E8CE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449A-C104-4784-B1E8-EF4C785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8A923-FC54-49D9-907C-A042A259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479C0-A419-48A9-A776-E59FD9FE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E2AA-296E-48EE-9197-982301D1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BB6-66D1-406A-A5D5-F2B70CCCE39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9DC9-68A5-4E1F-B214-EB1E87450DCD}" type="slidenum">
              <a:rPr b="1" lang="en-GB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68BC-F84B-4C1A-BD9B-3CF30B11FAD3}" type="slidenum">
              <a:rPr b="1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2F78-A329-4434-9A5D-F9A4180423ED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323-0ACC-41B8-8759-562119F8FC3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B02-F90A-4C99-8876-67FF0379FFE4}" type="slidenum">
              <a:rPr b="1" lang="en-GB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2BF4-B567-4FDD-A351-FA55B5A04984}" type="slidenum">
              <a:rPr b="1" lang="en-GB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148-3336-4836-ACA4-71043A98BAB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22050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775f55"/>
                </a:solidFill>
                <a:latin typeface="Tw Cen MT"/>
              </a:rPr>
              <a:t>Doing probation work: identity in a criminal justice occup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84360" y="4005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ob Mawby, University of Leic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nne Worrall, Keele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300bw.tif"/>
          <p:cNvPicPr/>
          <p:nvPr/>
        </p:nvPicPr>
        <p:blipFill>
          <a:blip r:embed="rId2"/>
          <a:stretch/>
        </p:blipFill>
        <p:spPr>
          <a:xfrm>
            <a:off x="324000" y="333360"/>
            <a:ext cx="2076480" cy="514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C:\Documents and Settings\KeeleUni\My Documents\My Pictures\Keele Logos\Keele_Logo_vertical_rgb.jpg"/>
          <p:cNvPicPr/>
          <p:nvPr/>
        </p:nvPicPr>
        <p:blipFill>
          <a:blip r:embed="rId3"/>
          <a:stretch/>
        </p:blipFill>
        <p:spPr>
          <a:xfrm>
            <a:off x="6246720" y="4581360"/>
            <a:ext cx="2897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Oval 14"/>
          <p:cNvSpPr/>
          <p:nvPr/>
        </p:nvSpPr>
        <p:spPr>
          <a:xfrm>
            <a:off x="2987640" y="2637000"/>
            <a:ext cx="2952720" cy="2160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6"/>
          <p:cNvCxnSpPr>
            <a:endCxn id="380" idx="0"/>
          </p:cNvCxnSpPr>
          <p:nvPr/>
        </p:nvCxnSpPr>
        <p:spPr>
          <a:xfrm flipH="1">
            <a:off x="6810120" y="3213000"/>
            <a:ext cx="714960" cy="1945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81" name="TextBox 8"/>
          <p:cNvSpPr/>
          <p:nvPr/>
        </p:nvSpPr>
        <p:spPr>
          <a:xfrm>
            <a:off x="3348000" y="3068640"/>
            <a:ext cx="230364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Probation worker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112680" y="2060640"/>
            <a:ext cx="26510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 or imag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ic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aking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yalt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ief in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irschman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3583800" y="1197000"/>
            <a:ext cx="1549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lec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x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arrell 19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568440" y="5157720"/>
            <a:ext cx="332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zational Expedi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le stretching to achieve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cLean Park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5283720" y="5157720"/>
            <a:ext cx="30535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zational Cynicis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of faith 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u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3"/>
          <p:cNvSpPr/>
          <p:nvPr/>
        </p:nvSpPr>
        <p:spPr>
          <a:xfrm>
            <a:off x="6233040" y="2060640"/>
            <a:ext cx="2487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ge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ntary risk-tak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ing the bounda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yng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6"/>
          <p:cNvCxnSpPr>
            <a:endCxn id="385" idx="0"/>
          </p:cNvCxnSpPr>
          <p:nvPr/>
        </p:nvCxnSpPr>
        <p:spPr>
          <a:xfrm>
            <a:off x="5116320" y="1557360"/>
            <a:ext cx="2361240" cy="50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87" name="Straight Arrow Connector 30"/>
          <p:cNvCxnSpPr>
            <a:stCxn id="380" idx="1"/>
            <a:endCxn id="384" idx="3"/>
          </p:cNvCxnSpPr>
          <p:nvPr/>
        </p:nvCxnSpPr>
        <p:spPr>
          <a:xfrm flipH="1">
            <a:off x="3776400" y="5617800"/>
            <a:ext cx="16596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88" name="Straight Arrow Connector 33"/>
          <p:cNvCxnSpPr>
            <a:stCxn id="382" idx="2"/>
            <a:endCxn id="384" idx="0"/>
          </p:cNvCxnSpPr>
          <p:nvPr/>
        </p:nvCxnSpPr>
        <p:spPr>
          <a:xfrm>
            <a:off x="1437840" y="4092120"/>
            <a:ext cx="793080" cy="10659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89" name="Straight Arrow Connector 36"/>
          <p:cNvCxnSpPr>
            <a:stCxn id="383" idx="1"/>
            <a:endCxn id="382" idx="0"/>
          </p:cNvCxnSpPr>
          <p:nvPr/>
        </p:nvCxnSpPr>
        <p:spPr>
          <a:xfrm flipH="1">
            <a:off x="1437480" y="1658880"/>
            <a:ext cx="2197800" cy="40248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390" name="Straight Arrow Connector 39"/>
          <p:cNvCxnSpPr>
            <a:stCxn id="383" idx="2"/>
          </p:cNvCxnSpPr>
          <p:nvPr/>
        </p:nvCxnSpPr>
        <p:spPr>
          <a:xfrm flipH="1">
            <a:off x="4355280" y="2119320"/>
            <a:ext cx="2520" cy="518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1" name="Straight Arrow Connector 45"/>
          <p:cNvCxnSpPr>
            <a:stCxn id="385" idx="1"/>
            <a:endCxn id="378" idx="7"/>
          </p:cNvCxnSpPr>
          <p:nvPr/>
        </p:nvCxnSpPr>
        <p:spPr>
          <a:xfrm flipH="1">
            <a:off x="5506200" y="2660400"/>
            <a:ext cx="794520" cy="292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2" name="Straight Arrow Connector 48"/>
          <p:cNvCxnSpPr>
            <a:endCxn id="378" idx="1"/>
          </p:cNvCxnSpPr>
          <p:nvPr/>
        </p:nvCxnSpPr>
        <p:spPr>
          <a:xfrm>
            <a:off x="2700360" y="2565360"/>
            <a:ext cx="720000" cy="388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3" name="Straight Arrow Connector 52"/>
          <p:cNvCxnSpPr>
            <a:endCxn id="378" idx="5"/>
          </p:cNvCxnSpPr>
          <p:nvPr/>
        </p:nvCxnSpPr>
        <p:spPr>
          <a:xfrm flipH="1" flipV="1">
            <a:off x="5506200" y="4481280"/>
            <a:ext cx="1297800" cy="676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4" name="Straight Arrow Connector 55"/>
          <p:cNvCxnSpPr>
            <a:stCxn id="384" idx="0"/>
            <a:endCxn id="378" idx="3"/>
          </p:cNvCxnSpPr>
          <p:nvPr/>
        </p:nvCxnSpPr>
        <p:spPr>
          <a:xfrm flipV="1">
            <a:off x="2230200" y="4481280"/>
            <a:ext cx="1189800" cy="676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square of probation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Diagram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8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468360" y="602136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Mawby and Worrall (2013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Doing Probation Wor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don: Rout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ublic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 Worrall, A. (2013)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Doing probation work: identity in a criminal justice occupation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Routledge 182pp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 Worrall, A. (2013) ‘Probation worker responses to turbulent conditions: constructing identity in a tainted occupation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Australia and New Zealand Journal of Criminology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46, 1: 101-118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Worrall, A. &amp; Mawby, R.C. (2012) ‘Unlikely edgeworkers: probation workers and voluntary risk-taking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ECAN Bulletin 13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, Howard  League, pp.6-9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Worrall, A. (2011) ‘”They were very threatening about do-gooding bastards”: Probation’s changing relationships with the police and prison services in England and Wales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European Journal of Probation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3, 3: 78-94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Worrall, A. &amp; Mawby, R.C. (2011)’It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rocket science: the role of the probation worker in turbulent times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Britain in 2012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ESRC annual magazine, p.25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Worrall, A. &amp; Mawby, R.C. (2011) ‘Probation workers – still the servants of the court?’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Magistrate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Winter, p.12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 Worrall, A. (2011)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Probation workers and their occupational cultures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University of Leicester, www.le.ac.uk/criminolog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ontex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hange and the Probation Servic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eg, structure, training, role and  practi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urbulent criminal justice 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eg, budget cuts, penal populism, negative media discour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act on probation worker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at are the characteristics of contemporary probation cultures as perceived by probation worker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How do probation workers interact with other CJ agencies and how do they perceive this interaction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How do they respond to the turbulent conditions in which they work?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at is the impact of this understanding on offender management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stu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SRC funded, 20 months, 2010-201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Supported by Probation Chiefs Associ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Small scale and reflectiv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60 interviews completed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26 current PSOs, POs, SPOs (PW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10 Trainee Probation Officers (TPO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16 Chief Officer Grades (CO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8 former &amp; retired probation workers (FPW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North and South-East England loc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oice of method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Why no observatio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nstruction of identity through telling stor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ilding on researcher knowledge and exper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ross between oral history and semi-structured intervie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urposeful convers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cess and other practica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asic sampling – no claim to statistical representative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ange of experience and demograph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ilding on personal conta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Finding sympathetic gate-keep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andomised self-se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oing the interview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reparation on both sides – no ambush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Over-estimating time to ensure a relaxed int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tive interviewing – listening, feeding back, joint reflection, simultaneous analy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liberate bumbling and rambl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Ethical iss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nsent for archiv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onymity for eli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Offering transcript check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eping participants informed as project progres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nterim report confer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nalysing the data, emerging them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cribe recordin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cript summaries – joint rea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d themes and re-reading for co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merging themes include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iographical and motivational groupin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uters and open plan off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ong hours, office-boun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olice good, NOMS ba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-one understands 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oss of autonomy, desire to be crea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Job crafting and coping with turbul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eminisatio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6:54:57Z</dcterms:created>
  <dc:creator>KeeleUni</dc:creator>
  <dc:description/>
  <dc:language>en-US</dc:language>
  <cp:lastModifiedBy>KeeleUni</cp:lastModifiedBy>
  <dcterms:modified xsi:type="dcterms:W3CDTF">2013-10-21T16:20:21Z</dcterms:modified>
  <cp:revision>15</cp:revision>
  <dc:subject/>
  <dc:title>Slide 1</dc:title>
</cp:coreProperties>
</file>