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93240" y="729720"/>
            <a:ext cx="486900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62B4-5E04-45C5-813E-51BD6ED050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74880" y="7286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2384-9372-4269-B327-324B204FB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91920" y="4640400"/>
            <a:ext cx="5575320" cy="37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DA98-1AB3-4134-AC60-D4A5F0791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465C-EB38-4EFB-92C3-D31401703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9F41-D89B-4E95-A5B0-C565B41D51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10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D0A2-1369-4E2C-B4EF-697D19E22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Notes Placeholder 4"/>
          <p:cNvSpPr/>
          <p:nvPr/>
        </p:nvSpPr>
        <p:spPr>
          <a:xfrm>
            <a:off x="685800" y="4626000"/>
            <a:ext cx="5484960" cy="43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94F6-1457-4CE6-B08A-D1B1AEC515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ACF3-7ECC-4CDF-97E3-23E06F14F9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190D-8D4E-4D2B-8ACF-5AC8BB36D4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755A-734A-4898-8AAB-B21C336E5F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3600" y="730080"/>
            <a:ext cx="4869000" cy="36529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49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2960" y="925020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B272-DCD3-482D-8CA2-E7C04ACAAF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8B5-4E9D-40E8-BEC2-024A3A0D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BFC7-E1DA-4EA5-9425-637D1612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E3B-BF72-4B21-B561-A8BD263A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693-4037-48AE-82B2-255300CA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53C9-A8BD-4382-902F-0CF4E057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2786-4877-4BD5-853B-E207A0E5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D737-89CA-4D23-8642-D4B5790C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0FDA-DCEB-441F-93D1-7F48A467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EB26-8BD0-4D64-84B5-17B81E32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E5BA-D6EB-435E-B65E-D3B9F938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532A-218A-4131-8CDD-603797FA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57C-7316-471D-B6C0-6B5015A0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F7F1-CE54-4A34-89E4-466E13C4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49F3-FDC0-4866-AEB9-67ED0AD7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A00A-4E68-4F16-AC64-4FAD2DE3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BE11-50AC-4085-AEE2-100290B7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650A-FC76-4B26-AEC7-5B8C3349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352AC-7872-4728-8EFE-FD25F50B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B6311-0913-4093-B545-4406DE9A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C4C50-2456-49EC-99BD-13E18110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DBAB3-D5EB-4101-BB1D-7CD4A8CE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932CE-A26C-4F2C-99BE-4F0F6299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3EA-13CB-4CA4-BBF5-31C617F5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F1989-0D9E-436A-A98A-A6DF248E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EAA7A-844E-44BB-88FB-137AEF9F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968A5-3E7C-4C27-8C04-D9326232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81E82-1409-4FE9-9AFF-6BBD1B00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AA196-E562-49D8-BB26-AE2FEF56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C809B-303F-4167-BBA4-8306ED3B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7ADA0-8D39-4D3F-B67B-ED9EBB23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11990-0581-4E3E-90E3-77F82C6A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9BEA0E-489D-45CF-AE55-D474673D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23B6F-B94C-4B02-A8B0-96229BC5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816-A739-4160-8A2E-53DAC975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8206BB-286F-46AE-BA53-C4E31283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9D2BE4-659E-46F2-BA74-BF696DF1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5FB69B-1C56-4E99-A00F-5BD9C4B5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174A92-44DE-4AC9-8C3A-3A2636C3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4E1E2-A3B4-4546-9A0B-02B922FC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C9BC8-0C74-402C-A14A-4F484D15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884690-AC0D-4048-AD43-E92F054B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FF5E77-32BD-425D-AF4E-66FBDCA5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FAED6-07A1-402C-BDC2-8C0F4EB7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24C85-8299-4049-9C47-DD90B871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25C-A345-46A8-9681-0D1799D6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5A2C8-A2DC-4CAE-965E-62BE67FF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07F31D-8C79-4103-B818-991FB88B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E3415-C1E1-47A8-9073-78302F68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4D498-E567-4A07-A93B-9AF5CFDD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390D6-2C6D-426E-9A21-7F27AE4A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C9F02-98F7-48B3-BC60-DD30007E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F1293F-88EB-4755-BCFB-B33282FD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8C5EF-289C-4C44-A264-0E08A3E0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2D214-E3AD-4407-9A16-9979610C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0097C-31A1-4990-A386-6832010B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72E-13BF-41D2-AE0C-B7B349D1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9946B5-3B86-4689-8966-5F6F5E23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6E787-9561-4B13-AAC2-AB442DAA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93D45-4942-4963-98F1-7ADB89CA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B9DF3-B5C7-48B7-B271-7E4ABA85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D96E7-9DD0-48E3-8337-47018124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9201B-AC50-4392-8ED5-63502ADF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1FDDB-C5DD-4F28-9D7C-00633FD2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A3735-0187-4F96-8C5F-5FF9B660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7073C-EFF2-4A54-88AB-8CAD072A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3A7F1-83A5-48D3-AD0D-C559C225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ABA-FF44-4891-8E6E-9B34C24B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73A16-0F90-4B03-8DDB-0B51E2D4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03405-779A-4888-BCA6-EBD45BA7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BAFC1-0A11-4D7A-9D6D-5AD5F75C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45FFAE-D511-45E8-AA92-70E3DA54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43ACE-F43C-4354-A2F7-8ADB1E92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FE027-DDE8-4B97-81AD-35FF61AD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7C3AE3-AE36-48E9-9A63-34CAC16F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95702C-772E-478C-80F7-BFD50650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AFEB24-B9A0-475E-A6E9-5F1A9A35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F0F2FD-A9CE-4E66-84DE-5EB9F6B3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2C3-D166-4A26-BD95-8DEA28B1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42ED25-33E2-4919-8B80-D0426A40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B2F17-4EA1-42BC-8989-04E71B3D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336D13-BE4F-4EA2-95BA-8A8A29EB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5E06BA-3C02-4187-91E7-19889BA2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BB6383-AD97-4D71-9E1A-DF017AA6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1B9EB-AF23-4A61-B7DF-2F9F2888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6EB7C-7D93-4A16-9604-17B2FA65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D189B-8C34-499B-8415-FA0EAD31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8008F-662B-4D45-92F3-81317036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F9A4D-4807-4D7F-AC4B-BEEE7D8E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376-8D90-41F2-B34C-12EBCDD4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550C2-9A12-4AF4-987B-5768A593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2B4F1-5579-4A5A-B9BF-1CB20EEA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DE3FC-197A-45F9-9D88-E61B0236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2FD6F-4FB2-4FF7-9A77-9FB56892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A4A3E-5FBC-4B60-B632-0985214A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6EBBE-C48A-4D26-9A4B-1010D3A3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F2733-4094-47DE-89C0-5A86DEE7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4C69-A67B-4565-B42F-DB9967FEBE83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4019-3161-4B67-8648-734E52A125BD}" type="slidenum">
              <a:rPr b="1" lang="en-GB" sz="1400" spc="-1" strike="noStrike">
                <a:solidFill>
                  <a:srgbClr val="ebddc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0840-DA99-4542-8525-863F7D2A53EF}" type="slidenum">
              <a:rPr b="1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662B-BCA9-4E22-BCFE-347757F5DEB0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492D-59EB-4758-B55C-02DD1ED77D1A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BA69-28A1-4B59-A6F5-8AF70A479D02}" type="slidenum">
              <a:rPr b="1" lang="en-GB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056B-BB43-4BD7-825B-38CFC71350F5}" type="slidenum">
              <a:rPr b="1" lang="en-GB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8DB4-FBAF-49A0-9F2B-1238F2FD12E7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280" y="22050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775f55"/>
                </a:solidFill>
                <a:latin typeface="Tw Cen MT"/>
              </a:rPr>
              <a:t>Doing probation work: identity in a criminal justice occupa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684360" y="400536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ob Mawby, University of Leic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nne Worrall, Keele Univer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7524720" y="11592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300bw.tif"/>
          <p:cNvPicPr/>
          <p:nvPr/>
        </p:nvPicPr>
        <p:blipFill>
          <a:blip r:embed="rId2"/>
          <a:stretch/>
        </p:blipFill>
        <p:spPr>
          <a:xfrm>
            <a:off x="324000" y="333360"/>
            <a:ext cx="2076480" cy="5144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" descr="C:\Documents and Settings\KeeleUni\My Documents\My Pictures\Keele Logos\Keele_Logo_vertical_rgb.jpg"/>
          <p:cNvPicPr/>
          <p:nvPr/>
        </p:nvPicPr>
        <p:blipFill>
          <a:blip r:embed="rId3"/>
          <a:stretch/>
        </p:blipFill>
        <p:spPr>
          <a:xfrm>
            <a:off x="6246720" y="4581360"/>
            <a:ext cx="28972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Oval 14"/>
          <p:cNvSpPr/>
          <p:nvPr/>
        </p:nvSpPr>
        <p:spPr>
          <a:xfrm>
            <a:off x="2987640" y="2637000"/>
            <a:ext cx="2952720" cy="21603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6"/>
          <p:cNvCxnSpPr>
            <a:endCxn id="380" idx="0"/>
          </p:cNvCxnSpPr>
          <p:nvPr/>
        </p:nvCxnSpPr>
        <p:spPr>
          <a:xfrm flipH="1">
            <a:off x="6810120" y="3213000"/>
            <a:ext cx="714960" cy="19454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81" name="TextBox 8"/>
          <p:cNvSpPr/>
          <p:nvPr/>
        </p:nvSpPr>
        <p:spPr>
          <a:xfrm>
            <a:off x="3348000" y="3068640"/>
            <a:ext cx="230364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Probation worker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9"/>
          <p:cNvSpPr/>
          <p:nvPr/>
        </p:nvSpPr>
        <p:spPr>
          <a:xfrm>
            <a:off x="112680" y="2060640"/>
            <a:ext cx="26510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i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ual or imag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oic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aking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yalt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lief in th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Hirschman 19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0"/>
          <p:cNvSpPr/>
          <p:nvPr/>
        </p:nvSpPr>
        <p:spPr>
          <a:xfrm>
            <a:off x="3583800" y="1197000"/>
            <a:ext cx="15494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glec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x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arrell 19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1"/>
          <p:cNvSpPr/>
          <p:nvPr/>
        </p:nvSpPr>
        <p:spPr>
          <a:xfrm>
            <a:off x="568440" y="5157720"/>
            <a:ext cx="33246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ganizational Expedien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le stretching to achieve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McLean Park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5283720" y="5157720"/>
            <a:ext cx="30535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ganizational Cynicis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 of faith in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u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3"/>
          <p:cNvSpPr/>
          <p:nvPr/>
        </p:nvSpPr>
        <p:spPr>
          <a:xfrm>
            <a:off x="6233040" y="2060640"/>
            <a:ext cx="2487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dgewor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untary risk-tak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ing the bounda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Lyng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6"/>
          <p:cNvCxnSpPr>
            <a:endCxn id="385" idx="0"/>
          </p:cNvCxnSpPr>
          <p:nvPr/>
        </p:nvCxnSpPr>
        <p:spPr>
          <a:xfrm>
            <a:off x="5116320" y="1557360"/>
            <a:ext cx="2361240" cy="5040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87" name="Straight Arrow Connector 30"/>
          <p:cNvCxnSpPr>
            <a:stCxn id="380" idx="1"/>
            <a:endCxn id="384" idx="3"/>
          </p:cNvCxnSpPr>
          <p:nvPr/>
        </p:nvCxnSpPr>
        <p:spPr>
          <a:xfrm flipH="1">
            <a:off x="3776400" y="5617800"/>
            <a:ext cx="1659600" cy="1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88" name="Straight Arrow Connector 33"/>
          <p:cNvCxnSpPr>
            <a:stCxn id="382" idx="2"/>
            <a:endCxn id="384" idx="0"/>
          </p:cNvCxnSpPr>
          <p:nvPr/>
        </p:nvCxnSpPr>
        <p:spPr>
          <a:xfrm>
            <a:off x="1437840" y="4092120"/>
            <a:ext cx="793080" cy="10659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89" name="Straight Arrow Connector 36"/>
          <p:cNvCxnSpPr>
            <a:stCxn id="383" idx="1"/>
            <a:endCxn id="382" idx="0"/>
          </p:cNvCxnSpPr>
          <p:nvPr/>
        </p:nvCxnSpPr>
        <p:spPr>
          <a:xfrm flipH="1">
            <a:off x="1437480" y="1658880"/>
            <a:ext cx="2197800" cy="40248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390" name="Straight Arrow Connector 39"/>
          <p:cNvCxnSpPr>
            <a:stCxn id="383" idx="2"/>
          </p:cNvCxnSpPr>
          <p:nvPr/>
        </p:nvCxnSpPr>
        <p:spPr>
          <a:xfrm flipH="1">
            <a:off x="4355280" y="2119320"/>
            <a:ext cx="2520" cy="518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91" name="Straight Arrow Connector 45"/>
          <p:cNvCxnSpPr>
            <a:stCxn id="385" idx="1"/>
            <a:endCxn id="378" idx="7"/>
          </p:cNvCxnSpPr>
          <p:nvPr/>
        </p:nvCxnSpPr>
        <p:spPr>
          <a:xfrm flipH="1">
            <a:off x="5506200" y="2660400"/>
            <a:ext cx="794520" cy="292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92" name="Straight Arrow Connector 48"/>
          <p:cNvCxnSpPr>
            <a:endCxn id="378" idx="1"/>
          </p:cNvCxnSpPr>
          <p:nvPr/>
        </p:nvCxnSpPr>
        <p:spPr>
          <a:xfrm>
            <a:off x="2700360" y="2565360"/>
            <a:ext cx="720000" cy="388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93" name="Straight Arrow Connector 52"/>
          <p:cNvCxnSpPr>
            <a:endCxn id="378" idx="5"/>
          </p:cNvCxnSpPr>
          <p:nvPr/>
        </p:nvCxnSpPr>
        <p:spPr>
          <a:xfrm flipH="1" flipV="1">
            <a:off x="5506200" y="4481280"/>
            <a:ext cx="1297800" cy="6768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94" name="Straight Arrow Connector 55"/>
          <p:cNvCxnSpPr>
            <a:stCxn id="384" idx="0"/>
            <a:endCxn id="378" idx="3"/>
          </p:cNvCxnSpPr>
          <p:nvPr/>
        </p:nvCxnSpPr>
        <p:spPr>
          <a:xfrm flipV="1">
            <a:off x="2230200" y="4481280"/>
            <a:ext cx="1189800" cy="6768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square of probation 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6" name="Diagram 2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38880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"/>
          <p:cNvSpPr/>
          <p:nvPr/>
        </p:nvSpPr>
        <p:spPr>
          <a:xfrm>
            <a:off x="468360" y="602136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ource: Mawby and Worrall (2013)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Doing Probation Work,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ndon: Rout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Publica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awby, R.C. &amp; Worrall, A. (2013) </a:t>
            </a:r>
            <a:r>
              <a:rPr b="0" i="1" lang="en-GB" sz="1600" spc="-1" strike="noStrike">
                <a:solidFill>
                  <a:srgbClr val="000000"/>
                </a:solidFill>
                <a:latin typeface="Tw Cen MT"/>
              </a:rPr>
              <a:t>Doing probation work: identity in a criminal justice occupation, 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Routledge 182pp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awby, R.C. &amp; Worrall, A. (2013) ‘Probation worker responses to turbulent conditions: constructing identity in a tainted occupation’, </a:t>
            </a:r>
            <a:r>
              <a:rPr b="0" i="1" lang="en-GB" sz="1600" spc="-1" strike="noStrike">
                <a:solidFill>
                  <a:srgbClr val="000000"/>
                </a:solidFill>
                <a:latin typeface="Tw Cen MT"/>
              </a:rPr>
              <a:t>Australia and New Zealand Journal of Criminology, 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46, 1: 101-118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Worrall, A. &amp; Mawby, R.C. (2012) ‘Unlikely edgeworkers: probation workers and voluntary risk-taking’, </a:t>
            </a:r>
            <a:r>
              <a:rPr b="0" i="1" lang="en-GB" sz="1600" spc="-1" strike="noStrike">
                <a:solidFill>
                  <a:srgbClr val="000000"/>
                </a:solidFill>
                <a:latin typeface="Tw Cen MT"/>
              </a:rPr>
              <a:t>ECAN Bulletin 13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, Howard  League, pp.6-9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awby, R.C. &amp;Worrall, A. (2011) ‘”They were very threatening about do-gooding bastards”: Probation’s changing relationships with the police and prison services in England and Wales’, </a:t>
            </a:r>
            <a:r>
              <a:rPr b="0" i="1" lang="en-GB" sz="1600" spc="-1" strike="noStrike">
                <a:solidFill>
                  <a:srgbClr val="000000"/>
                </a:solidFill>
                <a:latin typeface="Tw Cen MT"/>
              </a:rPr>
              <a:t>European Journal of Probation, 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3, 3: 78-94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Worrall, A. &amp; Mawby, R.C. (2011)’It</a:t>
            </a:r>
            <a:r>
              <a:rPr b="0" i="1" lang="en-GB" sz="1600" spc="-1" strike="noStrike">
                <a:solidFill>
                  <a:srgbClr val="000000"/>
                </a:solidFill>
                <a:latin typeface="Tw Cen MT"/>
              </a:rPr>
              <a:t> is 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rocket science: the role of the probation worker in turbulent times’, </a:t>
            </a:r>
            <a:r>
              <a:rPr b="0" i="1" lang="en-GB" sz="1600" spc="-1" strike="noStrike">
                <a:solidFill>
                  <a:srgbClr val="000000"/>
                </a:solidFill>
                <a:latin typeface="Tw Cen MT"/>
              </a:rPr>
              <a:t>Britain in 2012, 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ESRC annual magazine, p.25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Worrall, A. &amp; Mawby, R.C. (2011) ‘Probation workers – still the servants of the court?’ </a:t>
            </a:r>
            <a:r>
              <a:rPr b="0" i="1" lang="en-GB" sz="1600" spc="-1" strike="noStrike">
                <a:solidFill>
                  <a:srgbClr val="000000"/>
                </a:solidFill>
                <a:latin typeface="Tw Cen MT"/>
              </a:rPr>
              <a:t>Magistrate, 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Winter, p.12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Mawby, R.C. &amp; Worrall, A. (2011) </a:t>
            </a:r>
            <a:r>
              <a:rPr b="0" i="1" lang="en-GB" sz="1600" spc="-1" strike="noStrike">
                <a:solidFill>
                  <a:srgbClr val="000000"/>
                </a:solidFill>
                <a:latin typeface="Tw Cen MT"/>
              </a:rPr>
              <a:t>Probation workers and their occupational cultures, 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University of Leicester, www.le.ac.uk/criminology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ontex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hange and the Probation Service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eg, structure, training, role and  practi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urbulent criminal justice contex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eg, budget cuts, penal populism, negative media discour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mpact on probation worker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Key ques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at are the characteristics of contemporary probation cultures as perceived by probation workers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How do probation workers interact with other CJ agencies and how do they perceive this interaction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How do they respond to the turbulent conditions in which they work?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at is the impact of this understanding on offender management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stud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SRC funded, 20 months, 2010-2011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Supported by Probation Chiefs Associ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Small scale and reflectiv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60 interviews completed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26 current PSOs, POs, SPOs (PW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10 Trainee Probation Officers (TPO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16 Chief Officer Grades (CO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8 former &amp; retired probation workers (FPW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North and South-East England loc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hoice of methodolog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Why no observatio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nstruction of identity through telling stor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ilding on researcher knowledge and experi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ross between oral history and semi-structured interview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urposeful convers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cess and other practicalit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asic sampling – no claim to statistical representativen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ange of experience and demographic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ilding on personal conta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Finding sympathetic gate-keep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andomised self-sel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Doing the interview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reparation on both sides – no ambush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Over-estimating time to ensure a relaxed intervie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tive interviewing – listening, feeding back, joint reflection, simultaneous analys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eliberate bumbling and rambl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Ethical issu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nsent for archiv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nonymity for eli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Offering transcript check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eeping participants informed as project progress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nterim report confer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nalysing the data, emerging them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ranscribe recording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ranscript summaries – joint rea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greed themes and re-reading for co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merging themes included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Biographical and motivational grouping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omputers and open plan offi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Long hours, office-boun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olice good, NOMS ba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No-one understands u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Loss of autonomy, desire to be creativ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Job crafting and coping with turbule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Feminisation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6:54:57Z</dcterms:created>
  <dc:creator>KeeleUni</dc:creator>
  <dc:description/>
  <dc:language>en-US</dc:language>
  <cp:lastModifiedBy>KeeleUni</cp:lastModifiedBy>
  <dcterms:modified xsi:type="dcterms:W3CDTF">2013-10-21T16:20:21Z</dcterms:modified>
  <cp:revision>15</cp:revision>
  <dc:subject/>
  <dc:title>Slide 1</dc:title>
</cp:coreProperties>
</file>